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88188" cy="9428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1904-61D4-45DB-89DA-535617DD8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9FCA-19CC-4C58-AAB2-47C0034B3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8277-B66A-48DF-82A3-CDEF827B6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860C-BC76-4113-84B8-BAFEAE6C5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150D4-DD53-4D26-89DE-265282C2B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50CE8-55CA-47A4-9707-1159715C8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A382D-C6D3-44A9-B082-7C8C3611C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4369C-131A-468E-851C-509397366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5B63C-F5C7-4C26-8080-9FB823216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371600" y="140760"/>
            <a:ext cx="640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088DD-28BF-4885-AC6D-336F6A785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126FB-3EFB-4D61-A94A-27297A7FA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66E5-4196-4542-ADF1-E5859C98F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D80ED-3BD1-42A7-9DD4-179B4E77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EE5D4-8715-4002-B310-772BD9DD6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151C2-0D7C-4033-B78F-A79568157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93A0E-3641-4A74-82E5-64FF6A612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59AA7-1ECB-4FFF-81EA-22DE4CDF9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6295-6F37-4738-AD85-506B71EF8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EAF0-DDD8-4179-BE5D-556E0732A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4DF5-A2FB-4270-8C96-AC82DE512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71600" y="140760"/>
            <a:ext cx="640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C894-A6C9-4D57-A484-8C8B8CEEC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E97A-0EF2-44CF-AC99-D56C3CCE0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03E9-C68E-4B1F-AE12-32BB69AA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4128-0062-438C-806F-EB96DBA4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2990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pperplate Gothic Bol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4,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rtinoro, FuDiCo I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114C6-2B74-455A-B815-3C351BA6CF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380880" y="609480"/>
            <a:ext cx="838440" cy="4572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7620120" y="0"/>
            <a:ext cx="1465200" cy="1600200"/>
          </a:xfrm>
          <a:prstGeom prst="rect">
            <a:avLst/>
          </a:prstGeom>
          <a:ln w="0">
            <a:noFill/>
          </a:ln>
        </p:spPr>
      </p:pic>
      <p:sp>
        <p:nvSpPr>
          <p:cNvPr id="9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" descr=""/>
          <p:cNvPicPr/>
          <p:nvPr/>
        </p:nvPicPr>
        <p:blipFill>
          <a:blip r:embed="rId6"/>
          <a:stretch/>
        </p:blipFill>
        <p:spPr>
          <a:xfrm>
            <a:off x="7905600" y="5405400"/>
            <a:ext cx="123840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4367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Copperplate Gothic Bold"/>
              </a:rPr>
              <a:t>Click to edit the title text format</a:t>
            </a: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71B9F-21F5-4439-9AFE-CA354E24F7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380880" y="476280"/>
            <a:ext cx="838440" cy="4572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7620120" y="-133200"/>
            <a:ext cx="1465200" cy="16002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35000" y="1886040"/>
            <a:ext cx="9144000" cy="87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International Technology Al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pperplate Gothic Bold"/>
              </a:rPr>
              <a:t>In Network &amp; Information Sc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610080" y="0"/>
            <a:ext cx="2028600" cy="19051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58800" y="280836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pperplate Gothic Bold"/>
              </a:rPr>
              <a:t>Mobile Ad-hoc Inter-domain Networ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434960" y="4978440"/>
            <a:ext cx="6400800" cy="676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Jon Crowcroft, Computer Laboratory, University of Camb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http://www.cl.cam.ac.uk/~jac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6560" y="57675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F31B-4AEA-47E0-A693-983943D554F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pperplate Gothic Bold"/>
              </a:rPr>
              <a:t>A Future with Many MANETs</a:t>
            </a:r>
            <a:endParaRPr b="0" lang="en-US" sz="4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day we’ll want to inter-ma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talking about a cloud of manets clustered around the fixed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ual inter-domain manet - traversing different routing sche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very hard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even clear that one solution is sen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810E-DC0E-45C6-AF1B-FAF5CB0F2DF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pperplate Gothic Bold"/>
              </a:rPr>
              <a:t>Quick Drying Gloss</a:t>
            </a:r>
            <a:endParaRPr b="0" lang="en-US" sz="4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ET=Mobile Ad-hoc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 qaeda, swarm of bees, Man Un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GP = Interior Gateway Protoc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OLSR, DLR, AODV,GPS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P= Exterior Gateway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BGP, IDPR, IDRP, as yet don’t k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= Autonomous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Ci, ETH, 18.0.0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mr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ana-3.lcs.mit.edu/~jnc/nimrod/docs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DCE5-7F6F-4280-80B2-0D43E9668C1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pperplate Gothic Bold"/>
              </a:rPr>
              <a:t>Definitely a MAD distributed system!</a:t>
            </a:r>
            <a:endParaRPr b="0" lang="en-US" sz="4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domain has own goa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ing on geo- or topo-, on demand or reactive, optimized for capacity, delay, loss, power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cies (ingress, egress, transit) are colou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connection is not just at “edg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chronization of IGP and EGP non triv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data follow control traffic (in space and 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Addr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we add level of hierarchy or transla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4FD0-2B87-49B3-8659-3D9B3159150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pperplate Gothic Bold"/>
              </a:rPr>
              <a:t>1. IGP to EGP interface</a:t>
            </a:r>
            <a:endParaRPr b="0" lang="en-US" sz="4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ive:Proacti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- trumps re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cause route and act as hello in same breath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graphic versus Topologic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o- trumps Geo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map one way not the 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 route or reachability (AS maps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Map (like nimrod) trumps ro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des associate in a MANET longer than route s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AC71-AB49-4883-92D9-BB0298B0572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pperplate Gothic Bold"/>
              </a:rPr>
              <a:t>2. Torrents of Policy</a:t>
            </a:r>
            <a:endParaRPr b="0" lang="en-US" sz="4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MANET is a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has own incentive &amp; recommendation &amp; reputation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we map these between different system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do we have separation of ingress/egress/transit policy from intra-manet rout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ms like separation is required for technical reasons too (see previous and next slid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5B57-7F3F-4977-AFF9-5FC1B219BF3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pperplate Gothic Bold"/>
              </a:rPr>
              <a:t>3. IGP to EGP Synchronization</a:t>
            </a:r>
            <a:endParaRPr b="0" lang="en-US" sz="4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GP may not actually conve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- and gradient- protocols don’t need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P offer of probability of reach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be output of EGP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 UDLR and other asymmetric schemes (IP over x.25:-)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map&amp;reachability exchange control traverse more stable paths than users’ d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4301-D25D-42B4-9762-021AB61D076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pperplate Gothic Bold"/>
              </a:rPr>
              <a:t>4. Heterogeneous Addresses</a:t>
            </a:r>
            <a:endParaRPr b="0" lang="en-US" sz="4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MANET will assign addresses (identifiers for routing and end system) dynam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report these in EGP as part of reach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we “re-prefix” them (like IPv6) or assume AS level uniqueness, or transl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B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DD32-B629-47D1-BE01-F7B05D0A631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Copperplate Gothic Bold"/>
              </a:rPr>
              <a:t>Conclusion/future</a:t>
            </a: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’re looking at us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tarou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postdoc looking at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furth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lutar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aborate on composable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first we have to have a clear problem sta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wman proposed - next: evaluate - criteria/topology/mobility/dynamics?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2200" y="6100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8A297-AF9B-481D-87CE-911E1E7479A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on crowcroft</cp:lastModifiedBy>
  <dcterms:modified xsi:type="dcterms:W3CDTF">2007-06-03T10:53:17Z</dcterms:modified>
  <cp:revision>20</cp:revision>
  <dc:subject/>
  <dc:title>PowerPoint Presentation</dc:title>
</cp:coreProperties>
</file>