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ACCFF-6A1D-4B34-B617-86E37B6B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967D-7B59-4B46-AE2F-71580DF1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238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7228-8C7A-4351-8BF6-266C99BB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08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008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6008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008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440E8-39C1-4149-A0FF-2B72FFEC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3FA4-E53A-429A-9445-554AE699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748A-6EF4-4A9C-B157-F9FAE0F3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32811-92F9-4EF9-B1CB-CC6A4909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0573-D8F0-4178-A0F5-633850D6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E4395-83F0-4325-894F-C7D409F5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431A-9661-4337-B8EC-9635DB53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238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166E-CB51-40F6-984D-6B2C082B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5EA88-36F0-4354-8776-FE9139AF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Thomson Labs Paris, just outside Paris :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F5093F-9C3D-4B9E-8866-9C4771F9C209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Nov 23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l.cam.ac.uk/techreports/UCAM-CL-TR-703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azy Susan: dumb waiting as proof of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00360" y="3860280"/>
            <a:ext cx="5376960" cy="19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.Crowcroft@cl.cam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ttp://www.cl.cam.ac.uk/~jac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 &amp; Thomson Research Paris&amp; LIP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5608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4680" y="599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09640" y="1800360"/>
            <a:ext cx="752472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parallizable Shared Secr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ech Report fo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.cam.ac.uk/techreports/UCAM-CL-TR-70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ally chained with time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type of homomorphic h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of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impact of atta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look at impact of adding our PoW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graphs are from analysis (no implementation yet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Attacker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543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PoW-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43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Layer P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3040" y="1267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work, but requires our system deploy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valid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location might be access ro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OpenWRT linux router would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ingress devices that police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CPE, or ISP ingress router,or even D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(k1,k2,k3) idea using 3 IP address spaces (client=k1,server=k3,validator=k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therwise I must go and celebrate my birthda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132000" y="2492280"/>
            <a:ext cx="25718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n.Crowcroft@cl.cam.ac.uk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CAM-CL-TR-703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done wit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 Deegan at Xensource, Christian Kreibich at ICSI, Richard Mortier at Microsoft Research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cholas Weaver at Berke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t merci a CNRS et Thom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n Slate DoS Proof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zy Susa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ay for service to control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 aspect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roof of work (PoW)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ecentralized way to implement P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 and 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permits arbitrary clients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(some) ingress control/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zy Susan &amp; Dumb Wa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2689200" cy="358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124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architectural colum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zy Sus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three layers of identif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required to acquire each to get to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referred to as k1,k2,k3, but not PC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umb Wa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novel proof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CPU or memory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of Work (P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, Memory, Cogn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are scale of botnets ver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resource available to legitimat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, Distributed P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oW service itself target for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ntralized PoW hard to make excl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ized attacks a problem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 1 on P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impos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new cl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clients that have misbeha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sed techni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t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analogous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 Coo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next slide fo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0480" y="-243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ay Cookie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338880" cy="54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 2 on P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01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P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parall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lient must contact validat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ny validators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ire client p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ze 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secre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dator can help new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ne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-out-of-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d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r Clients become Vali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9000" y="1838160"/>
            <a:ext cx="750600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11-20T13:00:02Z</dcterms:modified>
  <cp:revision>176</cp:revision>
  <dc:subject/>
  <dc:title>Bubble Rap: Forwarding in Small World DTNs in Ever Decreasing Circles</dc:title>
</cp:coreProperties>
</file>