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B5518-7A6A-458E-A17F-720F07F1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53AA7-BE46-4972-8C11-53B40D81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238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238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6B5A1-CA5A-4C99-8502-13210A4E0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6008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0084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6008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0084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C27E1-1557-4118-9BEC-8C2DD13DC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B275A-BD30-4E19-9BDB-73277C1F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18522-5A19-4C26-B1E4-7A47C1FE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238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98577-9ADF-4ED1-8D8B-F86C1001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37FCA-3155-4AF8-9894-A3881CCD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20480" y="-360"/>
            <a:ext cx="78231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7E4A0-38C1-4EB9-820E-7B3DADC4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238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87B4C-F179-44BB-BD83-1EF2073F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238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238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5A9BF-C807-4426-8302-968C7D6C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238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A6C83-CA07-479B-96E2-BD1D8DEB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618920" y="6237360"/>
            <a:ext cx="6661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ootlight MT Light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Footlight MT Light"/>
              </a:rPr>
              <a:t>Thomson Labs Paris, just outside Paris :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400" y="6237360"/>
            <a:ext cx="1155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BED9C8C-E7E7-4E2A-BFCB-51BA09A5971E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21932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250920" y="62373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ootlight MT Light"/>
              </a:rPr>
              <a:t>Nov 23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384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l.cam.ac.uk/techreports/UCAM-CL-TR-703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Jon.Crowcroft@cl.cam.ac.uk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Lazy Susan: dumb waiting as proof of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700360" y="3860280"/>
            <a:ext cx="5376960" cy="193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on.Crowcroft@cl.cam.ac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ttp://www.cl.cam.ac.uk/~jac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ut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iversity of Cambridge &amp; Thomson Research Paris&amp; LIP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56080" y="6251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4680" y="5994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 Que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09640" y="1800360"/>
            <a:ext cx="752472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 parallizable Shared Secr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Tech Report for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l.cam.ac.uk/techreports/UCAM-CL-TR-703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ally chained with time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ome type of homomorphic h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formance of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impact of attac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look at impact of adding our PoW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graphs are from analysis (no implementation yet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 of Attacker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5438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 of PoW-de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5438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Layer P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3040" y="1267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work, but requires our system deploye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t of valid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location might be access rou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OpenWRT linux router would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t of ingress devices that police d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be CPE, or ISP ingress router,or even D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(k1,k2,k3) idea using 3 IP address spaces (client=k1,server=k3,validator=k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otherwise I must go and celebrate my birthda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132000" y="2492280"/>
            <a:ext cx="257184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5640" y="256500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n.Crowcroft@cl.cam.ac.uk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CAM-CL-TR-703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done with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 Deegan at Xensource, Christian Kreibich at ICSI, Richard Mortier at Microsoft Research,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icholas Weaver at Berkeley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t merci a CNRS et Thom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ean Slate DoS Proof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zy Susan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way for service to control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l aspect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roof of work (PoW)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decentralized way to implement P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 and C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permits arbitrary clients, 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(some) ingress control/po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azy Susan &amp; Dumb Wa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2689200" cy="3586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3124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architectural colum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zy Sus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fers to three layers of identifi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 required to acquire each to get to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referred to as k1,k2,k3, but not PC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umb Wai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fers to novel proof of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CPU or memory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ncy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of of Work (P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, Memory, Cogn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are scale of botnets ver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resource available to legitimate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ized, Distributed P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PoW service itself target for at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entralized PoW hard to make exclu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llelized attacks a problem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tion 1 on P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r impose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aten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new cli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r clients that have misbehav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ised techniq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ait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ghly analogous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 Cook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next slide for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0480" y="-243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ay Cookie Ex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6338880" cy="54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tion 2 on PoW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401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P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 parallis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client must contact validat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 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many validators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ire client p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ze 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secre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idator can help new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ult tol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ne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-out-of-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id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er Clients become Valid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9000" y="1838160"/>
            <a:ext cx="750600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3:29:44Z</dcterms:created>
  <dc:creator>BenHui</dc:creator>
  <dc:description/>
  <dc:language>en-US</dc:language>
  <cp:lastModifiedBy>jac22</cp:lastModifiedBy>
  <dcterms:modified xsi:type="dcterms:W3CDTF">2007-11-20T13:00:02Z</dcterms:modified>
  <cp:revision>176</cp:revision>
  <dc:subject/>
  <dc:title>Bubble Rap: Forwarding in Small World DTNs in Ever Decreasing Circles</dc:title>
</cp:coreProperties>
</file>