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4.jpeg" ContentType="image/jpeg"/>
  <Override PartName="/ppt/media/image1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0B6F-BBAC-4749-98D5-ACCCC8BA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D193-5ED0-411A-8466-9D535D86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19F6-8B6A-4D46-838F-871F0841E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AD57-22DA-4F79-9C4B-D5A28CCC6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184A-FE3C-466C-9431-31E3267D7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8FB0-4DF7-43AB-993A-C477B9FF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1AAE-3437-4A23-BF50-1C168CAE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551A-4719-4375-BDE7-D82BBD43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1705-0499-4A9B-8A32-499EC7CE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CC91-795B-4403-B22C-0025E0F5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1A73-28ED-4CC9-AF00-9DE86E88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AA5E-2F9B-4E1A-8AFD-1C3CB37F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135A-ABC6-4E97-BD4C-5032BA14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EABF-79CA-44B3-90C7-9C22A556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5B31-F97A-4202-927D-1D41A875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F125-0545-47B2-882F-2FFAECD44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1516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944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088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1516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944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9D46-950E-481E-AC6A-E29295CEA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90C7-E111-4478-9352-1F01637C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8EEC-6030-4ADC-AB4A-F1506CBF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B022-6DC8-4196-8962-A51DF34F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5101-63C4-4BAF-AE46-E4D48A80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752C-1A41-4DA0-82FF-8BE792AD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551C-5848-4DE8-8BB3-26B7DB1E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7F02-1C8C-45A9-B2BE-8FD1912A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5280" y="6381720"/>
            <a:ext cx="244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EXT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B37C-859B-41A0-886A-60EC0BD7C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934320" y="6093000"/>
            <a:ext cx="1823760" cy="595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93560" y="1143000"/>
            <a:ext cx="838224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838080"/>
            <a:ext cx="381240" cy="3276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735280" y="6237000"/>
            <a:ext cx="36734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571B-E98C-430A-94AA-E8B6B64A5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10080" y="4818240"/>
            <a:ext cx="3027600" cy="987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79280" y="4562640"/>
            <a:ext cx="1944720" cy="145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917280"/>
            <a:ext cx="79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brid Reliable Multicast with TCP-X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26560" y="273996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n Crowcr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325296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inho P Barcellos, UNIS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fano Pettini, 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234936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l Je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43280" y="1852560"/>
            <a:ext cx="11160" cy="392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08800" y="1884240"/>
            <a:ext cx="10800" cy="392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43280" y="198900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45800" y="17733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07520" y="20750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N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45800" y="249228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43280" y="32986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843280" y="22827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843280" y="365904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843280" y="47973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843280" y="52354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43280" y="33717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43280" y="45813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43280" y="24922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43280" y="54514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45800" y="437832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82560" y="50259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82560" y="365904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82560" y="47973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45800" y="54450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6160" y="30830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43280" y="3443400"/>
            <a:ext cx="2781360" cy="13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38000" y="28065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70160" y="280656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81320" y="2492280"/>
            <a:ext cx="0" cy="20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54760" y="134136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54760" y="299736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54760" y="465300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281320" y="1412640"/>
            <a:ext cx="3673440" cy="12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68360" y="2698920"/>
            <a:ext cx="368640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74840" y="2732040"/>
            <a:ext cx="3679920" cy="199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274840" y="1484280"/>
            <a:ext cx="3679920" cy="13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2274840" y="2863800"/>
            <a:ext cx="367992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274840" y="2922480"/>
            <a:ext cx="3679920" cy="187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281320" y="1557000"/>
            <a:ext cx="3673440" cy="14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74840" y="3087720"/>
            <a:ext cx="3679920" cy="12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74840" y="3122640"/>
            <a:ext cx="3679920" cy="174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79520" y="1871640"/>
            <a:ext cx="3665520" cy="162864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1320" y="3500280"/>
            <a:ext cx="36734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70160" y="3500280"/>
            <a:ext cx="3676680" cy="1629000"/>
          </a:xfrm>
          <a:custGeom>
            <a:avLst/>
            <a:gdLst/>
            <a:ahLst/>
            <a:rect l="l" t="t" r="r" b="b"/>
            <a:pathLst>
              <a:path w="2316" h="1026">
                <a:moveTo>
                  <a:pt x="0" y="0"/>
                </a:moveTo>
                <a:lnTo>
                  <a:pt x="1511" y="0"/>
                </a:lnTo>
                <a:lnTo>
                  <a:pt x="2316" y="102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1320" y="1944720"/>
            <a:ext cx="3665520" cy="162864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1320" y="3573360"/>
            <a:ext cx="36734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1320" y="3573360"/>
            <a:ext cx="3676680" cy="1629000"/>
          </a:xfrm>
          <a:custGeom>
            <a:avLst/>
            <a:gdLst/>
            <a:ahLst/>
            <a:rect l="l" t="t" r="r" b="b"/>
            <a:pathLst>
              <a:path w="2316" h="1026">
                <a:moveTo>
                  <a:pt x="0" y="0"/>
                </a:moveTo>
                <a:lnTo>
                  <a:pt x="1511" y="0"/>
                </a:lnTo>
                <a:lnTo>
                  <a:pt x="2316" y="102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1320" y="2016000"/>
            <a:ext cx="3665520" cy="162900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1320" y="3645000"/>
            <a:ext cx="36734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1320" y="3645000"/>
            <a:ext cx="3676680" cy="1628640"/>
          </a:xfrm>
          <a:custGeom>
            <a:avLst/>
            <a:gdLst/>
            <a:ahLst/>
            <a:rect l="l" t="t" r="r" b="b"/>
            <a:pathLst>
              <a:path w="2316" h="1026">
                <a:moveTo>
                  <a:pt x="0" y="0"/>
                </a:moveTo>
                <a:lnTo>
                  <a:pt x="1511" y="0"/>
                </a:lnTo>
                <a:lnTo>
                  <a:pt x="2316" y="102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1320" y="2475000"/>
            <a:ext cx="3665520" cy="162864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1320" y="4176720"/>
            <a:ext cx="3673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281320" y="4247280"/>
            <a:ext cx="3665520" cy="162900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90000" y="34225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59240" y="17733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59240" y="34290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59240" y="50846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connec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connects to multiple unicast dest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TCP PCBs c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3-way handshakes take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M or random ASM group address allo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f not specified in advance by user/appl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address sent as TCP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multicast depends on TCP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 Group Op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3886200"/>
            <a:ext cx="8382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group option sent in all TCP-XM SYN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TCP-XM hosts will ignore (no option in SYN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ce implies multicast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 will automatically revert to un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81000" y="1946160"/>
            <a:ext cx="1127160" cy="88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11400" y="1944720"/>
            <a:ext cx="1127160" cy="88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38560" y="1943280"/>
            <a:ext cx="4508280" cy="88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37240" y="28908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55040" y="28940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77560" y="289404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 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56240" y="22431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nd=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12280" y="22431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=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017600" y="2243160"/>
            <a:ext cx="26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ulticast Group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transmis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eplicated/enqueued on all send que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B variables dictate transmission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ackets are multicast (if pos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ansmissions are un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 fall back/forward to unicast/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s closed as per unicast 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CP-XM protocol st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530360" y="1663560"/>
            <a:ext cx="60832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ll back / fall forwar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-XM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ast if possible, unicast when necessar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transmission mode is group uni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s successful initial data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 forward to multicast on positive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after ~75K unicas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 back to unicast on repeated mcast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cast feedback Op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3886200"/>
            <a:ext cx="8382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eedback option sent in ACKs from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used between TCP-XM 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s % of last n packets received via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by sender to fall forward to multicast trans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81000" y="1946160"/>
            <a:ext cx="1127160" cy="88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11400" y="1944720"/>
            <a:ext cx="1127160" cy="88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38560" y="1943280"/>
            <a:ext cx="4508280" cy="88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37240" y="28908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55040" y="28940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83760" y="28940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56240" y="22431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nd=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312280" y="22431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=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1840" y="2243160"/>
            <a:ext cx="316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% Multicast Packets Recei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recep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PI-level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TCP l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-IGMP join on TCP-XM 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s data on both unicast/multicast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_input() acce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s addressed to existing unicast destina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w also those addressed to multicast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s how la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gs received (u/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I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relevant if natively implemen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er API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nnection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 to port on array of dest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write sends data to all h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-XM in 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n = netconn_new(NETCONN_TCPX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tconn_connectxm(conn, remotedest, numdests, group, por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tconn_write(conn, data, len, …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like to achieve high-speed bulk data delivery to multiple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ing would make 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ing multicast research has focused on sending to a large number of rece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rid is an applied example where sending to a moderate number of receivers would be extremely bene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CB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TCP connection has an associated Protocol Control Block (PC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-XM ad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ruct tcp_pcb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ruct tcp_pcb *firstpcb;/* first of the mpcbs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ruct tcp_pcb *nextm;   /* next tcpxm pcb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um tx_mode txmode;     /* unicasting or multicasting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8_t nrtxm;              /* number of retransmits for multi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32_t nrtxmtime;         /* time since last retransmi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32_t mbytessent;        /* total bytes sent via multi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32_t mbytesrcvd;        /* total bytes received via multi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32_t ubytessent;        /* total bytes sent via uni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32_t ubytesrcvd;        /* total bytes received via uni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ruct segrcv msegrcv[128]; /* ismcast boolean for last n segs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8_t msegrcvper;         /* % of last segs received via m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8_t msegrcvcnt;         /* counter for segs recvd via m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8_t msegsntper;         /* % of last segs delivered via m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nking PCB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3886200"/>
            <a:ext cx="8382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s to the next TCP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next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s to the next TCP session that’s part of a particular TCP-XM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 timer and state machin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900000" y="1730520"/>
            <a:ext cx="936720" cy="1370160"/>
            <a:chOff x="900000" y="1730520"/>
            <a:chExt cx="936720" cy="1370160"/>
          </a:xfrm>
        </p:grpSpPr>
        <p:sp>
          <p:nvSpPr>
            <p:cNvPr id="229" name=""/>
            <p:cNvSpPr/>
            <p:nvPr/>
          </p:nvSpPr>
          <p:spPr>
            <a:xfrm>
              <a:off x="112032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5084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000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0000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0000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3328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320920" y="1730520"/>
            <a:ext cx="936720" cy="1370160"/>
            <a:chOff x="2320920" y="1730520"/>
            <a:chExt cx="936720" cy="1370160"/>
          </a:xfrm>
        </p:grpSpPr>
        <p:sp>
          <p:nvSpPr>
            <p:cNvPr id="236" name=""/>
            <p:cNvSpPr/>
            <p:nvPr/>
          </p:nvSpPr>
          <p:spPr>
            <a:xfrm>
              <a:off x="254124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7176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32092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2092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2092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5420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U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743280" y="1730520"/>
            <a:ext cx="936720" cy="1370160"/>
            <a:chOff x="3743280" y="1730520"/>
            <a:chExt cx="936720" cy="1370160"/>
          </a:xfrm>
        </p:grpSpPr>
        <p:sp>
          <p:nvSpPr>
            <p:cNvPr id="243" name=""/>
            <p:cNvSpPr/>
            <p:nvPr/>
          </p:nvSpPr>
          <p:spPr>
            <a:xfrm>
              <a:off x="396360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9412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74328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4328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74328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7656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165640" y="1730520"/>
            <a:ext cx="936720" cy="1370160"/>
            <a:chOff x="5165640" y="1730520"/>
            <a:chExt cx="936720" cy="1370160"/>
          </a:xfrm>
        </p:grpSpPr>
        <p:sp>
          <p:nvSpPr>
            <p:cNvPr id="250" name=""/>
            <p:cNvSpPr/>
            <p:nvPr/>
          </p:nvSpPr>
          <p:spPr>
            <a:xfrm>
              <a:off x="538596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648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6564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6564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6564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39892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6588000" y="1730520"/>
            <a:ext cx="936720" cy="1370160"/>
            <a:chOff x="6588000" y="1730520"/>
            <a:chExt cx="936720" cy="1370160"/>
          </a:xfrm>
        </p:grpSpPr>
        <p:sp>
          <p:nvSpPr>
            <p:cNvPr id="257" name=""/>
            <p:cNvSpPr/>
            <p:nvPr/>
          </p:nvSpPr>
          <p:spPr>
            <a:xfrm>
              <a:off x="680832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3884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8800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8800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8800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2128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U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1835280" y="18748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62320" y="18748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681440" y="18748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03800" y="18748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81440" y="29541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28800" y="2957400"/>
            <a:ext cx="1903320" cy="325440"/>
          </a:xfrm>
          <a:custGeom>
            <a:avLst/>
            <a:gdLst/>
            <a:ahLst/>
            <a:rect l="l" t="t" r="r" b="b"/>
            <a:pathLst>
              <a:path w="1199" h="205">
                <a:moveTo>
                  <a:pt x="0" y="0"/>
                </a:moveTo>
                <a:cubicBezTo>
                  <a:pt x="192" y="102"/>
                  <a:pt x="384" y="205"/>
                  <a:pt x="584" y="205"/>
                </a:cubicBezTo>
                <a:cubicBezTo>
                  <a:pt x="784" y="205"/>
                  <a:pt x="991" y="102"/>
                  <a:pt x="119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happens to the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wi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rece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C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congestion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n(cw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send at rate of slowest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really so b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to time taken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icast trans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AN spee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AN efficienc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AN spee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AN efficienc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ultiple TCP-XM flow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CP-XM vs TCP flow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otocol perform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cast availa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ment is a probl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s have been defined and implem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 concerns about scalability; much F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cken &amp; egg” means limited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uds of native multi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can’t rea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tinations via 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applications abandon in favour of un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f we could multicast when possibl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fall back to unicast when necessa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otocol efficienc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id multicast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multicast be used in Grid environ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-XM is new multicast-capable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us is de-facto Grid middle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like TCP-XM support in Globu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lobus XI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ble Input Output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“i/o plugins” to Glo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POSIX-like API / set of 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open/close/read/write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r abs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des protocol details / Allows for exte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ck of 1 transport &amp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form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rs can be selected at run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948360" y="407880"/>
            <a:ext cx="194328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IO architec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787480" y="1523880"/>
            <a:ext cx="3567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IO implement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666880" y="1536840"/>
            <a:ext cx="381024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IO/XM driver specific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important XIO data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ed to user when XIO framework re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for all open/close/read/write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wIP netconn connection structu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set XIO driver-specific paramet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CP-XM protocol-specific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destination addre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IO code examp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10840" y="15238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init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stack_init(&amp;stack, NUL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load drivers onto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driver_load(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cpxm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, &amp;txdriv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stack_push_driver(stack, txdriv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init attrib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attr_init(&amp;att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attr_cntl(attr, txdriver, GLOBUS_XIO_TCPXM_SET_REMOTE_HOSTS, hosts, numhost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create 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handle_create(&amp;handle, stac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se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open(&amp;handle, NULL, targe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write(handle, "hello\n", 6, 1, &amp;nbytes, NUL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close(handle, NUL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ne-to-many issu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assumes one-to-one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O user interface requires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 support for one-to-many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 user API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work changes mo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I is one-to-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 with peer on connection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cannot authenticate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some form of “GSI-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iver availa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transport driver for Globus X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Globus 3.2 or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code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r installation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l.cam.ac.uk/~kj234/xio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cp &amp; mcp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file transfer application using TCP-X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cpd &amp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 on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cp file host1 host2… host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 on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l.cam.ac.uk/~kj234/mc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source code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BSD, Linux, 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cast TCP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reliable stream between two hos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reliable streams from one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s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seem a little odd, but there is precede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-XMO – Liang &amp; Cheri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-TCP – Mysore &amp; Varg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/TCP – Visoottiviseth et 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MP – Barcellos et 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 – Talpade &amp; Am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ll done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99640" y="2060280"/>
            <a:ext cx="4032360" cy="16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s for liste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 implo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594828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ilding Multicast TC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to test multicast/unicast TCP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ew protocol == kernel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spread test deployment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new TCP-like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e packets in 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in user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s sacrifice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idespread testing now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/IP/UDP/I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619280" y="2060640"/>
            <a:ext cx="5761080" cy="3026520"/>
            <a:chOff x="1619280" y="2060640"/>
            <a:chExt cx="5761080" cy="3026520"/>
          </a:xfrm>
        </p:grpSpPr>
        <p:grpSp>
          <p:nvGrpSpPr>
            <p:cNvPr id="103" name=""/>
            <p:cNvGrpSpPr/>
            <p:nvPr/>
          </p:nvGrpSpPr>
          <p:grpSpPr>
            <a:xfrm>
              <a:off x="1619280" y="2060640"/>
              <a:ext cx="1584360" cy="2954880"/>
              <a:chOff x="1619280" y="2060640"/>
              <a:chExt cx="1584360" cy="2954880"/>
            </a:xfrm>
          </p:grpSpPr>
          <p:sp>
            <p:nvSpPr>
              <p:cNvPr id="104" name=""/>
              <p:cNvSpPr/>
              <p:nvPr/>
            </p:nvSpPr>
            <p:spPr>
              <a:xfrm>
                <a:off x="1819080" y="2345040"/>
                <a:ext cx="1175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nd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114280" y="330840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19400" y="3716640"/>
                <a:ext cx="37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048040" y="418464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197440" y="4616640"/>
                <a:ext cx="42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619280" y="2060640"/>
                <a:ext cx="1584360" cy="295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619280" y="458172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619280" y="414828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692360" y="3284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692360" y="3716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692360" y="2132280"/>
                <a:ext cx="1439640" cy="1944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796000" y="2060640"/>
              <a:ext cx="1584360" cy="2954880"/>
              <a:chOff x="5796000" y="2060640"/>
              <a:chExt cx="1584360" cy="2954880"/>
            </a:xfrm>
          </p:grpSpPr>
          <p:sp>
            <p:nvSpPr>
              <p:cNvPr id="116" name=""/>
              <p:cNvSpPr/>
              <p:nvPr/>
            </p:nvSpPr>
            <p:spPr>
              <a:xfrm>
                <a:off x="5995800" y="2345040"/>
                <a:ext cx="1175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eceiv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291000" y="330840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396120" y="3716640"/>
                <a:ext cx="37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24760" y="418464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374160" y="4616640"/>
                <a:ext cx="42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796000" y="2060640"/>
                <a:ext cx="1584360" cy="295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96000" y="458172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796000" y="414828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869080" y="3284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869080" y="3716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69080" y="2132280"/>
                <a:ext cx="1439640" cy="1944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3482280" y="3914640"/>
              <a:ext cx="20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808080"/>
                  </a:solidFill>
                  <a:latin typeface="Arial"/>
                </a:rPr>
                <a:t>If natively implemen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69920" y="4780080"/>
              <a:ext cx="144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est deploy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03640" y="479592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32000" y="3932280"/>
              <a:ext cx="27370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 eng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oes initial TCP come f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use BSD or 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ing from kernel could be proble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mpact alter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wIP = Lightweight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but fully RFC-compliant TCP/IP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wIP + multicast extensions =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-X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ily aimed at push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 initiated – advance knowledge of rece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 sessions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tination hosts simultane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cast is used when multicast not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 headers used to exchange multicast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I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 incorporates multiple destination and group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 requires no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friendly, by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19:02:12Z</dcterms:created>
  <dc:creator>Karl Jeacle</dc:creator>
  <dc:description/>
  <dc:language>en-US</dc:language>
  <cp:lastModifiedBy>Jo Bond</cp:lastModifiedBy>
  <dcterms:modified xsi:type="dcterms:W3CDTF">2005-07-15T15:48:39Z</dcterms:modified>
  <cp:revision>106</cp:revision>
  <dc:subject/>
  <dc:title>A Multicast Transport Driver for Globus XIO</dc:title>
</cp:coreProperties>
</file>