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ct" ContentType="image/x-pict"/>
  <Override PartName="/ppt/media/image8.gif" ContentType="image/gif"/>
  <Override PartName="/ppt/media/image13.pct" ContentType="image/x-pict"/>
  <Override PartName="/ppt/media/image7.gif" ContentType="image/gif"/>
  <Override PartName="/ppt/media/image23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8AAB-FA54-42DB-979E-C8E7EE7A3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E21B-14F6-48D9-B5B8-D096FB666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E2E1-EBA0-44DF-9ADE-2E5B92998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AA7A-EC21-458E-B27D-72598C879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49B5-352C-44D6-B246-FFA381DD7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6979-AD25-476A-9797-2EEDDCCA9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12FD-F8D3-47E9-8461-18A857AA3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CAD8-1857-4F0C-883D-241C47D21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64D6-0883-4A03-B0BA-7306942CB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5533-6784-421F-B8BE-5712D0331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BA31-B749-44D3-830C-B1B57414B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2709-BA99-4544-8A67-68F95E72F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0F16-018D-49E7-BB3E-3AB22F974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2BA2-67A3-48B1-9A45-2F1A80E8E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KAIST, September 3rd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9153-665D-4192-BA58-2542965B63D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image" Target="../media/image11.pct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062440"/>
            <a:ext cx="843588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Based on Haggle  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Example: Haggle, a Human DT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B36F-AD95-4FFC-B4B6-EA8B591921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60a8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411C-ECA8-47DF-BEFC-D1D9B7598A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Can we Generalize From Haggle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C4AC-B45C-4FFA-9830-C597C0DB10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1728-7DB0-4F58-A3D0-65D6BBA191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38E8-82F7-4B46-8016-0A9CC262F5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78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122400">
              <a:off x="5502960" y="258624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5C07-8458-4C0F-9552-A797F8C422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F712-4F11-4215-8543-DC71703022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5356-0388-4187-92E3-02980560AC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709B-A450-4CD0-8032-76F1492718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3F13-E2FB-4D56-9A71-7D8B0831D5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and Steven Hand &amp; Wenjun Hu, Experiments and Analysis from Pan (Ben) Hui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619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8B08-7A8B-444B-9B66-6823C4555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detection and Community based forwar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1315-D97F-4DAD-9ACF-E533F9B80B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munity detection&amp;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mmunity structur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communities, i.e. affiliations/explicit labe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pological cohesive groups or modul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entral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hubs, celebrities and postma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tweenness, closeness, inference power 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races of human xco-mobilty on/from Crawda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 own Cambridge, Hong Kong, Infoco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IT Reality Mining, Dartmouth, UCS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98E0-E824-45C2-BB42-7140259C15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97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mmunities in Infocom06 Dataset: </a:t>
            </a:r>
            <a:r>
              <a:rPr b="1" lang="en-GB" sz="2800" spc="-1" strike="noStrike">
                <a:solidFill>
                  <a:srgbClr val="0860a8"/>
                </a:solidFill>
                <a:latin typeface="Comic Sans MS"/>
              </a:rPr>
              <a:t>Union of k-cliques reachable via series of adjacent k-cliques [Palla et al]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5840" y="1523880"/>
            <a:ext cx="8858160" cy="4248360"/>
            <a:chOff x="285840" y="1523880"/>
            <a:chExt cx="8858160" cy="4248360"/>
          </a:xfrm>
        </p:grpSpPr>
        <p:grpSp>
          <p:nvGrpSpPr>
            <p:cNvPr id="207" name=""/>
            <p:cNvGrpSpPr/>
            <p:nvPr/>
          </p:nvGrpSpPr>
          <p:grpSpPr>
            <a:xfrm>
              <a:off x="285840" y="1523880"/>
              <a:ext cx="8858160" cy="4248360"/>
              <a:chOff x="285840" y="1523880"/>
              <a:chExt cx="8858160" cy="4248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1523880"/>
                <a:ext cx="8858160" cy="42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015400" y="3047400"/>
                <a:ext cx="16740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15400" y="2666160"/>
                <a:ext cx="166680" cy="1699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183160" y="347112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59000" y="253944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06240" y="232740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68160" y="215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3720" y="287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7240" y="34711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54080" y="3216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03240" y="389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45320" y="33861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36840" y="355500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53360" y="355608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0192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66200" y="300528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31680" y="3639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42680" y="3301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59920" y="355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26600" y="3133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6040" y="52491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3080" y="49953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6960" y="546120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66120" y="51645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560" y="207360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960" y="3005280"/>
                <a:ext cx="5139000" cy="11005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30560" y="4826520"/>
                <a:ext cx="1211400" cy="8467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47040" y="487548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47040" y="4600080"/>
              <a:ext cx="140040" cy="1382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040" y="515196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7040" y="542700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5320" y="466992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5320" y="453168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7120" y="480708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320" y="50670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320" y="53589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10400" y="211788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9080" y="260172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23720" y="193572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600" y="225648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240" y="434772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560" y="473868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8815-DF82-4DDF-9F9B-E0679B87F9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253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8D2A-DBDB-4425-9E71-72839A1C6E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860a8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D9E2-D3AF-42EE-914A-B593B85D6D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entrality  Cambridge Dataset: </a:t>
            </a: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times node is on shortest delay pat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EE7E-A0B3-40B5-9389-9ED94C5DF4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Interaction and 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ird generation human interaction mod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tegories of human contact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ique and comm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pularity/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ual natures of mobile networ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enchmark Forwarding strateg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looding, Wait, and Multiple-copy-multiple-hop (MCP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ACE7-2A58-42F6-B2B2-831A3A0745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Design Spa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860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Human Dimension</a:t>
            </a: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1ACD-A7D0-4167-96BA-0C4C7D9387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RAN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75FA-1BF4-4C29-9D60-7AFBB403E3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LAB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 a less mixing environment (e.g. Reality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person in one group may not meet members in another group so ofte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ait for destination group not effici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D1C9-A30F-4639-ACAF-3064A6F801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3051-E3C4-4B6C-AC8D-C5A966DC2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pulation divided into commun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ode has a global and local ran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Global popular node like a postman, or politician in a c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popular node like Christophe Diot in SIGCOM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B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C4CA-2A76-4FB8-A00C-2EABB0381B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454C-A9A7-4392-AD90-9C5885E3F7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A7D2-70D3-422C-B5CF-8384CFA1F5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Making Centrality Practic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can each node know its own centrality in decentralised way?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well does past centrality predict the future?</a:t>
            </a:r>
            <a:br>
              <a:rPr sz="2400"/>
            </a:b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F9BE-9EA2-41F8-917F-64F9A77F8E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37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61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otal degree, per-6-hour degre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rrelation coefficients, 0.7401 and 0.951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C5D6-9FBE-4DD1-A58B-7250AE1D20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Using decentralised 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38880" cy="31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CDBD-B0A2-4484-B795-FFA1E5E92D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redictability of Human Mobility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3752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ree sessions of Reality datas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wo sessions using the ranking calculated from the first session: Almost same performa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97528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C8AD-CDC5-4B41-BC28-3C5730E4D0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2645-8B05-444A-99E7-2B93A4FEFC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ease e-mail me: Jon.Crowcroft@cl.cam.ac.u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apers availabl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2627-D704-4B59-9C1B-7BB1F6DA17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nternet choices ok: 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3AFD-5325-4259-B83C-BB2BC15F5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090B-BE7B-4B7A-900D-55B9CE2944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BFF7-2DBC-42F2-9B9C-C34ED5FE12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B880-6B20-4BED-90A3-1ABA22A4A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AD57-5A79-438C-9D31-3F8B7F2697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 algn="ctr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o FIND/GENI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erience: Architectures emerge (ANSA/Herber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B2D1-7589-48B0-9429-948BE6A1C0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9-02T22:23:09Z</dcterms:modified>
  <cp:revision>262</cp:revision>
  <dc:subject/>
  <dc:title>Haggle Work </dc:title>
</cp:coreProperties>
</file>