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24.png" ContentType="image/png"/>
  <Override PartName="/ppt/media/image9.pct" ContentType="image/x-pict"/>
  <Override PartName="/ppt/media/image8.gif" ContentType="image/gif"/>
  <Override PartName="/ppt/media/image13.pct" ContentType="image/x-pict"/>
  <Override PartName="/ppt/media/image7.gif" ContentType="image/gif"/>
  <Override PartName="/ppt/media/image23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22.pct" ContentType="image/x-pict"/>
  <Override PartName="/ppt/media/image4.pct" ContentType="image/x-pict"/>
  <Override PartName="/ppt/media/image21.pct" ContentType="image/x-pict"/>
  <Override PartName="/ppt/media/image19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5.pct" ContentType="image/x-pict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0B06-5AAA-41D7-BF09-98A788EB5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8627-5F7B-47B6-90BF-6CE1DC874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bble Reality sing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– as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peaker (TaeSaeng Choi, ETRI) mentioned – is pretty shit to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move to autonomic stuff of some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E4DF3-851D-4749-BC24-A42E8FBAF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BEDC6-DB68-49B2-81BF-ADD99D023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958DC-554E-4748-9C5C-DAFDB6105C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74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74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25E8A-B9F6-427F-814B-FFB41A9DC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0395E-ABB2-4C44-8AA0-C0D8F99367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21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748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21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748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59B34-F4F4-4E38-9F50-F9359DF0E1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BE957-DAB9-446C-B035-7201E58F5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9EF7F-EF85-48B7-B6D9-342F601B6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8AAD0-8DDA-46A4-BD87-160C0579F5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0EAE5-4DD0-45BD-8925-40E82DAB1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129D5-698B-43C2-9084-2A4FB63B0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D8457-A2C9-402A-8C99-7FE6E22FD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KAIST, September 3rd,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5B75-13BB-4C4F-A56F-DB22B331827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hyperlink" Target="mailto:Jon.crowcroft@cl.cam.ac.uk" TargetMode="External"/><Relationship Id="rId3" Type="http://schemas.openxmlformats.org/officeDocument/2006/relationships/hyperlink" Target="mailto:Jon.crowcroft@cl.cam.ac.uk" TargetMode="External"/><Relationship Id="rId4" Type="http://schemas.openxmlformats.org/officeDocument/2006/relationships/hyperlink" Target="mailto:Jon.crowcroft@cl.cam.ac.uk" TargetMode="External"/><Relationship Id="rId5" Type="http://schemas.openxmlformats.org/officeDocument/2006/relationships/hyperlink" Target="http://www.cl.cam.ac.uk/~jac22" TargetMode="External"/><Relationship Id="rId6" Type="http://schemas.openxmlformats.org/officeDocument/2006/relationships/hyperlink" Target="http://www.cl.cam.ac.uk/~jac22" TargetMode="External"/><Relationship Id="rId7" Type="http://schemas.openxmlformats.org/officeDocument/2006/relationships/hyperlink" Target="http://www.cl.cam.ac.uk/~jac22" TargetMode="Externa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pct"/><Relationship Id="rId8" Type="http://schemas.openxmlformats.org/officeDocument/2006/relationships/image" Target="../media/image10.pct"/><Relationship Id="rId9" Type="http://schemas.openxmlformats.org/officeDocument/2006/relationships/image" Target="../media/image11.pct"/><Relationship Id="rId10" Type="http://schemas.openxmlformats.org/officeDocument/2006/relationships/image" Target="../media/image12.pct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2062440"/>
            <a:ext cx="8435880" cy="18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Network Architecture Research Considerations Based on Haggle  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705040" y="4212720"/>
            <a:ext cx="579744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Jon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2"/>
              </a:rPr>
              <a:t>crowcroft@cl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3"/>
              </a:rPr>
              <a:t>.cam.ac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4"/>
              </a:rPr>
              <a:t>u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5"/>
              </a:rPr>
              <a:t>http://www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6"/>
              </a:rPr>
              <a:t>cl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7"/>
              </a:rPr>
              <a:t>.cam.ac.uk/~jac22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Example: Haggle, a Human DTN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9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but modular network architectu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igned around the needs of mobile user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C4066-4CD7-4024-AC9D-76B1CE8310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1830240" cy="1149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1714680" cy="1743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020000" y="479736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403280" y="1700280"/>
            <a:ext cx="1513080" cy="958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24000" y="2492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3276720" y="1773360"/>
            <a:ext cx="1800000" cy="1092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7596360" y="981000"/>
            <a:ext cx="1268280" cy="1806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5292720" y="328464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4788000" y="5157720"/>
            <a:ext cx="860400" cy="1447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700360" y="692280"/>
            <a:ext cx="13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26828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Give it to me, I have 1G bytes phone flash.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1052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I have 100M bytes of data, who can carry for me?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2637000"/>
            <a:ext cx="1513080" cy="685800"/>
          </a:xfrm>
          <a:custGeom>
            <a:avLst/>
            <a:gdLst/>
            <a:ahLst/>
            <a:rect l="l" t="t" r="r" b="b"/>
            <a:pathLst>
              <a:path w="1233" h="477">
                <a:moveTo>
                  <a:pt x="0" y="0"/>
                </a:moveTo>
                <a:cubicBezTo>
                  <a:pt x="45" y="215"/>
                  <a:pt x="91" y="431"/>
                  <a:pt x="272" y="454"/>
                </a:cubicBezTo>
                <a:cubicBezTo>
                  <a:pt x="453" y="477"/>
                  <a:pt x="945" y="197"/>
                  <a:pt x="1089" y="136"/>
                </a:cubicBezTo>
                <a:cubicBezTo>
                  <a:pt x="1233" y="75"/>
                  <a:pt x="1183" y="83"/>
                  <a:pt x="1134" y="91"/>
                </a:cubicBezTo>
              </a:path>
            </a:pathLst>
          </a:custGeom>
          <a:noFill/>
          <a:ln w="9360">
            <a:solidFill>
              <a:srgbClr val="0860a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549360"/>
            <a:ext cx="1463400" cy="1245960"/>
          </a:xfrm>
          <a:custGeom>
            <a:avLst/>
            <a:gdLst/>
            <a:ahLst/>
            <a:rect l="l" t="t" r="r" b="b"/>
            <a:pathLst>
              <a:path w="922" h="785">
                <a:moveTo>
                  <a:pt x="0" y="785"/>
                </a:moveTo>
                <a:cubicBezTo>
                  <a:pt x="45" y="452"/>
                  <a:pt x="91" y="120"/>
                  <a:pt x="227" y="60"/>
                </a:cubicBezTo>
                <a:cubicBezTo>
                  <a:pt x="363" y="0"/>
                  <a:pt x="710" y="355"/>
                  <a:pt x="816" y="423"/>
                </a:cubicBezTo>
                <a:cubicBezTo>
                  <a:pt x="922" y="491"/>
                  <a:pt x="892" y="479"/>
                  <a:pt x="862" y="468"/>
                </a:cubicBezTo>
              </a:path>
            </a:pathLst>
          </a:custGeom>
          <a:noFill/>
          <a:ln w="9360">
            <a:solidFill>
              <a:srgbClr val="0860a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549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I can also carry for you!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58920" y="476280"/>
            <a:ext cx="144360" cy="360360"/>
          </a:xfrm>
          <a:prstGeom prst="line">
            <a:avLst/>
          </a:prstGeom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24360" y="33336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Thank you but you are in the opposite direction!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206064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Don’t give to me! I am running out of storage.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003640" y="1844280"/>
            <a:ext cx="2737080" cy="79236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72360" y="23493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Reach an access point.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3068640"/>
            <a:ext cx="1152360" cy="1152360"/>
          </a:xfrm>
          <a:prstGeom prst="cloudCallout">
            <a:avLst>
              <a:gd name="adj1" fmla="val -21763"/>
              <a:gd name="adj2" fmla="val 69972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9636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860a8"/>
                </a:solidFill>
                <a:latin typeface="Arial"/>
                <a:ea typeface="新細明體"/>
              </a:rPr>
              <a:t>Internet</a:t>
            </a:r>
            <a:endParaRPr b="0" lang="en-US" sz="1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8172360" y="2781360"/>
            <a:ext cx="287280" cy="28728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524360" y="4437000"/>
            <a:ext cx="142920" cy="28728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85080" y="458136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Finally, it arrive…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635280" y="4797360"/>
            <a:ext cx="936720" cy="122400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651640" y="4653000"/>
            <a:ext cx="504720" cy="93672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515772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2720" y="508464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834920" y="3860640"/>
            <a:ext cx="1657080" cy="792360"/>
          </a:xfrm>
          <a:prstGeom prst="line">
            <a:avLst/>
          </a:prstGeom>
          <a:ln w="93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364500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335772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860a8"/>
                </a:solidFill>
                <a:latin typeface="Arial"/>
                <a:ea typeface="新細明體"/>
              </a:rPr>
              <a:t>There is one in my pocket…</a:t>
            </a:r>
            <a:endParaRPr b="0" lang="en-US" sz="1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2F441-B2C2-4CF0-977C-78EF489B67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Can we Generalize From Haggle?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Maybe actually a new architecture … …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D3C80-8D2C-486F-B997-640BE2DF45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br>
              <a:rPr sz="3200"/>
            </a:b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(not an architecture, no no no:-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e-lay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assume pat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separate host from rou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 data kept network-visible, and req/resp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x==rx==store  - all equal class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Greed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patience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Know and tell what it cos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3F505-5675-4362-85A0-59E24A1295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98F20-835E-44C5-8121-89F2D9656C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Overview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000" y="1414440"/>
            <a:ext cx="49687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lean-slate redesign of mobile n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pans MAC to application layers (inclusive), but is itself layerless – uses six “managers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I is asynchronous and data-centr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e-and-forward architecture with data persisting inside Haggle not separate file sy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-layer protocols (SMTP, HTTP, etc) moved into Haggle rather than apps themsel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aming/addressing done in graphs instead of sta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management built-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735080" y="836640"/>
            <a:ext cx="4775040" cy="5146200"/>
            <a:chOff x="4735080" y="836640"/>
            <a:chExt cx="4775040" cy="5146200"/>
          </a:xfrm>
        </p:grpSpPr>
        <p:sp>
          <p:nvSpPr>
            <p:cNvPr id="178" name=""/>
            <p:cNvSpPr/>
            <p:nvPr/>
          </p:nvSpPr>
          <p:spPr>
            <a:xfrm>
              <a:off x="5049720" y="1323720"/>
              <a:ext cx="4056120" cy="32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Arial"/>
                </a:rPr>
                <a:t>Haggle Application Interface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49720" y="836640"/>
              <a:ext cx="405612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plications (messaging, web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0800000"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Protocol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7257600">
              <a:off x="5397840" y="178416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3667800">
              <a:off x="539784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7995800">
              <a:off x="5398200" y="178488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4376600">
              <a:off x="539820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8122400">
              <a:off x="5502960" y="2586240"/>
              <a:ext cx="1202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Forwarding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49720" y="5495760"/>
              <a:ext cx="405936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nectivities (WiFi, BT, GPRS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671BE-ACDC-4208-9A4E-FF16426BCE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ata Objects (DOs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47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O = set of attributes = {type, value} pai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osing metadata facilitates sear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n link to other DO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tructure data that should be kept toge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allow apps to categorise/organ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s/Haggle managers can “claim” DOs to assert ownersh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219640" y="1627200"/>
          <a:ext cx="3638520" cy="1942920"/>
        </p:xfrm>
        <a:graphic>
          <a:graphicData uri="http://schemas.openxmlformats.org/drawingml/2006/table">
            <a:tbl>
              <a:tblPr/>
              <a:tblGrid>
                <a:gridCol w="1405080"/>
                <a:gridCol w="223344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essage/rfc822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James Scot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o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ichard Gas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heck this photo out!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Body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text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5435640" y="4170240"/>
          <a:ext cx="3600360" cy="1619280"/>
        </p:xfrm>
        <a:graphic>
          <a:graphicData uri="http://schemas.openxmlformats.org/drawingml/2006/table">
            <a:tbl>
              <a:tblPr/>
              <a:tblGrid>
                <a:gridCol w="1440000"/>
                <a:gridCol w="216036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mage/jpeg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Keyword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nset, London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on tim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05/06/06 2015 GM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binary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5653080" y="3571920"/>
            <a:ext cx="0" cy="6490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18000" y="1197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80240" y="3763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ttachment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9C4F1-2DC0-4847-97CC-0930F2EB70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2853E-36BA-4FC2-AD27-9DA5052DB6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es user-level names(ANA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541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lutarch, IPNL, RSIP etc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jon.crowcroft@cl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D6964-96D8-4948-BCC6-6AEF737E63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760" y="837720"/>
            <a:ext cx="8237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ask is a network activ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2CBBB-8187-4F8D-AC7A-02CF3F7915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Why we shouldn’t do network arch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iberally borrowed slides from Mothy Roscoe and Steven Hand &amp; Wenjun Hu, Experiments and Analysis from Pan (Ben) Hui.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First, general Argu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en specific (Haggle) example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2068560" y="6194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A4AF9-5A3C-45DA-AC98-4690577983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roblem definition and some idea of solu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T architecture:- framework for others to use(Sourcefor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thers develop use ca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rchitecture will emerge from common us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detection and Community based forwar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F1D9C-25D7-4F67-9946-6CA289345F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ommunity detection&amp;forwarding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60640" indent="-2606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ommunity structur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cial communities, i.e. affiliations/explicit label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pological cohesive groups or modul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entraliti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cial hubs, celebrities and postma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tweenness, closeness, inference power central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peri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races of human xco-mobilty on/from Crawdad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 own Cambridge, Hong Kong, Infocom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IT Reality Mining, Dartmouth, UCS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293A7-3BB7-49DE-BA8D-DBEBD7B82A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79740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ommunities in Infocom06 Dataset: </a:t>
            </a:r>
            <a:r>
              <a:rPr b="1" lang="en-GB" sz="2800" spc="-1" strike="noStrike">
                <a:solidFill>
                  <a:srgbClr val="0860a8"/>
                </a:solidFill>
                <a:latin typeface="Comic Sans MS"/>
              </a:rPr>
              <a:t>Union of k-cliques reachable via series of adjacent k-cliques [Palla et al]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85840" y="1523880"/>
            <a:ext cx="8858160" cy="4248360"/>
            <a:chOff x="285840" y="1523880"/>
            <a:chExt cx="8858160" cy="4248360"/>
          </a:xfrm>
        </p:grpSpPr>
        <p:grpSp>
          <p:nvGrpSpPr>
            <p:cNvPr id="207" name=""/>
            <p:cNvGrpSpPr/>
            <p:nvPr/>
          </p:nvGrpSpPr>
          <p:grpSpPr>
            <a:xfrm>
              <a:off x="285840" y="1523880"/>
              <a:ext cx="8858160" cy="4248360"/>
              <a:chOff x="285840" y="1523880"/>
              <a:chExt cx="8858160" cy="4248360"/>
            </a:xfrm>
          </p:grpSpPr>
          <p:pic>
            <p:nvPicPr>
              <p:cNvPr id="20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85840" y="1523880"/>
                <a:ext cx="8858160" cy="424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8015400" y="3047400"/>
                <a:ext cx="167400" cy="1695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015400" y="2666160"/>
                <a:ext cx="166680" cy="16992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183160" y="3471120"/>
                <a:ext cx="166680" cy="16884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559000" y="2539440"/>
                <a:ext cx="166680" cy="1695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806240" y="2327400"/>
                <a:ext cx="166680" cy="1695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768160" y="2158200"/>
                <a:ext cx="166680" cy="16884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63720" y="2878200"/>
                <a:ext cx="166680" cy="16884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497240" y="34711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754080" y="3216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303240" y="3894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945320" y="33861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336840" y="355500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53360" y="3556080"/>
                <a:ext cx="207720" cy="169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96560" y="3301920"/>
                <a:ext cx="208080" cy="1267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966200" y="300528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831680" y="3639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542680" y="33019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959920" y="3556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126600" y="3133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706040" y="52491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73080" y="49953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956960" y="546120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166120" y="51645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054560" y="2073600"/>
                <a:ext cx="2047680" cy="160920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371960" y="3005280"/>
                <a:ext cx="5139000" cy="110052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330560" y="4826520"/>
                <a:ext cx="1211400" cy="84672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3947040" y="4875480"/>
              <a:ext cx="13824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47040" y="4600080"/>
              <a:ext cx="140040" cy="1382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47040" y="5151960"/>
              <a:ext cx="140040" cy="1378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47040" y="5427000"/>
              <a:ext cx="140040" cy="1382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25320" y="4669920"/>
              <a:ext cx="153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25320" y="453168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27120" y="4807080"/>
              <a:ext cx="160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25320" y="506700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5320" y="535896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10400" y="211788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29080" y="2601720"/>
              <a:ext cx="4179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23720" y="1935720"/>
              <a:ext cx="17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49600" y="2256480"/>
              <a:ext cx="557640" cy="414720"/>
            </a:xfrm>
            <a:prstGeom prst="rightArrow">
              <a:avLst>
                <a:gd name="adj1" fmla="val 50000"/>
                <a:gd name="adj2" fmla="val 33615"/>
              </a:avLst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0240" y="434772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8560" y="4738680"/>
              <a:ext cx="348840" cy="344880"/>
            </a:xfrm>
            <a:prstGeom prst="rightArrow">
              <a:avLst>
                <a:gd name="adj1" fmla="val 50000"/>
                <a:gd name="adj2" fmla="val 25287"/>
              </a:avLst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7236000" y="5589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Arial"/>
              </a:rPr>
              <a:t>K=3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FC885-88B4-4EFB-B26C-1B166E8234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08000" y="1123920"/>
            <a:ext cx="8712000" cy="4969080"/>
            <a:chOff x="108000" y="1123920"/>
            <a:chExt cx="8712000" cy="4969080"/>
          </a:xfrm>
        </p:grpSpPr>
        <p:grpSp>
          <p:nvGrpSpPr>
            <p:cNvPr id="253" name=""/>
            <p:cNvGrpSpPr/>
            <p:nvPr/>
          </p:nvGrpSpPr>
          <p:grpSpPr>
            <a:xfrm>
              <a:off x="108000" y="1123920"/>
              <a:ext cx="8712000" cy="4969080"/>
              <a:chOff x="108000" y="1123920"/>
              <a:chExt cx="8712000" cy="4969080"/>
            </a:xfrm>
          </p:grpSpPr>
          <p:pic>
            <p:nvPicPr>
              <p:cNvPr id="2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23920"/>
                <a:ext cx="8712000" cy="49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>
                <a:off x="1669680" y="47221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69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532560" y="2051280"/>
                <a:ext cx="240840" cy="22212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252560" y="1884600"/>
                <a:ext cx="240840" cy="2217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942320" y="2496600"/>
                <a:ext cx="240480" cy="2217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373520" y="2329560"/>
                <a:ext cx="240480" cy="22212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72920" y="2718720"/>
                <a:ext cx="240480" cy="221760"/>
              </a:xfrm>
              <a:prstGeom prst="ellipse">
                <a:avLst/>
              </a:prstGeom>
              <a:solidFill>
                <a:srgbClr val="a6cae1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350520" y="2830320"/>
                <a:ext cx="23976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490280" y="210636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4992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46968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7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770280" y="255312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091120" y="277524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189080" y="450036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428480" y="4110120"/>
                <a:ext cx="240840" cy="22284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09080" y="43333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86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412320" y="1717560"/>
                <a:ext cx="1920600" cy="139140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49080" y="2106360"/>
                <a:ext cx="3002040" cy="105732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948240" y="3999600"/>
                <a:ext cx="1561680" cy="1112760"/>
              </a:xfrm>
              <a:prstGeom prst="rect">
                <a:avLst/>
              </a:prstGeom>
              <a:noFill/>
              <a:ln w="9360">
                <a:solidFill>
                  <a:srgbClr val="0860a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60a8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4052160" y="4103640"/>
              <a:ext cx="136080" cy="13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52160" y="3838680"/>
              <a:ext cx="137880" cy="132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52160" y="4368960"/>
              <a:ext cx="137880" cy="1324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52160" y="4633560"/>
              <a:ext cx="137880" cy="1328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24680" y="377208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27560" y="4036320"/>
              <a:ext cx="157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24680" y="4287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24680" y="4566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0" y="132228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14640" y="1719720"/>
              <a:ext cx="480600" cy="265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56080" y="1276920"/>
              <a:ext cx="226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73480" y="1653840"/>
              <a:ext cx="341280" cy="330120"/>
            </a:xfrm>
            <a:prstGeom prst="rightArrow">
              <a:avLst>
                <a:gd name="adj1" fmla="val 50000"/>
                <a:gd name="adj2" fmla="val 25845"/>
              </a:avLst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3200" y="3596400"/>
              <a:ext cx="181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4560" y="3971880"/>
              <a:ext cx="343080" cy="329760"/>
            </a:xfrm>
            <a:prstGeom prst="rightArrow">
              <a:avLst>
                <a:gd name="adj1" fmla="val 50000"/>
                <a:gd name="adj2" fmla="val 26010"/>
              </a:avLst>
            </a:prstGeom>
            <a:solidFill>
              <a:srgbClr val="00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7308720" y="51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Arial"/>
              </a:rPr>
              <a:t>K=4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E7B0D-18B6-4D60-810F-69C870C0E7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9640" y="1628640"/>
            <a:ext cx="8317080" cy="3677760"/>
            <a:chOff x="539640" y="1628640"/>
            <a:chExt cx="8317080" cy="3677760"/>
          </a:xfrm>
        </p:grpSpPr>
        <p:pic>
          <p:nvPicPr>
            <p:cNvPr id="292" name="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8317080" cy="30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205680" y="2896560"/>
              <a:ext cx="261000" cy="258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24600" y="1861920"/>
              <a:ext cx="261000" cy="25920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69120" y="3543480"/>
              <a:ext cx="261000" cy="258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04320" y="2249640"/>
              <a:ext cx="261000" cy="25884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30760" y="244332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66600" y="192780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66600" y="393084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22160" y="2896560"/>
              <a:ext cx="26100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33200" y="1991520"/>
              <a:ext cx="327600" cy="2581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9640" y="2766600"/>
              <a:ext cx="327600" cy="258120"/>
            </a:xfrm>
            <a:prstGeom prst="hexagon">
              <a:avLst>
                <a:gd name="adj" fmla="val 31729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30320" y="386496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62080" y="179820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73920" y="1798200"/>
              <a:ext cx="2619360" cy="2454480"/>
            </a:xfrm>
            <a:prstGeom prst="rect">
              <a:avLst/>
            </a:prstGeom>
            <a:noFill/>
            <a:ln w="9360">
              <a:solidFill>
                <a:srgbClr val="0860a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99000" y="1798200"/>
              <a:ext cx="2946960" cy="2584080"/>
            </a:xfrm>
            <a:prstGeom prst="rect">
              <a:avLst/>
            </a:prstGeom>
            <a:noFill/>
            <a:ln w="9360">
              <a:solidFill>
                <a:srgbClr val="0860a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1320" y="1692360"/>
              <a:ext cx="1144800" cy="2689560"/>
            </a:xfrm>
            <a:prstGeom prst="rect">
              <a:avLst/>
            </a:prstGeom>
            <a:noFill/>
            <a:ln w="9360">
              <a:solidFill>
                <a:srgbClr val="0860a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39080" y="4835160"/>
              <a:ext cx="131040" cy="128160"/>
            </a:xfrm>
            <a:prstGeom prst="ellipse">
              <a:avLst/>
            </a:prstGeom>
            <a:solidFill>
              <a:srgbClr val="a6cae1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35640" y="4725720"/>
              <a:ext cx="235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Barcelona Group (Spanish)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64160" y="4705560"/>
              <a:ext cx="131040" cy="129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64160" y="5029200"/>
              <a:ext cx="195840" cy="12924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90320" y="459756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 A (French)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90320" y="492228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60a8"/>
                  </a:solidFill>
                  <a:latin typeface="Times New Roman"/>
                </a:rPr>
                <a:t>Paris Group B (French)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2360" y="4835160"/>
              <a:ext cx="196200" cy="129600"/>
            </a:xfrm>
            <a:prstGeom prst="hexagon">
              <a:avLst>
                <a:gd name="adj" fmla="val 37847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65520" y="4769640"/>
              <a:ext cx="11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600" spc="-1" strike="noStrike">
                  <a:solidFill>
                    <a:srgbClr val="0860a8"/>
                  </a:solidFill>
                  <a:latin typeface="Times New Roman"/>
                </a:rPr>
                <a:t>Italian</a:t>
              </a:r>
              <a:endParaRPr b="0" lang="en-US" sz="16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745164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Arial"/>
              </a:rPr>
              <a:t>K=5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9DEBA-A053-499F-8913-6239355507D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Centrality  Cambridge Dataset: </a:t>
            </a: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times node is on shortest delay path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41964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9308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Group B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D677F-62AE-4F6A-8B6D-E979264B0E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Interaction and Forwarding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49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ird generation human interaction mod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tegories of human contact patter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ique and commun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pularity/Central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Dual natures of mobile networ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cial networ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hysical networ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Benchmark Forwarding strategi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Flooding, Wait, and Multiple-copy-multiple-hop (MCP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58EC3-1F0B-44DD-9299-221CD23FB0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Design Spac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556000" y="1339560"/>
            <a:ext cx="0" cy="352908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556000" y="3284640"/>
            <a:ext cx="3097080" cy="15825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50920" y="9079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860a8"/>
                </a:solidFill>
                <a:latin typeface="Times New Roman"/>
              </a:rPr>
              <a:t>Explicit Social Structure</a:t>
            </a:r>
            <a:endParaRPr b="0" lang="en-US" sz="16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651640" y="5948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860a8"/>
                </a:solidFill>
                <a:latin typeface="Times New Roman"/>
              </a:rPr>
              <a:t>Structure in Degree</a:t>
            </a:r>
            <a:endParaRPr b="0" lang="en-US" sz="16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6000" y="2995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860a8"/>
                </a:solidFill>
                <a:latin typeface="Times New Roman"/>
              </a:rPr>
              <a:t>Structure in Cohesive Group</a:t>
            </a:r>
            <a:endParaRPr b="0" lang="en-US" sz="16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79640" y="1843200"/>
            <a:ext cx="1008000" cy="576000"/>
          </a:xfrm>
          <a:prstGeom prst="rect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24000" y="1971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Label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867200"/>
            <a:ext cx="3960720" cy="7923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56000" y="5084640"/>
            <a:ext cx="1656000" cy="576360"/>
          </a:xfrm>
          <a:prstGeom prst="rect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5227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Rank, Degree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82920" y="4795920"/>
            <a:ext cx="144360" cy="1443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556000" y="1699920"/>
            <a:ext cx="4105080" cy="3166920"/>
          </a:xfrm>
          <a:prstGeom prst="line">
            <a:avLst/>
          </a:prstGeom>
          <a:ln w="9360">
            <a:solidFill>
              <a:srgbClr val="0860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427640" y="3427560"/>
            <a:ext cx="1008000" cy="576000"/>
          </a:xfrm>
          <a:prstGeom prst="rect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0" y="34862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Clique Label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659640" y="1268280"/>
            <a:ext cx="1152360" cy="936720"/>
          </a:xfrm>
          <a:prstGeom prst="cube">
            <a:avLst>
              <a:gd name="adj" fmla="val 25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732720" y="17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860a8"/>
                </a:solidFill>
                <a:latin typeface="Times New Roman"/>
              </a:rPr>
              <a:t>Bubble</a:t>
            </a:r>
            <a:endParaRPr b="0" lang="en-US" sz="1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88000" y="4363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Network Plane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39600" y="2779560"/>
            <a:ext cx="729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Human Dimension</a:t>
            </a: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C8EFE-F21F-4637-8849-A4F6D06710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Problem with RAN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7345440" cy="34527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908000" y="530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Arial"/>
              </a:rPr>
              <a:t>Hop distribution and rank at dead-end for HK dataset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CA2E5-3CC8-46F7-AA96-41551421DD4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Problem with LABEL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In a less mixing environment (e.g. Reality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 person in one group may not meet members in another group so ofte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ait for destination group not efficien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24000" y="3497400"/>
            <a:ext cx="5905440" cy="27399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324036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DDB40-FFCB-4CB3-8AAB-8BBAB68DB5E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is a Network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Paradig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iven Physica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constrai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cket/circuit/new(e.g. multihop radio)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undamentally is net a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raph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protocols/services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layered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Functional Decomposi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rade between packe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heade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nd node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hoose stateless or stateful (e2e v. hbh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(e.g. change trade to include transpor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an do NAT, Header Compression and QoS/Flow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nodes different (host v. router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oose Packet Format(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13279-7CF9-4CF5-81B2-45AE54C78D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Centrality meets Commun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opulation divided into communitie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Node has a global and local ran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Global popular node like a postman, or politician in a c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ocal popular node like Christophe Diot in SIGCOM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BUBBLE-A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BUBBLE-B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D69AD-6D53-41EE-9542-6FAB6E93580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9640" y="0"/>
            <a:ext cx="8209080" cy="6669000"/>
          </a:xfrm>
          <a:prstGeom prst="ellipse">
            <a:avLst/>
          </a:pr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56000" y="404640"/>
            <a:ext cx="3348000" cy="331344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64000" y="558972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942160" y="836640"/>
            <a:ext cx="1425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43280" y="1628640"/>
            <a:ext cx="1461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125800" y="2637000"/>
            <a:ext cx="14256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59280" y="2276640"/>
            <a:ext cx="14580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79640" y="1268280"/>
            <a:ext cx="361800" cy="3603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788000" y="414972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48000" y="458136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765000"/>
            <a:ext cx="1429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09800" y="4365720"/>
            <a:ext cx="1429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47640" y="522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84360" y="3573360"/>
            <a:ext cx="1447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03280" y="350028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27640" y="378936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64000" y="4724280"/>
            <a:ext cx="287640" cy="28908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619280" y="4508640"/>
            <a:ext cx="360360" cy="720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1547640" y="3645000"/>
            <a:ext cx="362160" cy="720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547640" y="2781000"/>
            <a:ext cx="578160" cy="7189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64000" y="292428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268360" y="2349000"/>
            <a:ext cx="790920" cy="287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050920" y="3716280"/>
            <a:ext cx="433440" cy="6494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195640" y="1773000"/>
            <a:ext cx="718920" cy="863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05080" y="2349360"/>
            <a:ext cx="1079640" cy="3589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693800" y="4652640"/>
            <a:ext cx="1654200" cy="647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627280" y="3068640"/>
            <a:ext cx="936720" cy="504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492360" y="3933360"/>
            <a:ext cx="935280" cy="64764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500720" y="2997360"/>
            <a:ext cx="0" cy="79200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2989440" y="907920"/>
            <a:ext cx="431640" cy="72072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95280" y="2492280"/>
            <a:ext cx="0" cy="2232000"/>
          </a:xfrm>
          <a:prstGeom prst="line">
            <a:avLst/>
          </a:prstGeom>
          <a:ln w="572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17002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Times New Roman"/>
              </a:rPr>
              <a:t>Ranking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84720" y="2637000"/>
            <a:ext cx="358560" cy="3603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88000" y="2637000"/>
            <a:ext cx="14436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805440" y="2205000"/>
            <a:ext cx="216000" cy="21600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510160" y="2637000"/>
            <a:ext cx="14292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19640" y="206064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59640" y="1844640"/>
            <a:ext cx="14580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57800" y="2637000"/>
            <a:ext cx="142920" cy="1425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299280" y="1413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651640" y="1413000"/>
            <a:ext cx="14436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4932360" y="2133720"/>
            <a:ext cx="287280" cy="50328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364000" y="1557360"/>
            <a:ext cx="362160" cy="50328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726160" y="981000"/>
            <a:ext cx="216000" cy="43200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84720" y="981000"/>
            <a:ext cx="289080" cy="43200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96000" y="1484280"/>
            <a:ext cx="504720" cy="0"/>
          </a:xfrm>
          <a:prstGeom prst="line">
            <a:avLst/>
          </a:prstGeom>
          <a:ln w="284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1928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738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164360" y="630864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27640" y="630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Times New Roman"/>
              </a:rPr>
              <a:t>Global Community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7740360" y="5445000"/>
            <a:ext cx="431640" cy="936720"/>
          </a:xfrm>
          <a:prstGeom prst="line">
            <a:avLst/>
          </a:prstGeom>
          <a:ln w="7632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44364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7237440" y="3284640"/>
            <a:ext cx="287280" cy="720720"/>
          </a:xfrm>
          <a:prstGeom prst="line">
            <a:avLst/>
          </a:prstGeom>
          <a:ln w="572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078520" y="530064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5580000" y="5013000"/>
            <a:ext cx="146160" cy="360360"/>
          </a:xfrm>
          <a:prstGeom prst="line">
            <a:avLst/>
          </a:prstGeom>
          <a:ln w="5724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07280" y="2565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60a8"/>
                </a:solidFill>
                <a:latin typeface="Times New Roman"/>
              </a:rPr>
              <a:t>Subsub community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84720" y="1989000"/>
            <a:ext cx="144720" cy="14292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7093080" y="2349000"/>
            <a:ext cx="792000" cy="287640"/>
          </a:xfrm>
          <a:prstGeom prst="line">
            <a:avLst/>
          </a:prstGeom>
          <a:ln w="381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195640" y="1484280"/>
            <a:ext cx="361800" cy="360360"/>
          </a:xfrm>
          <a:prstGeom prst="ellipse">
            <a:avLst/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4C8F3-1497-49EB-9E8A-F0A88BC330E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Centrality meets Commun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4105080" cy="35924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40360" cy="362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DFE9E-761B-498E-85CE-2185178343A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Making Centrality Practical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5" name=""/>
          <p:cNvSpPr/>
          <p:nvPr/>
        </p:nvSpPr>
        <p:spPr>
          <a:xfrm>
            <a:off x="1320840" y="2924280"/>
            <a:ext cx="7823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How can each node know its own centrality in decentralised way?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How well does past centrality predict the future?</a:t>
            </a:r>
            <a:br>
              <a:rPr sz="2400"/>
            </a:b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1275D-011F-4258-9E42-AE3EB8353CC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Approximating Central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4149720"/>
            <a:ext cx="8237520" cy="15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3616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36160" indent="-23616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otal degree, per-6-hour degre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36160" indent="-23616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Correlation coefficients, 0.7401 and 0.951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695600" y="1125360"/>
            <a:ext cx="6476760" cy="32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ECAB3-57DF-469C-A363-493E2927386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Using decentralised Approximating Centrality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38880" cy="319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913A1-DC1F-4AF8-8BD1-02B614E9B74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60a8"/>
                </a:solidFill>
                <a:latin typeface="Verdana"/>
              </a:rPr>
              <a:t>Predictability of Human Mobility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8237520" cy="21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ree sessions of Reality datas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ffffff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wo sessions using the ranking calculated from the first session: Almost same performan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447920" y="2819520"/>
            <a:ext cx="5975280" cy="281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997FE-3DEC-4604-BA8F-49417102FD3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Verdana"/>
              </a:rPr>
              <a:t>By way of example: </a:t>
            </a: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Haggle (== DTN bis): </a:t>
            </a:r>
            <a:br>
              <a:rPr sz="2800"/>
            </a:b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A framework for Networking Mobile User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Maybe actually a new architecture … …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41FD0-B35F-4D8F-9DD2-116D036E310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lease e-mail me: Jon.Crowcroft@cl.cam.ac.u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apers availabl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A19F7-F419-400B-8B71-D4DB242D2EB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One (incremental) view:</a:t>
            </a:r>
            <a:br>
              <a:rPr sz="3200"/>
            </a:b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Internet choices ok: Don’t Panic!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ongestion collapse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CP congestion control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he backbone won’t scale!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raffic Engineering, DWDM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e’ll run out of address space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CIDR, NAT (and IPNL, 4+4, Triad, …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Long fat pipes are under-used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calable TCP, HSTCP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tocol stacks can’t keep up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Zero-copy I/O, TSO, …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CP doesn’t work on wireless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plit-TCP, i-TCP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But what about security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Firewalls, Application-level filtering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AFCAF-41C6-4B82-AF67-4DA3C73993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So everything’s ok then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ll, no…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y solutions are kludg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y solutions are stop-gap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NAT for a billion cellular devices? a trillion sensors?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management story whatsoever… and security really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i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 probl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 a nutshell: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: Just-in-time Engineering” (Anon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 has always just been saved from catastrophic failure” (M Handley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 is a triumph of human ingenuity over common sense” (S Hand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76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60a8"/>
                </a:solidFill>
                <a:latin typeface="Verdana"/>
              </a:rPr>
              <a:t>That isn’t architecture, it’s sloppy building repairs!</a:t>
            </a:r>
            <a:endParaRPr b="0" lang="en-US" sz="17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B9EC8-7CCA-43C7-87BE-E1D5DE16B8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440400" y="3565440"/>
            <a:ext cx="2043360" cy="1758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1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3966A-7046-4ECB-B908-62E1342CC1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440400" y="3565440"/>
            <a:ext cx="2043360" cy="1758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9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B4A92-FB0D-49A6-B4B8-EB5C881B62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a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28600" y="4684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76200" y="2017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536AB-166F-4987-B08D-E5D0DA460D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 third way…post internet arch (“post” can bind to net or arch: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1800" indent="-2718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idestep the whole purist/pluralist deba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void an architecture completel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t’s unnecessar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t doesn’t address any probl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t may be counterproduc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Let me give a detailed worked example from the Haggle Project :-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ST-4-027918-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 algn="ctr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st-modernism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 algn="ctr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o FIND/GENI?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 algn="ctr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erience: Architectures emerge (ANSA/Herber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99920" indent="-271800" algn="ctr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pers about them are usually post-hoc rationalis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343E3-89EC-4058-A23D-797C9840D5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7-09-02T22:23:09Z</dcterms:modified>
  <cp:revision>262</cp:revision>
  <dc:subject/>
  <dc:title>Haggle Work </dc:title>
</cp:coreProperties>
</file>