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ct" ContentType="image/x-pict"/>
  <Override PartName="/ppt/media/image8.gif" ContentType="image/gif"/>
  <Override PartName="/ppt/media/image13.pct" ContentType="image/x-pict"/>
  <Override PartName="/ppt/media/image7.gif" ContentType="image/gif"/>
  <Override PartName="/ppt/media/image23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7EE-D8C7-4FF6-B886-764ACBF74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1155-675B-492D-9817-4D3BC7E1A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A36B-CFE3-464F-8CCA-36E70D7D0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39F1-F087-489C-9A00-BBB087043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D3B1-1B1E-4AD3-B8BC-69A4392F2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C576-E12B-4368-A58A-E0F21F8B1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22FC-F84B-41B1-8FD5-4423C64AC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1B90-1ECC-4091-BA8F-E6C08272E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5B9A-2A78-4A27-B401-2B2C3683B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8C7A-4538-4DBA-B8DA-C166CDD60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D062-ED67-42D2-9D8D-50AC5D008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2451-02EC-4E6E-A580-6646CB30E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C28E-FE92-4AE1-8C7A-1DCEA07A5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E745-BD63-4129-A5E7-FEE9A81C4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KAIST, September 3rd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2F1F-6457-427D-A555-24E60137B27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image" Target="../media/image11.pct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062440"/>
            <a:ext cx="843588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Based on Haggle  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Example: Haggle, a Human DT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76D0-C0BF-4126-81EA-3A9536376D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60a8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1D7B-639B-448A-8A35-03B2B3A053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Can we Generalize From Haggle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7E73-1CFC-40B3-AF11-C817D66F16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240F-8C0D-4E0D-953E-EC09E48ACE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E8E4-D582-4805-8F0F-D3D32190BE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78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122400">
              <a:off x="5502960" y="258624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052A-B05B-4158-A7D8-73EB794823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679F-A3B6-4AD0-9F3A-53EDEE88FF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FCA1-AFC6-4B2F-9376-F6432F8CBF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6222-9A73-445B-97CD-3895850BA2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03BD-4A05-43B8-82E3-A8C0C5BA1A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and Steven Hand &amp; Wenjun Hu, Experiments and Analysis from Pan (Ben) Hui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619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4414-1B0F-413E-9BE2-5E680ED0B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detection and Community based forwar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2F13-79BE-413D-A971-170A235D4B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munity detection&amp;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mmunity structur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communities, i.e. affiliations/explicit labe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pological cohesive groups or modul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entral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hubs, celebrities and postma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tweenness, closeness, inference power 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races of human xco-mobilty on/from Crawda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 own Cambridge, Hong Kong, Infoco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IT Reality Mining, Dartmouth, UCS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438A-CC38-4EEB-9744-C6EFF0B458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97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mmunities in Infocom06 Dataset: </a:t>
            </a:r>
            <a:r>
              <a:rPr b="1" lang="en-GB" sz="2800" spc="-1" strike="noStrike">
                <a:solidFill>
                  <a:srgbClr val="0860a8"/>
                </a:solidFill>
                <a:latin typeface="Comic Sans MS"/>
              </a:rPr>
              <a:t>Union of k-cliques reachable via series of adjacent k-cliques [Palla et al]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5840" y="1523880"/>
            <a:ext cx="8858160" cy="4248360"/>
            <a:chOff x="285840" y="1523880"/>
            <a:chExt cx="8858160" cy="4248360"/>
          </a:xfrm>
        </p:grpSpPr>
        <p:grpSp>
          <p:nvGrpSpPr>
            <p:cNvPr id="207" name=""/>
            <p:cNvGrpSpPr/>
            <p:nvPr/>
          </p:nvGrpSpPr>
          <p:grpSpPr>
            <a:xfrm>
              <a:off x="285840" y="1523880"/>
              <a:ext cx="8858160" cy="4248360"/>
              <a:chOff x="285840" y="1523880"/>
              <a:chExt cx="8858160" cy="4248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1523880"/>
                <a:ext cx="8858160" cy="42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015400" y="3047400"/>
                <a:ext cx="16740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15400" y="2666160"/>
                <a:ext cx="166680" cy="1699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183160" y="347112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59000" y="253944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06240" y="232740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68160" y="215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3720" y="287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7240" y="34711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54080" y="3216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03240" y="389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45320" y="33861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36840" y="355500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53360" y="355608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0192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66200" y="300528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31680" y="3639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42680" y="3301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59920" y="355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26600" y="3133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6040" y="52491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3080" y="49953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6960" y="546120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66120" y="51645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560" y="207360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960" y="3005280"/>
                <a:ext cx="5139000" cy="11005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30560" y="4826520"/>
                <a:ext cx="1211400" cy="8467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47040" y="487548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47040" y="4600080"/>
              <a:ext cx="140040" cy="1382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040" y="515196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7040" y="542700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5320" y="466992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5320" y="453168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7120" y="480708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320" y="50670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320" y="53589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10400" y="211788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9080" y="260172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23720" y="193572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600" y="225648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240" y="434772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560" y="473868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A60D-2A06-4F4D-BAB1-92FF1B9B7A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253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912F-7C4E-4C26-9569-1CBFA370CC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860a8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6499-B246-4934-AFA3-B20DE5D04F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entrality  Cambridge Dataset: </a:t>
            </a: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times node is on shortest delay pat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B6D2-4920-4B8E-8F21-1655195550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Interaction and 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ird generation human interaction mod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tegories of human contact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ique and comm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pularity/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ual natures of mobile networ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enchmark Forwarding strateg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looding, Wait, and Multiple-copy-multiple-hop (MCP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85DE-9750-49EB-85E1-23133552B0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Design Spa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860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Human Dimension</a:t>
            </a: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BCA9-19D9-4794-A6F8-161E5BD6F6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RAN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355D-EEAD-4C44-B68A-838B9E058D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LAB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 a less mixing environment (e.g. Reality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person in one group may not meet members in another group so ofte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ait for destination group not effici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BAAF-E76C-402D-852C-F448EBD087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96C7-227A-40CA-850F-59338F9EE0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pulation divided into commun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ode has a global and local ran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Global popular node like a postman, or politician in a c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popular node like Christophe Diot in SIGCOM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B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8E34-CBFD-4A61-AD67-172A66A209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E54B-B5BB-4368-9807-87BD26677C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3A88-6746-4DF9-82C5-A6CF008449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Making Centrality Practic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can each node know its own centrality in decentralised way?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well does past centrality predict the future?</a:t>
            </a:r>
            <a:br>
              <a:rPr sz="2400"/>
            </a:b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5529-D629-47E6-AE49-E5DD175626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37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61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otal degree, per-6-hour degre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rrelation coefficients, 0.7401 and 0.951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91AF-F9BF-4023-ABFF-6533E01C8B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Using decentralised 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38880" cy="31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D02F-5C4C-4FA2-A700-05F94B82FB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redictability of Human Mobility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3752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ree sessions of Reality datas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wo sessions using the ranking calculated from the first session: Almost same performa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97528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3931-F1A4-47C5-98C9-600BF7A873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9F09-5455-41F7-A09E-33A7448161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ease e-mail me: Jon.Crowcroft@cl.cam.ac.u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apers availabl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8E44-AACA-42A1-A5A0-84A79B1ED8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nternet choices ok: 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4529B-68E4-456F-83ED-AD92C94BD7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1243-EFB0-402A-AC4B-FD77E56A3B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21E8-FBC1-4F61-A4BB-860EF2CB91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A085-E515-4E57-B989-C36C6971BC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0524-974B-4882-87F3-A512567FA0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 algn="ctr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o FIND/GENI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erience: Architectures emerge (ANSA/Herber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8E81-177C-485D-B2A4-C3FC39116D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9-02T22:23:09Z</dcterms:modified>
  <cp:revision>262</cp:revision>
  <dc:subject/>
  <dc:title>Haggle Work </dc:title>
</cp:coreProperties>
</file>