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88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212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88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212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302760"/>
            <a:ext cx="863748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88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212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88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212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560" y="302760"/>
            <a:ext cx="863748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0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00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00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ebuchet MS"/>
              </a:rPr>
              <a:t>Computer Communications Broadband Science FIction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038120" y="5562360"/>
            <a:ext cx="4496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Jon Crowcroft,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he Computer Laboratory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University of Cambridge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Jon.crowcroft@cl.cam.ac.u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Conclusion &amp; Call for Collaboration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 are aware of several initiatives like CII in Europ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reland, Netherlands, Scandinavia et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n to link up, share thought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y Questions or Suggestions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IST 2004 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038120" y="5562360"/>
            <a:ext cx="4496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A Radical Viewpoint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Who am I and What am I doing here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’m the Marconi Professor of Communications Syste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 the Computer Laboratory, University of Cambrid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tudied Physics here, the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2 years at UC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orked on first Internet access outside US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w Cambridge, MIT, UCL, Oxford together in CI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ultidisciplinary look at disruptive communic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rebuchet MS"/>
              </a:rPr>
              <a:t>Sci Fi #101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ake 1 dimension  of life and extrapolate it beyond expectation, e.g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Rain, Snow, Wind (J.G.Ballard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Sea, Plants, ALients (John Wyndham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Stars, Time (Arthur Clark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Robots, History (Isaac Asimov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rebuchet MS"/>
              </a:rPr>
              <a:t>s/Sci Fi/Computer Science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Storag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Process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Communicat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Pow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Reliabil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Pric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Exponentials and Ratio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puting, Communications,Content all grow exponential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always confuses people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half lives are differ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ise and run of the steps are different, so the ratios shif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edicting when storage or processing are more or less important than communications or travel is a hard thing to do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ke 3 problems as examples of the type of thing the CII is here to try to comprehend:-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Three example viewpoint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8080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conomic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hat can economists tell us about the limits of the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marke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pectrum auction - succes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ree Wi-Fi VOIP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- who know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n infinite bandwidth versus storage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hat if cheapest place to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rent rack spac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for storage is in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rtical (content &amp; transmission) versus horizontal (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2P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mputer scientist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ell phones are just software. SMS is the worst use of cell phones, except for most of the rest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will your next software nightmare be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ree content e.g.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ile sharing on the highway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rebuchet MS"/>
              </a:rPr>
              <a:t>Three example disruptive technologie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WiFi+WiMax v. 3G – replay of VOIP v. PST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ow not to destroy the cell phone industry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Fiber Radio: Shared backhaul for wirel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hould we Regulate spectrum on the fiber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Fiber Everywhere &lt; 10 euros per home now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ow to incentivize deployment to rural area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Interlocking concern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te how economic, regulatory and technical concerns intera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nnot consider each in separation any mo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me things are not solved by The Market or by The Government, or by Microsoft, Intel and Cisco, or SMEs or Research Labs and Startups, on their ow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’re keen to engage all of the abov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Daniel Mckeever</cp:lastModifiedBy>
  <dcterms:modified xsi:type="dcterms:W3CDTF">2004-11-11T16:15:58Z</dcterms:modified>
  <cp:revision>26</cp:revision>
  <dc:subject/>
  <dc:title>PowerPoint Presentation</dc:title>
</cp:coreProperties>
</file>