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09B-6B5F-4A6D-8F1A-6F023EFE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C2F-F919-43A5-84BD-12AD4A8C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61E-211B-4291-9292-70A0A40F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4CF-C0F2-4C7E-ADBB-1303A9A0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67C2-2122-44CB-96CA-24E65ABE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8A60-1DED-4A82-BE1B-2C35DE90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8ADC-CFFD-4E36-811E-771DA438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2210-F60F-4561-A3E8-6861782D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2DBF-8EF4-4CD1-BD58-3BA765A1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532E-01A4-4387-A7A0-DA303684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0A19-1DF0-46CF-83C9-49CD56A6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295-8354-4FC5-B5CE-37D9BC72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7235-7AD8-4491-BEB8-04F6FB2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BE76-32CF-4C03-AD81-D8E3C86B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F2E0-942A-4B23-93AE-8FADDC4B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ADD4-1C36-4CE3-B29C-8953E234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CBF1-ABCE-4EFC-ADC0-3F6107D7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5A4-2A01-4615-86E9-3A1AB12C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1A8-3E4B-4DEC-AE22-AFEFF903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CC0-88C3-4672-8997-A20BB941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A46-968D-489A-8B78-4341F8C9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EF9-DB55-4252-9AE1-7FF2BD84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6AC-D212-4229-B9CC-4004968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85C-D4A4-4910-84FF-1C39C6B8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F9E-EC8B-4C5F-BFE8-54163CFBACEF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1158-C366-4576-8388-14E76657846D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eploying Mesh Networks through Public Transpor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36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 Huang, J Crowcroft,, I Wassell, Wenjun 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boratory of Communication Enginee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obileMAN Project:IST 2001 38113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-108000" y="508464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2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ical Feasibil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bility model based on Manhattan Grid System with realistic movement and traffic 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dio propagation model for microcells, based on a recursive path loss model with multipath fading and interference from other no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2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Evalu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ance evaluation made based on outage durations, connectivity, maximum outage time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ed relationships between performance and number of nodes, connection times, traffic congestion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7280" y="0"/>
            <a:ext cx="471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7280" y="1052640"/>
            <a:ext cx="4537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s us to establish physical bound for network connectivity independent of upper layer protoco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stem is unsuitable for real time communication, however feasible for dispatch type applic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a number of business and technical risks to consider, however serves to highlight considerations for this type of applic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38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bile Ad Hoc Networks (MANETs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27640" y="167328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st of a set of self-organized, decentralized, mobile hosts that roam at will and communicate directly with each 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ropose a novel application scenario in the form of a MANET dispatch system for tax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95280" y="2276640"/>
          <a:ext cx="4033800" cy="27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4033800" cy="27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Business Scenar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llab with SUPSI-DS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e of Wiki to elicit user prefer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3 detailed business cases devised f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Taxi Cab Radio Disp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Ad Hoc Gam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Shopping Mall Messaging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alistic Business Case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at retain p2p/ad hoc n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reak down to stakehol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vi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isk analysis (for busi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curity requirements analysi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or customer and business ration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 find requirements for incentives/cooperation (reput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cab operation’s primary play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1600200"/>
            <a:ext cx="6857280" cy="4343400"/>
            <a:chOff x="914400" y="1600200"/>
            <a:chExt cx="6857280" cy="4343400"/>
          </a:xfrm>
        </p:grpSpPr>
        <p:grpSp>
          <p:nvGrpSpPr>
            <p:cNvPr id="170" name=""/>
            <p:cNvGrpSpPr/>
            <p:nvPr/>
          </p:nvGrpSpPr>
          <p:grpSpPr>
            <a:xfrm>
              <a:off x="5166360" y="4952160"/>
              <a:ext cx="2605320" cy="991440"/>
              <a:chOff x="5166360" y="4952160"/>
              <a:chExt cx="2605320" cy="99144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6360" y="51217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66360" y="5518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88960" y="4952160"/>
                <a:ext cx="1782720" cy="9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mone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inform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914400" y="1600200"/>
              <a:ext cx="6035040" cy="4343040"/>
              <a:chOff x="914400" y="1600200"/>
              <a:chExt cx="6035040" cy="4343040"/>
            </a:xfrm>
          </p:grpSpPr>
          <p:sp>
            <p:nvSpPr>
              <p:cNvPr id="175" name=""/>
              <p:cNvSpPr/>
              <p:nvPr/>
            </p:nvSpPr>
            <p:spPr>
              <a:xfrm>
                <a:off x="914400" y="1600200"/>
                <a:ext cx="6035040" cy="3116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63040" y="2025000"/>
                <a:ext cx="123444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810"/>
                    </a:solidFill>
                    <a:latin typeface="Arial Unicode MS"/>
                  </a:rPr>
                  <a:t>Custome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92040" y="1693800"/>
                <a:ext cx="109728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Softwa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Suppli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20440" y="1693800"/>
                <a:ext cx="109728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H/W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Suppli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206240" y="24015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5715000" y="24015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3520440" y="3110400"/>
                <a:ext cx="3154680" cy="1274760"/>
                <a:chOff x="3520440" y="3110400"/>
                <a:chExt cx="3154680" cy="1274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520440" y="3110400"/>
                  <a:ext cx="3154680" cy="127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Cab Company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03520" y="3535200"/>
                  <a:ext cx="1234440" cy="56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810"/>
                      </a:solidFill>
                      <a:latin typeface="Verdana"/>
                    </a:rPr>
                    <a:t>Dispatcher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657600" y="3535200"/>
                  <a:ext cx="1234440" cy="56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Verdana"/>
                    </a:rPr>
                    <a:t>Cab driv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92040" y="3818520"/>
                  <a:ext cx="4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051560" y="5093640"/>
                <a:ext cx="1508760" cy="84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Internet Service Provider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810"/>
                    </a:solidFill>
                    <a:latin typeface="Verdana"/>
                  </a:rPr>
                  <a:t>(with access point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6120" y="5093640"/>
                <a:ext cx="1645920" cy="84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Credit card service provider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810"/>
                    </a:solidFill>
                    <a:latin typeface="Verdana"/>
                  </a:rPr>
                  <a:t>(with credit card facility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1588320" y="2756160"/>
                <a:ext cx="22680" cy="23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828440" y="2768040"/>
                <a:ext cx="22680" cy="231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97480" y="2401920"/>
                <a:ext cx="123444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31840" y="4095000"/>
                <a:ext cx="44568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5166360" y="4101480"/>
                <a:ext cx="41112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23160" y="2741760"/>
                <a:ext cx="1097280" cy="235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206240" y="438480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80560" y="4101480"/>
                <a:ext cx="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2148840" y="3534840"/>
                <a:ext cx="0" cy="155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342880" y="3936600"/>
                <a:ext cx="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354400" y="3960360"/>
                <a:ext cx="11656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48840" y="35352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126480" y="4101480"/>
                <a:ext cx="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ad hoc gaming on ubiquitous devices scenario’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76360" y="2637000"/>
            <a:ext cx="6400800" cy="2568240"/>
            <a:chOff x="1476360" y="2637000"/>
            <a:chExt cx="6400800" cy="2568240"/>
          </a:xfrm>
        </p:grpSpPr>
        <p:grpSp>
          <p:nvGrpSpPr>
            <p:cNvPr id="203" name=""/>
            <p:cNvGrpSpPr/>
            <p:nvPr/>
          </p:nvGrpSpPr>
          <p:grpSpPr>
            <a:xfrm>
              <a:off x="5705280" y="2979720"/>
              <a:ext cx="2171880" cy="799920"/>
              <a:chOff x="5705280" y="2979720"/>
              <a:chExt cx="2171880" cy="799920"/>
            </a:xfrm>
          </p:grpSpPr>
          <p:sp>
            <p:nvSpPr>
              <p:cNvPr id="204" name=""/>
              <p:cNvSpPr/>
              <p:nvPr/>
            </p:nvSpPr>
            <p:spPr>
              <a:xfrm>
                <a:off x="5705280" y="31165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05280" y="34369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91080" y="2979720"/>
                <a:ext cx="148608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mone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inform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476360" y="2637000"/>
              <a:ext cx="4114800" cy="256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04600" y="286560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Hardware Manufactur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7648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End Custo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76480" y="286560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Content Develo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0460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Hardware Retail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0680" y="3147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171600" y="3700080"/>
              <a:ext cx="7333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90680" y="4633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190680" y="3490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1976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Game Service Provid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62560" y="458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362560" y="37033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370480" y="44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381040" y="37411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retail mall based scenari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03280" y="1773360"/>
            <a:ext cx="6400080" cy="3886200"/>
            <a:chOff x="1403280" y="1773360"/>
            <a:chExt cx="6400080" cy="3886200"/>
          </a:xfrm>
        </p:grpSpPr>
        <p:grpSp>
          <p:nvGrpSpPr>
            <p:cNvPr id="223" name=""/>
            <p:cNvGrpSpPr/>
            <p:nvPr/>
          </p:nvGrpSpPr>
          <p:grpSpPr>
            <a:xfrm>
              <a:off x="1403280" y="1773360"/>
              <a:ext cx="6400080" cy="3886200"/>
              <a:chOff x="1403280" y="1773360"/>
              <a:chExt cx="6400080" cy="38862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632200" y="4288680"/>
                <a:ext cx="2171160" cy="799920"/>
                <a:chOff x="5632200" y="4288680"/>
                <a:chExt cx="2171160" cy="799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632200" y="4425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2200" y="47458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17640" y="4288680"/>
                  <a:ext cx="1485720" cy="79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Flow of money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Flow of informat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403280" y="1773360"/>
                <a:ext cx="6172200" cy="3886200"/>
                <a:chOff x="1403280" y="1773360"/>
                <a:chExt cx="6172200" cy="38862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403280" y="1773360"/>
                  <a:ext cx="4114800" cy="3886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31520" y="200196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Hardware Manufactur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803400" y="325980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Content Publish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03400" y="200196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Content Develop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31520" y="325980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Hardware and Software Retail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117600" y="22845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17600" y="37702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3117240" y="26272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307960" y="2877840"/>
                  <a:ext cx="0" cy="3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45920" y="451728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End Custom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3993840" y="41742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4260600" y="2878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4660920" y="2878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117600" y="34884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2774880" y="414576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003480" y="417420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746680" y="3144960"/>
                  <a:ext cx="1828800" cy="8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810"/>
                      </a:solidFill>
                      <a:latin typeface="Times New Roman"/>
                    </a:rPr>
                    <a:t>Mall get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810"/>
                      </a:solidFill>
                      <a:latin typeface="Times New Roman"/>
                    </a:rPr>
                    <a:t>More custom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 flipH="1">
              <a:off x="3117240" y="2436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ore Details on Ad Hoc Network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axi Dispatch Sy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ails in Mobihoc pap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mobility (from “Panther”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RF propag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lication is decentralis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p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aces expensive central alternat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ancial Feasibil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53708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ysing the value proposition for primary p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ng technolog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st comparis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s likely to be cheaper and easier to roll 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6-02-12T12:32:11Z</dcterms:modified>
  <cp:revision>90</cp:revision>
  <dc:subject/>
  <dc:title>Ultra Wideband Radio Technology: Potential &amp; Challenges Ahead</dc:title>
</cp:coreProperties>
</file>