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A8C-7AF6-45D3-9AFC-0BD94CB16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72C-94DD-43D4-BA63-AD87E5C0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8AB-07A6-4C15-A501-97EE96D9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D2B-FF5D-46DC-9DDD-7943788AF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E17C-DDEC-4CE0-8D12-24C9EDB4A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B06A-AA36-4AF7-B5B1-EBB62431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D6C0-91AE-4139-8B43-9354AB7BE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3D4F-BA4A-4BE9-937A-FED0D6A9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E5C4-A19E-4CA8-95AC-0D16EC61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4644-3EE4-4CDB-871E-5566CBAD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DF4F-A5E5-4117-B6CD-1A469C71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B187-5A6C-41EE-A320-F0F188D4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1B4C-8FEA-4522-B914-0985417A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5D3A7-15EA-401F-9AF9-BCE81309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FED34-085B-4560-B5E3-7EE68522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1AF8-33AA-4439-A8CA-5EDE762C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D45A4-0D42-4E8C-8B3B-469CB49E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731A-C310-4299-AB29-D677B726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5FB8-A91A-443B-B45B-3045343D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2C53-096F-4D0F-98B2-3586B3D04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41A-DB46-42F1-B0DF-5F6E688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5E0B-6141-4464-95E0-77EA7FE6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174C-7C9B-4B5B-9F82-FE10F25BB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4947-A572-4DEB-8C7A-20F0A6FE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E6FB-496F-4A6D-8530-53F90D2ED2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9EE0-0FF1-4483-A757-7DEED34F6C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rchitectural Principles for Architectures - an elicitation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 Crowcrof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mputer Laboratory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niversity of Cambrid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400800" y="609300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1: What are the architectural problems in the Internet &amp; why are they showing up now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sure if there are any - the Internet works for 95% of what people want it to do, and I don’t want to replace gsm in my phone with voip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r do I want to fit TCP/IP to anything else quite frankly…s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 am going to ignore the Internet for the purposes of Architectural Elicit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stead, move to (and modify) Q2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: A Clean Slate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for the Internet Applications or Usage, but for new stuff - e.g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portunistic Networking, related 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ay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sruption Tolerant Network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N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these, what 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a: Requirement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2b Usage assumptions?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2a&amp;b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portunitistic Nets (Ons) are partly an instance of DT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n’t have e2e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onnectivity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or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feedb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ET,DTNs,ONs all share this, and also, typically, lack of seperation of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lay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does this tell us about architectur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rchitectural Elicit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P, X.25, XNS, DNS, SNA… all OSI mod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pen Systems Interconnection used 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organising principl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of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laye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is principle is not useful in ON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ut e2e principle is -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.g. in extreme (have no network layer so no routing in net - but can have end system routing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John Wroclawski’s point…partial re-use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Q3: Evolve or Overlay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, and No, at least not for ONs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P is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verlays are alien to 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 some definition of 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interesting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re’s no interesting research in these new requirement areas that can be done in IP or Overlay (but see next for mitigating comment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side: Plea for Internet Experimental Ethics Committe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here’s still a lot of interesting Internet Architecture Evolution work to do - much of it is in scaling routing, DOS resistence, better worm prevention, etc etc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 cannot test any hypothesis in today’s Internet is governed by short term, litigious-minded, and often inappropriate knee-jerk respons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ed to fix this URGENT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kehom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 requirements need new architectures that deviate radically from Inter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 architectural principles reus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f you must do evolution of Internet Arch, need to be able to test ideas - need a richer world than todays to let you do it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3:09:27Z</dcterms:created>
  <dc:creator>e l g a n</dc:creator>
  <dc:description/>
  <dc:language>en-US</dc:language>
  <cp:lastModifiedBy>Jon Crowcroft</cp:lastModifiedBy>
  <dcterms:modified xsi:type="dcterms:W3CDTF">2004-08-30T18:19:35Z</dcterms:modified>
  <cp:revision>67</cp:revision>
  <dc:subject/>
  <dc:title>Ultra Wideband Radio Technology: Potential &amp; Challenges Ahead</dc:title>
</cp:coreProperties>
</file>