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B89D-3F0F-45DC-82EA-148BA8B6A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2BB9-848C-4FE6-8696-A61F7E9D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9031-B4A5-4C9E-8184-5D43B48C6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7D12-8E48-47D6-B1B6-6A7BCD720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EEA0-A802-404A-B3BE-62FC2081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125A-0E29-4D20-B393-BC1EF9F2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5DE1-510C-4326-B95D-48D07722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C16C-ED7B-4A32-826B-6336ED19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309D-6A25-4121-9F44-12CBE5D0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0395-98EE-4D6E-B6E4-4BFD8165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4F82-D6C3-482D-AC39-195C6F75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E137-8809-44E1-9931-645585BE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6759-41B3-4550-8363-D774691A8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ocols for Decentralised Spectrum Co-Alloc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n Crowcr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of Cam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cl.cam.ac.uk/~jac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can be divided into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, social, political, geographic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common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a-community trust much higher than inter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communities align social and geo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s are not just about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scales vary from minutes to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etime of use or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ety of Constra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rain, Vehicles,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ather, mobility, traffic matrices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wer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yment/tokens need to be unforge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double sp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onimity versus trace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ributed Reservation v. Decentralised Congestion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ource Reservation Sch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wireline networks (rsvp, q2931) interface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mission control,  policy management, traffic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I t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oute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act a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atekeepe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resource (which is lin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gestion Control Sch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tributed dual optimisation (TCP/ECN or ABR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systems adapt to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twork signals end systems (through loss or EC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rel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C protocols traditionally resource sh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ention, hidden terminal etc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fficiency considerations (not gre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MA/CA is quite like TCP, b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escales of feedback quite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radio and software defined ra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oose modulation, coding, CRC, 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wnloaded, or selected, based on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nse environment (congnitive) or ask orac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 constrai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ual antennae, power budget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undrum: where to star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ology: give me all the capacity for my download then go to next user, or give me 1/nth of the capacity all the tim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single optimum operating point for given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fferent timescales mean that sensing is not going to detect future (or recent) potential contending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ong continuity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&gt; Need to keep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&gt; Need infrastructure for reposi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a cost, but given geograph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also use repository for (signed)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token validation (ecash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role for incumbents to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haul (c.f. multihop horizon limit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:-- Hybridized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centralised managed thru central neutral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then use reservation protocols and auctions and other mechanisms to allocate per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use center to offer checks and balances (polices spectrum “bill of rights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use fully decentralised techniques within power budget and spectrum allocation for re-al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13:47:09Z</dcterms:created>
  <dc:creator>daniel</dc:creator>
  <dc:description/>
  <dc:language>en-US</dc:language>
  <cp:lastModifiedBy>daniel</cp:lastModifiedBy>
  <dcterms:modified xsi:type="dcterms:W3CDTF">2005-11-06T14:56:53Z</dcterms:modified>
  <cp:revision>11</cp:revision>
  <dc:subject/>
  <dc:title>Protocols for Decentralised Spectrum Co-Allocation </dc:title>
</cp:coreProperties>
</file>