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B78E4-F943-4B15-A95F-C086AFD39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9D4C8-8AA1-4620-9CC6-649CDE42A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2A38D-B3BB-4B99-9F3B-7336A01DE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1FF18-2CA7-4ABB-B5E9-EFE0FBA8B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D015A-7D9E-490D-82EC-B8A37EB8E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E22ED-7FE7-442D-BA4A-DCC3DD95E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2EA41-187E-491A-B2A4-C9648124E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26523-EC59-4E28-B1C6-938D8BA94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FD201-D5E8-4305-86C3-39E055D55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91D7F-29D7-4FFC-9CE2-F318A087C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99294-6B8E-4678-97EC-658A03617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DA806-1AE4-4774-842E-003A840A0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764D0-6625-4D8B-8111-1D21A223ED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tocols for Decentralised Spectrum Co-Alloc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n Crowcro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y of Cambrid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er 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www.cl.cam.ac.uk/~jac2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ssump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ld can be divided into commun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nomic, social, political, geographic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common inter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ra-community trust much higher than inter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communities align social and geo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nomics are not just about effici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mescales vary from minutes to ye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fetime of use or commun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riety of Constrai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ynam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rrain, Vehicles, Po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eather, mobility, traffic matrices,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afe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ower lim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ayment/tokens need to be unforge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o double spe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onimity versus trace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stributed Reservation v. Decentralised Congestion Contro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source Reservation Sche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wireline networks (rsvp, q2931) interface 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dmission control,  policy management, traffic engine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PI to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router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, act as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gatekeeper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to resource (which is link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gestion Control Sche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stributed dual optimisation (TCP/ECN or ABR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d systems adapt to sig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etwork signals end systems (through loss or EC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irel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C protocols traditionally resource sh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tention, hidden terminal etc e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fficiency considerations (not grea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MA/CA is quite like TCP, b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imescales of feedback quite diffe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oftware radio and software defined rad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hoose modulation, coding, CRC, MA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ownloaded, or selected, based on 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nse environment (congnitive) or ask oracl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ther constrai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tual antennae, power budget e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undrum: where to star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ology: give me all the capacity for my download then go to next user, or give me 1/nth of the capacity all the tim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 single optimum operating point for given commun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fferent timescales mean that sensing is not going to detect future (or recent) potential contending commun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rong continuity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=&gt; Need to keep st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=&gt; Need infrastructure for reposito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as a cost, but given geography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n also use repository for (signed)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token validation (ecash et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role for incumbents to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haul (c.f. multihop horizon limitatio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:-- Hybridized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ecentralised managed thru central neutral ag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n then use reservation protocols and auctions and other mechanisms to allocate per commun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n use center to offer checks and balances (polices spectrum “bill of rights”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n use fully decentralised techniques within power budget and spectrum allocation for re-allo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6T13:47:09Z</dcterms:created>
  <dc:creator>daniel</dc:creator>
  <dc:description/>
  <dc:language>en-US</dc:language>
  <cp:lastModifiedBy>daniel</cp:lastModifiedBy>
  <dcterms:modified xsi:type="dcterms:W3CDTF">2005-11-06T14:56:53Z</dcterms:modified>
  <cp:revision>11</cp:revision>
  <dc:subject/>
  <dc:title>Protocols for Decentralised Spectrum Co-Allocation </dc:title>
</cp:coreProperties>
</file>