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BE4-F495-4CBC-9CE8-E80C4345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F61-2F21-480B-AA3C-F8E88FD6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6CC-08C1-4A36-8DBA-EF49B1C1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A1F-D783-45D8-A40E-7CA3D238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0B6-DB88-4E83-9962-3FF42193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183-4C63-4146-BA02-70CBFF6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7E5-71B8-4105-8491-BCD64BF2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A50-7665-454D-8BAF-9704C63C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245-5266-4F56-93DC-6C9A9D5A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9C0-3D95-4A7A-B22C-CE8D7FC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8FA-2874-4495-9A43-BB51043B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DCA-73C9-49C8-8C78-3C56813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97E-F04D-4F01-8E5C-B4D46FF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E5C-82E5-4CD9-A799-0F8E116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324120"/>
            <a:ext cx="752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14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TU Darmsta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19C-5504-4E01-9518-DCB0AD86A0D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47440" y="4212720"/>
            <a:ext cx="579780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4F0-2BDE-4B18-82E9-6419FFCD74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ECD6C-685E-453A-A828-85BBCA271D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2BB-7A74-4631-A06F-C098949954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A3C37-84CD-4B31-9F5E-E8F541CD03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91A-95AC-4F9F-A931-C6AE42064F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78F85-B362-4B77-BBC2-E57BBD121A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155-35F5-483A-B298-91BE6FD2D0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BF6A8-2C78-4679-BD90-27E7C50631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A2D-5094-489C-8F59-F9FADD3DA6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9E0B3-2A13-45BD-AD2E-A58E368381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0B5-F5AC-42DC-AFAE-CA5D874D4C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822A3-8F7C-47CE-AFF8-D38430C38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72D-023B-440B-B9C8-E15EE2CF9C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91F61-A047-45A6-8371-B1CFFD45EE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902-3AC2-434B-822E-956D9CAFB7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CF72E-93D8-4189-A92E-339FCA241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2320" y="11970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6200" y="37638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708-07FB-426F-B83A-5D52DA52EB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A9D0D-3115-4449-B97A-8402361881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005-0DC0-4754-97B0-6B53825A1F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854A9-9EC4-425D-939F-3AE956F51A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E5B-B880-4F53-9235-1DB7F7224E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6742C-22AB-4E64-B192-F0493A546F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A70-6D83-4EA5-934D-1E39707808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C6B43-0DFF-4DE1-9091-FDEFF661C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C65-BD80-4FC0-ACFC-0D92C68FAD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376DE-8B29-4D2F-A2E0-7A205B7062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5E7-EAA3-4322-8177-9126F90B56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92357-4B5A-4CE9-8D36-C7898F3A99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560-4D23-4CF8-9D12-A9F7B2B2BC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C362D-200D-4120-BD71-0352A09C42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F98-0C6E-41DD-9905-B20981CE99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E62C3-1E48-4376-88D2-B2E08ADE4D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E67-B8D0-403C-9047-2F0E8228D1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0CD10-7F82-4B55-B8E4-023D1F912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07F-F970-40A3-8AC7-E0DE88355E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D32DB-E433-48D9-A944-54EFDDF54C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B08-136E-4C08-9151-6F78B5015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890C6-5F05-4074-AE23-660A386065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EBE-F535-4F55-80BA-A00FDB5AD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23F8C-324C-408F-8614-D90F24A40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C0A-D99E-4A28-AD9A-097184A448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8C17E-5948-4A5A-A230-C4E7026AE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6A9-F6F0-4397-A8F2-FF84029143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32312-8512-46C7-8E81-862875CBEB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2800" y="4684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9080" y="2017800"/>
            <a:ext cx="30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52F-2F65-46AC-9058-EB4666A192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AED52-0702-4661-A7D4-D651D5E099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6-12T09:03:31Z</dcterms:modified>
  <cp:revision>250</cp:revision>
  <dc:subject/>
  <dc:title>Haggle Work </dc:title>
</cp:coreProperties>
</file>