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2714-7344-421C-A005-F276019AA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s already have 500 computers in (40% of car co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BB27-B69E-4FBA-9E82-79F1A6B8A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90A1-615B-40EB-BF84-5465A81F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FA22-2360-43D0-B462-33BDE155B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30F4-5CBF-45D6-AFAE-475C4CC06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759C-DC9F-4587-93DD-C51C44C2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9B9C-5149-44E1-A79E-7EB00E99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EBB4-4DF4-4623-877F-DCA574CD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8D1F-017C-4D18-B7D8-64E42D2B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283F-E9BE-4A73-AD96-9832F9EF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2473-D1AE-440E-9425-7F8AE42A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DDE9-B1F3-4D4D-8BBF-3EF896E8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7EB8-65B7-4BF0-A098-24D55AB5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amdcen School for Girls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AD00-FAE6-4D60-B4B0-3AB501F76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 Future of Computing and Commun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on Crowcro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Computer Labora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versity of Cambri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ttp://www.cl.cam.ac.uk/~jac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1295280" y="304920"/>
            <a:ext cx="5867280" cy="89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398F-2A04-4242-B349-F3A2790E2E0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s of interaction without physical de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I put the computer away from s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wall of the hous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door of the ca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heel of a shoe,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ave it into your shirt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 will you interact with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k Victoria Bellotti at Apple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peech, gesture, context - no keyboard, no mouse, no scr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5EA1-253E-4646-814B-9F18656C7E6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y 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 havnt mentioned program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 would like to empower everyon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wn and control thes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derstand how the go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 able to use/configure/re-purpose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means we need an accesible programm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 like VCR, DVD, Skybox, Window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mething new? Yes, but what ? Any ide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E5F2-BB42-42B9-8E70-A53055FE8DA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+2 go acr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(or 2) go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+5 go acr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(or 1) go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+2 go across again: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al thinking, logic or comput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8534-1401-4DCB-9E07-596B3EEC1DE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 di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1979, Computer Sci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BA in Natural Sciences in Cambri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2 years as program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MSc at U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20 years sentence the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back to Cambridge…since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5582-3576-4192-8F1D-C5635E8E7D9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 d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uting: the Science of Problem Sol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t on a formal, but also practical foo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ystems is the business of building th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 just gadgets, but the world (ecosystem) that supports ga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.g. The Internet, The Web, Google, iTunes, Amazon, as well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Cs, Browsers, Searching/Maps, MP3, secure online payment etc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EC6D-38F7-47A0-867E-DCF73FFC666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people think CS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people want to cross a narrow rope bridge at 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have 1 torch, and only 2 people can fit on the bridge safely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lowest takes 10 mins, the next slowest 5, the next slowest 2, and the fastest 1 min. You need to take the torch back for the next 2 to cr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get everyone across in 17 mins. 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7555-DD1E-4317-8C1B-7857F2632FB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 lot of Computing is Invisi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rol Goble (A Prof at Manchester) sa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ever we do something right in computing, it becomes invisible to the publi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nk about wireless internet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 music down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 cell phones or ipods, or … …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E8A6-DD09-4809-A67D-D9CFA384546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ensible to envi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nd is that computer, storage and 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in capacity every year or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ost 1/2 as much each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in 10 years, will have hand held movie device with 15000 films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carry it? Why not have 100 of them if they cost 1 eur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else will we dream u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67B6-42FB-4B45-8304-388E7707A12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e are going to d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 the high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rots and pointy sti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health/wellbeing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h v. Psychology of tr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bed computing in the fab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s talk about just these 3 examples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26EF-6919-49C1-9EF3-2EAE29A7F45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omate High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000 people a year die in the UK on ro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st accidents don’t have to happen if car does collision avoidance-  simpler is to control gap between c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rivers don’t like it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arn even worse habits (viz ABS, Airbags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urance companies d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y not put a pointy stick in the middle of the steering whe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ad people don’t learn much :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598C-B36D-4F68-9CC8-3549EF0B1F7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rust in online medical inter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uld you let a machine make decisions about your medical treatmen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ver the net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om another count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out a “human in the loop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I trust the doctor, and the doctor trusts the program, should I trust the progra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ndy Hall (prof at Southampton) sai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th meets psychology (math loses: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249B-518B-44E0-874B-65F4FF39C03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6:41:37Z</dcterms:created>
  <dc:creator>jon</dc:creator>
  <dc:description/>
  <dc:language>en-US</dc:language>
  <cp:lastModifiedBy>Jon Crowcroft</cp:lastModifiedBy>
  <dcterms:modified xsi:type="dcterms:W3CDTF">2006-03-19T19:43:30Z</dcterms:modified>
  <cp:revision>29</cp:revision>
  <dc:subject/>
  <dc:title>Scaleable Ubiquitous Systems</dc:title>
</cp:coreProperties>
</file>