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D7A92-C421-4B1E-A514-8850FE4DAD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rs already have 500 computers in (40% of car cos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AD2C-B44D-4C39-B0FF-EB83B832B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B3DB-FC85-4974-9B9D-DEE532EF4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6B46-D204-4BF0-8BA4-316BB1ADF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B013-B9DA-49EC-A0D8-34281C1B7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0A94-87CE-4FD0-BC2B-7AD734F2C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DDDE-7039-49C4-BDD2-67D231B52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CD14-DC9C-48F2-9C0A-A7765E9AF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0B54-3C4D-4FCD-AA84-348E18674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C5BD-147C-46CC-82FF-E752E9B0C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6BDE-76C7-484D-B667-C9196665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7976-5A18-497A-ACDB-87E7EAFC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B23C-ED69-4454-AB6B-5B41C9C3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amdcen School for Girls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4A2E0-FF46-44BD-A128-2BEF144492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e Future of Computing and Commun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Jon Crowcro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Computer Labora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niversity of Cambri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ttp://www.cl.cam.ac.uk/~jac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1295280" y="304920"/>
            <a:ext cx="5867280" cy="89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DEE7-FAA8-45DC-920C-A6C82E92D336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s of interaction without physical de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I put the computer away from s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wall of the hous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door of the ca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heel of a shoe,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ave it into your shirt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ow will you interact with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k Victoria Bellotti at Apple: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peech, gesture, context - no keyboard, no mouse, no scr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1B58-C6FE-4F22-AB55-9089537C78E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y questio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 havnt mentioned program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 would like to empower everyone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wn and control thes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derstand how the go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 able to use/configure/re-purpose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means we need an accesible programm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t like VCR, DVD, Skybox, Window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omething new? Yes, but what ? Any ide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772A-23FE-4AFB-9414-5302ABDA913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+2 go acr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(or 2) go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+5 go acr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(or 1) go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+2 go across again: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ral thinking, logic or comput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23F3-B2AF-4FDD-8E56-074CB413FDF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 di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1979, Computer Scie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d BA in Natural Sciences in Cambri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2 years as program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MSc at U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20 years sentence ther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back to Cambridge…since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B3B1-B5CF-4610-9B73-C12007688AD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 do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puting: the Science of Problem Sol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ut on a formal, but also practical foo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ystems is the business of building th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t just gadgets, but the world (ecosystem) that supports gad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.g. The Internet, The Web, Google, iTunes, Amazon, as well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Cs, Browsers, Searching/Maps, MP3, secure online payment etc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57CE-8242-425D-981B-3DD2418E643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people think CS i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 people want to cross a narrow rope bridge at 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have 1 torch, and only 2 people can fit on the bridge safely at o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lowest takes 10 mins, the next slowest 5, the next slowest 2, and the fastest 1 min. You need to take the torch back for the next 2 to cr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an get everyone across in 17 mins. 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3768-4F96-483B-889D-8C8C8ADE67E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 lot of Computing is Invisi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rol Goble (A Prof at Manchester) sa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enever we do something right in computing, it becomes invisible to the public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nk about wireless internet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r music downlo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r cell phones or ipods, or … …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CC91-ADF2-495F-98C0-66FD3EE8F5A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sensible to envis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nd is that computer, storage and 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ble in capacity every year or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cost 1/2 as much each 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in 10 years, will have hand held movie device with 15000 films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carry it? Why not have 100 of them if they cost 1 eur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else will we dream u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5512-BAE2-4D61-9903-D0748AAB773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we are going to do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e the high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rots and pointy sti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ine health/wellbeing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h v. Psychology of tr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bed computing in the fabr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on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s talk about just these 3 examples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9800-46D2-44AA-B4B1-71005621BAF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tomate Highw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3000 people a year die in the UK on ro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st accidents don’t have to happen if car does collision avoidance-  simpler is to control gap between c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rivers don’t like it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arn even worse habits (viz ABS, Airbags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surance companies d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y not put a pointy stick in the middle of the steering whee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ad people don’t learn much :-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B253-53DB-489C-80A4-AF9379D2458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rust in online medical interv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uld you let a machine make decisions about your medical treatment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ver the net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rom another countr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thout a “human in the loop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I trust the doctor, and the doctor trusts the program, should I trust the progra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ndy Hall (prof at Southampton) sai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th meets psychology (math loses:-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E8C3-4568-4F2D-8DEF-2D147577EEC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6:41:37Z</dcterms:created>
  <dc:creator>jon</dc:creator>
  <dc:description/>
  <dc:language>en-US</dc:language>
  <cp:lastModifiedBy>Jon Crowcroft</cp:lastModifiedBy>
  <dcterms:modified xsi:type="dcterms:W3CDTF">2006-03-19T19:43:30Z</dcterms:modified>
  <cp:revision>29</cp:revision>
  <dc:subject/>
  <dc:title>Scaleable Ubiquitous Systems</dc:title>
</cp:coreProperties>
</file>