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180C-915F-4946-8056-EE7B8B37A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A846-5373-4A8F-AB46-F688393A9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701-6296-4EFD-8609-0416B4B0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CF8-0910-46FE-AB7D-B509A360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036-BAC9-42E7-8C2C-DA0FD27B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946-9DC8-4290-9B38-E90E68CC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27C-2FD4-4263-B6FF-772B0472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F3F-2EE2-4A76-8E34-7B2176FC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D1E-9748-42D2-94AD-045DBCE0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4DC-8256-4462-BE9C-CEB565F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581-3E43-4344-931D-425CFA41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86B-10B9-486C-A88E-CFC79EE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B5D-69E7-4B4A-A458-8A7E2F17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48D-D07F-49BD-A424-6281BB6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F652-DF76-4DCE-827D-21B4E5367B39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2263-58B3-4BD7-A52E-FF735B9DDC2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36640" y="4212720"/>
            <a:ext cx="58006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F8F-41A3-419B-9A28-54ABB10EA4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66E9C-18B5-484D-A717-BEA6610EE4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30D-B30B-409D-B54E-732EDFC723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DA317-D3E1-411C-B2CA-E218DEC338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D8B-DAE7-4BF8-A00E-3A9ADCD7FB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5399D-48D1-4582-A1D3-66C2694154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0BB-CAC8-4736-91FA-58E05ABE08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28676-EDBB-4835-819D-BA0C53E4D5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D0F-B590-4F6E-A02D-5957E45781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0D04A-7A49-4121-A925-5AD3E562AA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888-EEFC-433E-AAE0-2EE7B3C3CB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79362-831C-4FA1-8393-6898054EBD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DFD-A97A-4D8B-87DA-F929E083CF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CE6B9-668A-46F8-ADDB-CBD3BC7605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7C9-3197-40A2-AA3A-C62F89B626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8091F-5006-45B0-9C3E-2DFA84CE34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FD6-9BEC-4C1A-9E6D-EC4FA2BBC3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00F30-8988-4767-9160-DB64802066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D2D-EDB8-44A6-9FEE-409DBC0C10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1395C-B7AE-4B93-B95C-8C39293CBB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B0A-90C0-4671-9BAC-00C3DDC250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F4DC3-DA6A-4ADE-975B-8BB15F244C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31E-7A61-49FB-BF78-CA7A401D3D5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11907-5DEB-4305-BFEE-A73BB262D9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3A4-B859-4FBB-9B89-4EDB44718F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B97E1-D2A0-4C33-9F1A-C95E0BFA98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586-B177-40ED-9D5F-24ACEE95DA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4B7D7-5909-44E6-A236-8C3CDF01B4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ED9-6540-4EB5-8A9C-2EA2448FA2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31FF5-42AB-45D0-9254-AAE2721778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603-718D-450E-9233-866B447DAF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C33FA-5408-40C4-BB82-A244E1B317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CB7-215C-4799-A557-AB6AE435C2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8BF77-3E88-44FA-87F7-54EB48D872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751E-01E5-444B-9C74-F0F969D2E8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A279-E654-4547-9549-3F28A5A8C1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E84-B19A-4001-876E-C929B9A7CF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F8658-6C5A-4401-8D92-2E32976D1F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636-3082-442C-AA11-3B3D093440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E2E83-3E5E-4F6D-BD6F-DDD0AF2654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295-AACF-461A-8495-38C316C74F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7EAF0-F8D6-4DEA-ADD3-026731F04D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EC8-F17F-43FD-B637-6B4FDC0ED0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FE468-C777-41E7-83A8-BA2CCA2F1D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E2A-F102-4701-9CC2-6644583F1F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81CA5-51EF-4EC8-A7C0-A69579CC3F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5T14:35:44Z</dcterms:modified>
  <cp:revision>249</cp:revision>
  <dc:subject/>
  <dc:title>Haggle Work </dc:title>
</cp:coreProperties>
</file>