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A69E-32EE-49E6-99E4-76D166251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3A1A-4C01-400D-9A55-1AE3889EF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E672-18FD-440E-A643-179316762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868C-EAE0-43B9-BEED-B7D846B2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2612-1047-40F0-B413-08964A8FB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D9D3-4E87-4766-904C-6F8200DA2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7511-EA89-44F3-8388-71A30A4D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21F6-4B35-471D-A089-4DC48A2E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CECB-EF08-4EEF-A648-062B060F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F3C8-7428-4CF7-A6A4-0743BA11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9A73-5082-4658-ACEB-77FABF8D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A7DF-C7DE-407E-88DF-6596DF62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32D8-6C01-4086-9228-BD0EEDCE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9141-A532-419E-AE61-E52D14A4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8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3" marL="1884240" indent="-268200">
              <a:spcBef>
                <a:spcPts val="18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4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5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6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0A80-E653-4538-9193-7E255AABFD0B}" type="datetime">
              <a:rPr b="1" lang="en-US" sz="800" spc="-1" strike="noStrike">
                <a:solidFill>
                  <a:srgbClr val="ffffff"/>
                </a:solidFill>
                <a:latin typeface="Verdana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0286-E20E-4C3C-BD66-3F5AAB020871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2857680"/>
            <a:ext cx="807552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3" name="" descr="University of Cambridge"/>
          <p:cNvPicPr/>
          <p:nvPr/>
        </p:nvPicPr>
        <p:blipFill>
          <a:blip r:embed="rId2"/>
          <a:stretch/>
        </p:blipFill>
        <p:spPr>
          <a:xfrm>
            <a:off x="2627280" y="620640"/>
            <a:ext cx="4487760" cy="687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247680" indent="83484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indent="10429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indent="142236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560" y="1434960"/>
            <a:ext cx="8435880" cy="25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Network Architecture Research Considerations Or The Internet Conspiracy</a:t>
            </a:r>
            <a:br>
              <a:rPr sz="4100"/>
            </a:b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36640" y="4212720"/>
            <a:ext cx="5800680" cy="30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Jon Crowcroft (University of Cambrid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James Scott (xxx Research Cambrid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an Hui (University of Cambridge)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hristophe Diot (Thomson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Mothy Roscoe (ETH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A third way…post internet arch (“post” can bind to net or arch: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idestep the whole purist/pluralist debat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void an architecture completel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t’s unnecessar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t doesn’t address any problem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t may be counterproduct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et me give a detailed worked example from the Haggle Project :- 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ST-4-027918-I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F1AC-EB07-47D6-870D-035BBBB2ED9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A574EC-058A-4FA8-ABAC-BDFF658B8D9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The alternative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ere is no architectu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Just a bunch of computers with link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moves “semantic bottleneck” from application writer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Embrace “radically heterogeneous networking”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wo end-systems should be able to communicate even if they have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nothing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in common: protocols, address realms, semantics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B1A7-38A2-4AA6-9C53-188DB8CCAFA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049561-14B2-49BB-9FC5-F8F988EA850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Surely something must be common?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Of course: but it is only </a:t>
            </a:r>
            <a:r>
              <a:rPr b="0" i="1" lang="en-US" sz="2400" spc="-1" strike="noStrike">
                <a:solidFill>
                  <a:srgbClr val="0860a8"/>
                </a:solidFill>
                <a:latin typeface="Verdana"/>
              </a:rPr>
              <a:t>the application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hat what is common is that which is application-specifi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Even DTN has single overlay architectu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(bundle routing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3BFC-CE05-4198-991E-7E0A80C96BD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1889CC-6AC3-426A-8A56-EC2B37F9A02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Verdana"/>
              </a:rPr>
              <a:t>By way of example: </a:t>
            </a: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Haggle (== DTN bis): </a:t>
            </a:r>
            <a:br>
              <a:rPr sz="2800"/>
            </a:b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A framework for Networking Mobile Users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Wireline Networks: Sol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ET: Liqu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Haggle: Ga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age Phase Changes between these – reality of wireless is that we need to move fro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Sol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Liqu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ore often than we previously realize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3346-3E73-4921-9739-EBCF429B30D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3CE7D1-C978-4CA9-9C73-AB518F8E96F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Our approach: Haggle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98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lean slate design of networking subsystem for mobile device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Haggle: a layerless, but modular network architectur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signed around the needs of mobile user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ims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applications to take advantage of all types of data transfer (neighborhood, infrastructure, mobility)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networking endpoints to be specified by user-level naming schemes rather than node-specific network addresses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limited resources to be used efficiently by mobile devices, taking into account user-level priorities for tas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9DDE-0837-46D5-B01F-1E93314357E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BCEBB0-9497-4E48-B60E-7B8744A83E9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sign principles for Haggle</a:t>
            </a:r>
            <a:br>
              <a:rPr sz="3200"/>
            </a:b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(not an architecture, no no no:-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ward using application layer inform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e-lay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synchronous oper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o not assume pat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mpower intermediate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o not separate host from rou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user data kept network-visible, and req/resp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x==rx==store  - all equal class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loit all data transfer metho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Greed is goo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ke advantage of brief connection opportun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patience is goo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mpowered and informed resource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Know and tell what it cos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FA85-4314-4393-832E-41AF7BF370A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DDE9C4-36C7-4FE4-AE64-E63E58768FB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Current device software framework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2340000" y="4363920"/>
            <a:ext cx="2744640" cy="86544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Interface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40000" y="364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Delivery (IP)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40000" y="292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Protocol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40000" y="220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 logic + GU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40000" y="148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User Data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24000" y="2492280"/>
            <a:ext cx="144360" cy="129564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3280" y="285264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0720" y="393228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Networking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6920" y="181944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File System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24360" y="3789360"/>
            <a:ext cx="2448000" cy="863640"/>
          </a:xfrm>
          <a:prstGeom prst="wedgeRectCallout">
            <a:avLst>
              <a:gd name="adj1" fmla="val -135277"/>
              <a:gd name="adj2" fmla="val -50000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nchronous, node-centric AP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24360" y="1197000"/>
            <a:ext cx="2448000" cy="792000"/>
          </a:xfrm>
          <a:prstGeom prst="wedgeRectCallout">
            <a:avLst>
              <a:gd name="adj1" fmla="val -115629"/>
              <a:gd name="adj2" fmla="val 31361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olated from network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4360" y="2492280"/>
            <a:ext cx="2448000" cy="863640"/>
          </a:xfrm>
          <a:prstGeom prst="wedgeRectCallout">
            <a:avLst>
              <a:gd name="adj1" fmla="val -95134"/>
              <a:gd name="adj2" fmla="val 18013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p has two orthogonal part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24360" y="5013360"/>
            <a:ext cx="2448000" cy="863640"/>
          </a:xfrm>
          <a:prstGeom prst="wedgeRectCallout">
            <a:avLst>
              <a:gd name="adj1" fmla="val -138199"/>
              <a:gd name="adj2" fmla="val -124449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livery uses anonymous IP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3A00-4C6E-4AC3-AE66-BEAE0523C62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CEBFCC-E869-425F-A786-1E9CD17C4F6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Haggle Overview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8000" y="1414440"/>
            <a:ext cx="496872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lean-slate redesign of mobile n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pans MAC to application layers (inclusive), but is itself layerless – uses six “managers”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I is asynchronous and data-centri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e-and-forward architecture with data persisting inside Haggle not separate file sy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-layer protocols (SMTP, HTTP, etc) moved into Haggle rather than apps themselv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aming/addressing done in graphs instead of sta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management built-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735080" y="836640"/>
            <a:ext cx="4775040" cy="5146200"/>
            <a:chOff x="4735080" y="836640"/>
            <a:chExt cx="4775040" cy="5146200"/>
          </a:xfrm>
        </p:grpSpPr>
        <p:sp>
          <p:nvSpPr>
            <p:cNvPr id="151" name=""/>
            <p:cNvSpPr/>
            <p:nvPr/>
          </p:nvSpPr>
          <p:spPr>
            <a:xfrm>
              <a:off x="5049720" y="1323720"/>
              <a:ext cx="4056120" cy="325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Arial"/>
                </a:rPr>
                <a:t>Haggle Application Interface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49720" y="836640"/>
              <a:ext cx="4056120" cy="487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pplications (messaging, web, etc)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0800000">
              <a:off x="5398920" y="1784160"/>
              <a:ext cx="3448080" cy="349848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Protocol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7257600">
              <a:off x="5397840" y="178416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Resource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3667800">
              <a:off x="5397840" y="178452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98920" y="1784160"/>
              <a:ext cx="3448080" cy="349848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Name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7995800">
              <a:off x="5398200" y="178488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4376600">
              <a:off x="5398200" y="178452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8122400">
              <a:off x="5420160" y="2585880"/>
              <a:ext cx="1202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Forwarding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49720" y="5495760"/>
              <a:ext cx="4059360" cy="487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nectivities (WiFi, BT, GPRS, etc)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8B50-49A9-4FA2-861C-1819B5E18BC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C93D99-EEF1-47C1-9C42-7C8C89D18B2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ata Objects (DOs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4798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DO = set of attributes = {type, value} pair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osing metadata facilitates sear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an link to other DO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tructure data that should be kept toge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allow apps to categorise/organi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pps/Haggle managers can “claim” DOs to assert ownership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219640" y="1627200"/>
          <a:ext cx="3638520" cy="1942920"/>
        </p:xfrm>
        <a:graphic>
          <a:graphicData uri="http://schemas.openxmlformats.org/drawingml/2006/table">
            <a:tbl>
              <a:tblPr/>
              <a:tblGrid>
                <a:gridCol w="1405080"/>
                <a:gridCol w="2233440"/>
              </a:tblGrid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O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tent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essage/rfc822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rom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James Scot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o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ichard Gass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ubjec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heck this photo out!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Body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[text]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5435640" y="4170240"/>
          <a:ext cx="3600360" cy="1619280"/>
        </p:xfrm>
        <a:graphic>
          <a:graphicData uri="http://schemas.openxmlformats.org/drawingml/2006/table">
            <a:tbl>
              <a:tblPr/>
              <a:tblGrid>
                <a:gridCol w="1440000"/>
                <a:gridCol w="2160360"/>
              </a:tblGrid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O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tent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mage/jpeg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Keywords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unset, London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tion tim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05/06/06 2015 GM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[binary]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5653080" y="3571920"/>
            <a:ext cx="0" cy="6490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18000" y="1197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essage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780240" y="37638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ttachment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3FFD-EBB6-459D-B4D0-F04319B2E6D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891B4F-F290-4B23-B720-13583523C3B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Protocol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Protocols are methods for communicating with other nodes, including Haggle-specific protocols as well as legacy protocols (e.g. email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to send an ADU over an ad-hoc WiFi connection given a neighbour’s MAC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using keywords as addresses via Google – e.g. satisfy a query for “world news”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egacy example: encapsulate an ADU in an email and send it using SMTP to an email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EF1F-DB67-4D6A-B156-C09B2DA99DC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0718E2-E803-49E0-A4F0-2A712FD7C35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Why we shouldn’t do network arch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49840" indent="-2498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iberally borrowed slides from Mothy Roscoe (ex cambridge, sprint, intel, berkeley, oz, now ETH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ost-modernism (Wenjun Hu, Jon, Mothy)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o to FIND/GENI? - n.b. my abstract’s comments(*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perien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rchitectures emerge (ANSA/Herbert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apers about them are usually post-hoc rationalisation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First, general Argument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hen specific (Haggle) example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8FB4-56B1-4684-B7BF-EFD5D306562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ADF1B6-CE76-4944-9CD4-2D5D816392A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livery uses user-level names(ANA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85410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lutarch, IPNL, RSIP etc etc et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ames come from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, e.g. using neighbour discovery (12:AB:23:98:BE:FF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s, e.g. Jon Crowcroft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»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jon.crowcroft@cl.cam.ac.u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ome names are also “addresses” i.e. data can be delivered to that name using one of the protocols availabl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Delivery engine needs to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e “nearby” addresses (e.g. Bluetooth inquiry gives MAC addresses, Internet connectivity means all email addresses are deliverabl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sender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p between ADU’s destination name(s) and addresses of suitable next-hop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recipient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termine suitable nearby nodes which may be sources or help find sources for requested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scribe these potential transfers and their benefits to the resource mana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6A80-BFA9-4B37-A9B4-B0D4A5409FE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00DF48-5DC6-4604-B499-91C546FDA03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Resource management using tasks 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5760" y="837720"/>
            <a:ext cx="82375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ask is a network activit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source management uses a list of tasks mainly provided by delivery engine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perform discovery on interface 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send ADU X to neighbour Y on interface Z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ach task has an associated benefit and cos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Benefit is specified by task provider.  May be time-dependent (i.e. using a pointer-to-function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o get cost, resource use is estimated, and then the “cost” is a function of the resource use * the resource scarc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Resource manager then schedules execution of tasks in order of highest benefit/cost ratio.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7282-B636-4C6A-BAD7-C8C8E0CE264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C83C9F-0E69-43F0-8D90-6CBFA0F23E8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So where are w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3752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roblem definition and some idea of solution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OT architecture:- framework for others to use(Sourcefor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thers develop use ca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rchitecture will emerge from common us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Other work we’ve done: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asurement/analysis of human connectivity patter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asurement of in-motion wireless networking 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Ongoing work in European projec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measurement and analysis of possible data path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of modular software frame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ing challenges of naming/addressing, forwarding, security/trust, usability,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legacy compati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6242-32FB-43EA-839D-B525F4B2F5F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0C36FE-832C-499D-98F5-0020E6F3D72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Back to FIND/GENI &amp; Architecture/Testbeds &amp; EU v. U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s per my contentious (*) abstract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ND and GENI are to fill a funding gap US h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U doesn’t have ga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chitecture research is philosophy, not science or enginee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he devil is in the details, so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 1000 architectures bloo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World will pick a winn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ego will declare it the new architecture and beco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mother-in-law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the Next Generation Inter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P7 should fund good communications systems research as usual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67CA-88B7-433E-BFD6-5977B0C1984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F30804-95B9-4593-803E-1B392292E0D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Questions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49840" indent="-2498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ank you…obrigado …ciao 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984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984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984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984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cknowledgements: James Scott, Mothy Roscoe, Mark Handley, Richard Mortier, Steve Hand, Keshav, Nick Feamster, Kevin Fall, for arguments about architecture, post modern or otherwise :-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6C45-9E76-42C8-9626-409194EE02A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5F6683-1979-4ACB-8E1C-EAAD259490A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Why have an architectur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What does an Internet Architecture hope to achieve?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nteroperability across network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Easier for applications to code to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ramework for providers to compet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oes </a:t>
            </a:r>
            <a:r>
              <a:rPr b="0" i="1" lang="en-US" sz="2400" spc="-1" strike="noStrike">
                <a:solidFill>
                  <a:srgbClr val="0860a8"/>
                </a:solidFill>
                <a:latin typeface="Verdana"/>
              </a:rPr>
              <a:t>any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 Internet architecture really address these issues?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7F4E-7DA4-4047-943D-57DF9068CA0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8733EB-C45C-4342-92A5-F6FEEC15949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What is a Network Architectur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760" y="1066680"/>
            <a:ext cx="8237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hoose Paradig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Given Physical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constrain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acket/circuit/new(e.g. multihop radio)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undamentally is net a “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graph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”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re protocols/services “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layered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”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hoose Functional Decomposi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rade between packet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header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and node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Choose stateless or stateful (e2e v. hbh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(e.g. change trade to include transpor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can do NAT, Header Compression and QoS/Flow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re nodes different (host v. router)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oose Packet Format(s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BCDC-A68C-4BBC-BAC9-A507EA3B82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258F99-EDD1-4717-A9AB-19E33A47BA1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at has the “Internet Architecture” done for us lately?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operability: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No – not really</a:t>
            </a:r>
            <a:r>
              <a:rPr b="0" lang="en-US" sz="2000" spc="-1" strike="noStrike">
                <a:solidFill>
                  <a:srgbClr val="0860a8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form API: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Bad thing: hides useful features of the underlying network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.f. cross layer optimisations and other oxymoron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rovider framework: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as any tier-1 ISP ever made significant profit from offering IP service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Net Neutrality Debate etc et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10DC-0869-4C3A-BA15-48DADC9345E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3CDD27-8480-4109-81C4-E5854A86452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at has the “Internet Architecture” done for us lately?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2400" spc="-1" strike="noStrike">
                <a:solidFill>
                  <a:srgbClr val="0860a8"/>
                </a:solidFill>
                <a:latin typeface="Verdana"/>
              </a:rPr>
              <a:t>used to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 enable rapid innov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aim: lack of attention to value flow &amp; economics was a Good Thing!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igh commercial value blunts innovation (c.f. other industries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Disruption is bad for busines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dea: goal of networking research should be to enable surprising thing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A161-2A84-4CBF-8274-935483285E3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740FB7-84B2-4DDF-9238-60BBC808CA4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urist?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438960" y="3565440"/>
            <a:ext cx="2043000" cy="1758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103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2209680"/>
            <a:ext cx="1828800" cy="1447920"/>
          </a:xfrm>
          <a:prstGeom prst="wedgeRectCallout">
            <a:avLst>
              <a:gd name="adj1" fmla="val 71092"/>
              <a:gd name="adj2" fmla="val 90240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2209680"/>
            <a:ext cx="1828800" cy="1447920"/>
          </a:xfrm>
          <a:prstGeom prst="wedgeRectCallout">
            <a:avLst>
              <a:gd name="adj1" fmla="val -56856"/>
              <a:gd name="adj2" fmla="val 72699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B45D-7C7D-4FD1-BBF5-B332D35236F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F05987-CA23-4E03-8325-81EFEF94A50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luralist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438960" y="3565440"/>
            <a:ext cx="2043000" cy="1758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111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2590920"/>
            <a:ext cx="1828800" cy="1066680"/>
          </a:xfrm>
          <a:prstGeom prst="wedgeRectCallout">
            <a:avLst>
              <a:gd name="adj1" fmla="val 71092"/>
              <a:gd name="adj2" fmla="val 10461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Voice over GSM mobile phone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2666880"/>
            <a:ext cx="1828800" cy="990720"/>
          </a:xfrm>
          <a:prstGeom prst="wedgeRectCallout">
            <a:avLst>
              <a:gd name="adj1" fmla="val -56856"/>
              <a:gd name="adj2" fmla="val 8317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Skype P2P voice over IP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2190-87B4-45A1-9B25-B0193C3DCF7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C12C25-88F9-4B0D-A30E-AFE918F1998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Different (separatist/corrosive/layered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7" name="Cloud"/>
          <p:cNvSpPr/>
          <p:nvPr/>
        </p:nvSpPr>
        <p:spPr>
          <a:xfrm>
            <a:off x="3352680" y="2895480"/>
            <a:ext cx="3429000" cy="13827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4495680"/>
            <a:ext cx="396216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71800" y="2743200"/>
            <a:ext cx="396252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28600" y="468468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Networking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76200" y="201780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Systems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D3CA-9531-4D46-B2AE-4602EF7B9A3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B573A8-70ED-4B73-BD5D-5E55C8990BC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6:26:58Z</dcterms:created>
  <dc:creator>James Scott</dc:creator>
  <dc:description/>
  <dc:language>en-US</dc:language>
  <cp:lastModifiedBy>jon crowcroft</cp:lastModifiedBy>
  <dcterms:modified xsi:type="dcterms:W3CDTF">2006-12-05T14:35:44Z</dcterms:modified>
  <cp:revision>249</cp:revision>
  <dc:subject/>
  <dc:title>Haggle Work </dc:title>
</cp:coreProperties>
</file>