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47A-27D1-44B5-BFC3-B764E286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4CF-76D5-4659-A6BA-C5F740B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FE3-2BD6-4671-AB1B-1D731429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F0E-7F0C-4669-81B1-87713771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721-C612-417F-9310-C4B23A3E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1B8-FD11-48AB-A97E-F4B6A017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81C-3320-4D8A-B11B-01F9F4F7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1A8-CF34-4986-9814-26400B0C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90F-D6F9-4199-9D7F-3ACE5C38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5C7-BA2B-470E-9DCD-2593297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85E-BD02-4703-9ED7-399600DD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F69-B867-48E0-A87F-AEED9D5B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197D-2410-4E6D-AECE-1BCDBC83A90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oNeXt/COST ARCADIA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Future Internet Workshop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Panel Session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620856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Christophe Dio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Serge Fdid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Kenjiro Ch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The Flo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754520" y="6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ote of the da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yone who isn't dead or from another plane of existence would do well to cover their ears right about now.”, Smith, et al…199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88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9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e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No, but seriousl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1 we’ve seen a lot of actual technical work going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specially the student posters !!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europe is a live and well and happen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I am asking people to decide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trategy&amp; Prior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ctiv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lus coordinating with new places  - vi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ina, Japan, Korea e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xample Topics for prioritisation from this workshop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Virtualisation (or is i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Virtualiz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Xen, Xorp, XCP and XI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ed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r is it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ubsidiarity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nitoring/Measur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Day in the Lif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ast Bit Tx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n the Interne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reless&amp;Security&amp;Nam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wher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urop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as distinguishing streng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IP over Voice Networks… …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re Workshops… … 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just wanna go to Rehab, baby” (apols to Amy Winehouse :-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4T16:43:48Z</dcterms:modified>
  <cp:revision>241</cp:revision>
  <dc:subject/>
  <dc:title>Haggle Work </dc:title>
</cp:coreProperties>
</file>