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B76C-611A-47D6-A013-8BC9E33A8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664F-885E-4647-904C-8D2E8641B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FC8B-33AF-4A58-BA30-078BE2DCB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5F0B-3F31-4622-8782-646B6FC1C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E81B-0532-464D-A793-C21EDAF47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A576-4645-4F27-ADDC-3180EB641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F8BB-1242-4239-8A28-79EF309A4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ECC7-E145-4657-8F30-958A54CDE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8E62-969B-402C-9E61-0408EE9D2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12C2-359E-44C8-A60F-FADFF2A22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306D-BDC1-4F4F-A052-A6B31AFA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5E8F-FBFB-4CE5-9A26-620551C1A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800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3" marL="1884240" indent="-268200">
              <a:spcBef>
                <a:spcPts val="18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4" marL="2422440" indent="-27288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5" marL="2422440" indent="-27288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6" marL="2422440" indent="-27288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CD7F9-3C1A-47A9-A9B9-59280BA292E9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2857680"/>
            <a:ext cx="807552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247680" indent="83484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indent="10429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indent="142236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 indent="142236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 indent="142236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560" y="1434960"/>
            <a:ext cx="8435880" cy="25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CoNeXt/COST ARCADIA</a:t>
            </a:r>
            <a:br>
              <a:rPr sz="4100"/>
            </a:b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Future Internet Workshop</a:t>
            </a:r>
            <a:br>
              <a:rPr sz="4100"/>
            </a:b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Panel Session</a:t>
            </a:r>
            <a:br>
              <a:rPr sz="4100"/>
            </a:br>
            <a:endParaRPr b="1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914400" y="3809520"/>
            <a:ext cx="6208560" cy="278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60a8"/>
                </a:solidFill>
                <a:latin typeface="Verdana"/>
              </a:rPr>
              <a:t>Jon Crowcroft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60a8"/>
                </a:solidFill>
                <a:latin typeface="Verdana"/>
              </a:rPr>
              <a:t>Christophe Diot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60a8"/>
                </a:solidFill>
                <a:latin typeface="Verdana"/>
              </a:rPr>
              <a:t>Serge Fdid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60a8"/>
                </a:solidFill>
                <a:latin typeface="Verdana"/>
              </a:rPr>
              <a:t>Kenjiro Cho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60a8"/>
                </a:solidFill>
                <a:latin typeface="Verdana"/>
              </a:rPr>
              <a:t>The Floo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2" name=""/>
          <p:cNvSpPr/>
          <p:nvPr/>
        </p:nvSpPr>
        <p:spPr>
          <a:xfrm>
            <a:off x="4754520" y="662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Quote of the day…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  “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nyone who isn't dead or from another plane of existence would do well to cover their ears right about now.”, Smith, et al…1999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One (purist?) view of network architecture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438960" y="3565440"/>
            <a:ext cx="2043000" cy="17589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752480" y="3962520"/>
            <a:ext cx="1795680" cy="1833480"/>
          </a:xfrm>
          <a:prstGeom prst="rect">
            <a:avLst/>
          </a:prstGeom>
          <a:ln w="0">
            <a:noFill/>
          </a:ln>
        </p:spPr>
      </p:pic>
      <p:sp>
        <p:nvSpPr>
          <p:cNvPr id="88" name="Cloud"/>
          <p:cNvSpPr/>
          <p:nvPr/>
        </p:nvSpPr>
        <p:spPr>
          <a:xfrm>
            <a:off x="3505320" y="1676520"/>
            <a:ext cx="3200400" cy="21445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Network Architecture”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1905120" y="2286000"/>
            <a:ext cx="1295280" cy="1295280"/>
          </a:xfrm>
          <a:custGeom>
            <a:avLst/>
            <a:gdLst>
              <a:gd name="textAreaLeft" fmla="*/ 371880 w 1295280"/>
              <a:gd name="textAreaRight" fmla="*/ 1109520 w 1295280"/>
              <a:gd name="textAreaTop" fmla="*/ 745920 h 1295280"/>
              <a:gd name="textAreaBottom" fmla="*/ 1109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 rot="5400000">
            <a:off x="7009200" y="2208960"/>
            <a:ext cx="1295640" cy="1295640"/>
          </a:xfrm>
          <a:custGeom>
            <a:avLst/>
            <a:gdLst>
              <a:gd name="textAreaLeft" fmla="*/ 371520 w 1295640"/>
              <a:gd name="textAreaRight" fmla="*/ 1109520 w 1295640"/>
              <a:gd name="textAreaTop" fmla="*/ 745920 h 1295640"/>
              <a:gd name="textAreaBottom" fmla="*/ 110952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2209680"/>
            <a:ext cx="1828800" cy="1447920"/>
          </a:xfrm>
          <a:prstGeom prst="wedgeRectCallout">
            <a:avLst>
              <a:gd name="adj1" fmla="val 71092"/>
              <a:gd name="adj2" fmla="val 90240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Email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IM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Unreal Tournament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315200" y="2209680"/>
            <a:ext cx="1828800" cy="1447920"/>
          </a:xfrm>
          <a:prstGeom prst="wedgeRectCallout">
            <a:avLst>
              <a:gd name="adj1" fmla="val -56856"/>
              <a:gd name="adj2" fmla="val 72699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Email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IM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Unreal Tournament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One (pluralist) view of network architecture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38960" y="3565440"/>
            <a:ext cx="2043000" cy="17589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752480" y="3962520"/>
            <a:ext cx="1795680" cy="1833480"/>
          </a:xfrm>
          <a:prstGeom prst="rect">
            <a:avLst/>
          </a:prstGeom>
          <a:ln w="0">
            <a:noFill/>
          </a:ln>
        </p:spPr>
      </p:pic>
      <p:sp>
        <p:nvSpPr>
          <p:cNvPr id="96" name="Cloud"/>
          <p:cNvSpPr/>
          <p:nvPr/>
        </p:nvSpPr>
        <p:spPr>
          <a:xfrm>
            <a:off x="3505320" y="1676520"/>
            <a:ext cx="3200400" cy="21445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Network Architecture”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1905120" y="2286000"/>
            <a:ext cx="1295280" cy="1295280"/>
          </a:xfrm>
          <a:custGeom>
            <a:avLst/>
            <a:gdLst>
              <a:gd name="textAreaLeft" fmla="*/ 371880 w 1295280"/>
              <a:gd name="textAreaRight" fmla="*/ 1109520 w 1295280"/>
              <a:gd name="textAreaTop" fmla="*/ 745920 h 1295280"/>
              <a:gd name="textAreaBottom" fmla="*/ 1109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 flipV="1" rot="5400000">
            <a:off x="7009200" y="2208960"/>
            <a:ext cx="1295640" cy="1295640"/>
          </a:xfrm>
          <a:custGeom>
            <a:avLst/>
            <a:gdLst>
              <a:gd name="textAreaLeft" fmla="*/ 371520 w 1295640"/>
              <a:gd name="textAreaRight" fmla="*/ 1109520 w 1295640"/>
              <a:gd name="textAreaTop" fmla="*/ 745920 h 1295640"/>
              <a:gd name="textAreaBottom" fmla="*/ 110952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2590920"/>
            <a:ext cx="1828800" cy="1066680"/>
          </a:xfrm>
          <a:prstGeom prst="wedgeRectCallout">
            <a:avLst>
              <a:gd name="adj1" fmla="val 71092"/>
              <a:gd name="adj2" fmla="val 104611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Voice over GSM mobile phone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315200" y="2666880"/>
            <a:ext cx="1828800" cy="990720"/>
          </a:xfrm>
          <a:prstGeom prst="wedgeRectCallout">
            <a:avLst>
              <a:gd name="adj1" fmla="val -56856"/>
              <a:gd name="adj2" fmla="val 83171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Skype P2P voice over IP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Different (seperatist/corrosive/layered) view of network architecture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Cloud"/>
          <p:cNvSpPr/>
          <p:nvPr/>
        </p:nvSpPr>
        <p:spPr>
          <a:xfrm>
            <a:off x="3352680" y="2895480"/>
            <a:ext cx="3429000" cy="13827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860a8"/>
                </a:solidFill>
                <a:latin typeface="Comic Sans MS"/>
              </a:rPr>
              <a:t>Network Architecture”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4495680"/>
            <a:ext cx="3962160" cy="0"/>
          </a:xfrm>
          <a:prstGeom prst="line">
            <a:avLst/>
          </a:prstGeom>
          <a:ln cap="rnd" w="381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71800" y="2743200"/>
            <a:ext cx="3962520" cy="0"/>
          </a:xfrm>
          <a:prstGeom prst="line">
            <a:avLst/>
          </a:prstGeom>
          <a:ln cap="rnd" w="381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28600" y="468468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Networking people”</a:t>
            </a:r>
            <a:endParaRPr b="0" lang="en-US" sz="2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76200" y="201780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Systems people”</a:t>
            </a:r>
            <a:endParaRPr b="0" lang="en-US" sz="2800" spc="-1" strike="noStrike">
              <a:solidFill>
                <a:srgbClr val="0860a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Questions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hank you… … …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No, but seriously…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1 we’ve seen a lot of actual technical work going 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Especially the student posters !!!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o europe is a live and well and happen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o I am asking people to decide 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trategy&amp; Prioritie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r activiti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lus coordinating with new places  - viz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hina, Japan, Korea e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Example Topics for prioritisation from this workshop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260640" indent="-26064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Virtualisation (or is it 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Virtualization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67520" indent="-2606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Xen, Xorp, XCP and XI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0640" indent="-26064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Federation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67520" indent="-2606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r is it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ubsidiarity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0640" indent="-26064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Monitoring/Measurement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67520" indent="-2606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Day in the Life of th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Last Bit Txed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n the Internet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0640" indent="-26064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Wireless&amp;Security&amp;Naming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67520" indent="-2606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erhaps wher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Europ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has distinguishing strength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67520" indent="-2606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erhaps IP over Voice Networks… …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0640" indent="-26064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More Workshops… … …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67520" indent="-2606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just wanna go to Rehab, baby” (apols to Amy Winehouse :-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064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6T16:26:58Z</dcterms:created>
  <dc:creator>James Scott</dc:creator>
  <dc:description/>
  <dc:language>en-US</dc:language>
  <cp:lastModifiedBy>jon crowcroft</cp:lastModifiedBy>
  <dcterms:modified xsi:type="dcterms:W3CDTF">2006-12-04T16:43:48Z</dcterms:modified>
  <cp:revision>241</cp:revision>
  <dc:subject/>
  <dc:title>Haggle Work </dc:title>
</cp:coreProperties>
</file>