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A90-BFDC-4AA0-A663-47CA8E51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4B05-4C04-4E9D-A343-9278385A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396A-E8B6-4039-913D-D55DCF04B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4D97-A54A-4789-BF5A-9D6D2409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CB87-B607-4F9B-896C-00D4118D6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9A1-315C-443A-8186-338725DD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229A-C292-46BD-BF5F-52AAA426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1E8E-E589-46AA-9664-421D0747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928-31CA-433E-A617-157CED82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C0D-5C73-4F33-AC39-D0817BED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8B07-F37E-4F49-BD2C-33C39838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79BF-71E5-43E5-9F1A-6B9F48A2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0858A8F2-43A5-4F49-A307-7AF826414C04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136000" y="0"/>
            <a:ext cx="865080" cy="512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Communications</a:t>
            </a:r>
            <a:br>
              <a:rPr sz="800"/>
            </a:b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Research </a:t>
            </a:r>
            <a:br>
              <a:rPr sz="800"/>
            </a:br>
            <a:r>
              <a:rPr b="0" lang="en-US" sz="800" spc="-1" strike="noStrike">
                <a:solidFill>
                  <a:srgbClr val="ffffcc"/>
                </a:solidFill>
                <a:latin typeface="Verdana"/>
              </a:rPr>
              <a:t>Network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4876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7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5 The Communications Research Network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55640" y="512640"/>
            <a:ext cx="2952720" cy="12970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Communications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Research 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Netwo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8360" y="3047760"/>
            <a:ext cx="7166160" cy="20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The Communications Research Network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Review, 26/2/06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Jon Crowcrof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7" name=""/>
          <p:cNvSpPr/>
          <p:nvPr/>
        </p:nvSpPr>
        <p:spPr>
          <a:xfrm>
            <a:off x="4067280" y="5877000"/>
            <a:ext cx="44956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Outlin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1640" y="1520640"/>
            <a:ext cx="8280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A CMI* and Industry led initiative to: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242640" indent="-242640">
              <a:spcBef>
                <a:spcPts val="700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Create the definitive forum for research and study into the future of the telecommunications industry; taking into account, economic, legal, regulatory and social aspects in addition to technology.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  <a:p>
            <a:pPr marL="242640" indent="-242640">
              <a:spcBef>
                <a:spcPts val="700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Md BT"/>
              </a:rPr>
              <a:t>Become the focus of strategic thinking in communications</a:t>
            </a:r>
            <a:endParaRPr b="0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0" name=""/>
          <p:cNvSpPr/>
          <p:nvPr/>
        </p:nvSpPr>
        <p:spPr>
          <a:xfrm>
            <a:off x="383760" y="5408640"/>
            <a:ext cx="64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upported by a CRN led academic research programm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with leading European and US Universiti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73880" y="634032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The Cambridge MIT Institut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0D7-7100-45FE-AE16-45D6553EF2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5400000">
            <a:off x="6877080" y="2205000"/>
            <a:ext cx="719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0800000">
            <a:off x="5508720" y="3500280"/>
            <a:ext cx="1008000" cy="719280"/>
          </a:xfrm>
          <a:prstGeom prst="rightArrow">
            <a:avLst>
              <a:gd name="adj1" fmla="val 50000"/>
              <a:gd name="adj2" fmla="val 35035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0800000">
            <a:off x="5508720" y="5013360"/>
            <a:ext cx="1008000" cy="719280"/>
          </a:xfrm>
          <a:prstGeom prst="rightArrow">
            <a:avLst>
              <a:gd name="adj1" fmla="val 50000"/>
              <a:gd name="adj2" fmla="val 35035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2932200"/>
            <a:ext cx="1800000" cy="328608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2924280"/>
            <a:ext cx="4753080" cy="371772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5400000">
            <a:off x="1619280" y="2205000"/>
            <a:ext cx="719280" cy="719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2560" y="1413000"/>
            <a:ext cx="7921800" cy="1195200"/>
          </a:xfrm>
          <a:prstGeom prst="rect">
            <a:avLst/>
          </a:prstGeom>
          <a:solidFill>
            <a:srgbClr val="e7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1080"/>
            <a:ext cx="76676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RN – a major vehicle for Strategic thinking in Commun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0" name=""/>
          <p:cNvSpPr/>
          <p:nvPr/>
        </p:nvSpPr>
        <p:spPr>
          <a:xfrm>
            <a:off x="1233360" y="3249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search Programme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Long term, shared IPR for Found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49752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Suppor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Web si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Newsle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DTI workshop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90840" y="5481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Projects for specific organis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90840" y="3249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Events &amp; Course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Open to Members &amp; Non-Memb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59200" y="1467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Non-Member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Quota for events &amp;cour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5840" y="2889360"/>
            <a:ext cx="43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Context for Innovation, Research and Networking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16720" y="3429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one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embership Fees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overnment G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d Hoc Resear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46700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Member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Founders  Associ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Access to IPR et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75560" y="1467000"/>
            <a:ext cx="1539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overnment Grant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28400" y="29973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source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82080" y="1108080"/>
            <a:ext cx="192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Industry Participants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33360" y="5481720"/>
            <a:ext cx="154008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Working</a:t>
            </a:r>
            <a:br>
              <a:rPr sz="1600"/>
            </a:b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Groups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gular industry academic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4365720"/>
            <a:ext cx="1728720" cy="100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Communications</a:t>
            </a:r>
            <a:br>
              <a:rPr sz="1600"/>
            </a:br>
            <a:r>
              <a:rPr b="0" lang="en-US" sz="16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oadmap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Regular flagship</a:t>
            </a:r>
            <a:br>
              <a:rPr sz="1200"/>
            </a:br>
            <a:r>
              <a:rPr b="0" lang="en-US" sz="1200" spc="-1" strike="noStrike">
                <a:solidFill>
                  <a:srgbClr val="4d4d4d"/>
                </a:solidFill>
                <a:latin typeface="Arial Unicode MS"/>
                <a:ea typeface="Arial Unicode MS"/>
              </a:rPr>
              <a:t>public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EEFE-1CA7-4133-B005-DFF37739CA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orking Groups…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Are interface between research and industry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search mostly in University partner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Mainly PhD students so far plus collab with other projects in Uni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dustry/Governemnt/Academia Together, set agenda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Avoid Academic being too short term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Lets industry have say in long term and access output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Outputs are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quirements for research project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Reports from research project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Modus Operandi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Not one size fits all, but mainly:-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F2F meetings every couple of month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Telecon every couple of week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Current active group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DO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Spectrum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ter-domain routing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Photonics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Current Projects (examp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put (e.g. via GENI to revised Internet Architecture 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Spectrum roadmap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BGP replacement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00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Futura Md BT"/>
              </a:rPr>
              <a:t>Internet Pricing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Futura Md BT"/>
              </a:rPr>
              <a:t>Explorations in Car and Care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69F-42B8-4A9A-B7CA-1AAE2C3E09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pectrum work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mbridge work o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obile Ad Hoc Routing (LGF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ractical Ad Hoc Deployment (Taxi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Incentive routing and deployme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mbridge/MIT work o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pectrum Polic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Opportunistic Coding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CCF3-7189-4276-8ACC-41ABF32870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domain Routing Work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LINX v. Tim Griffin &amp; Sid Chau, Kengo Nagasaki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asurement work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ta-routing relation algebra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Use for VPN, Overlay, Multipath, T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Liason with Gadi et al in Routese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0419-5BAA-4BF2-AF2B-1E20990D79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Publ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1706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ndmark Guided Forwarding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 Meng How, Adam Greenhalgh, Julian Chesterfield, Jon Crowcroft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NP 2005: 169-178, Boston, USA, Nov 2005.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en Spectrum:. Economic and Policy Research.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lliam Lehr, Jon Crowcroft, DySpan 2005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wards commercial mobile ad hoc network applications: a radio dispatch system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gan Huang, Wenjun Hu, Jon Crowcroft, Ian Wassell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biHoc 2005: 355-36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Vigilante: end-to-end containment of internet worm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uel Costa, Jon Crowcroft, Miguel Castro, Antony I. T. Rowstron, Lidong Zhou, Lintao Zhang, Paul T. Barham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SP 2005: 133-147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Practical Approach for 4G Systems: Deployment of Overlay Network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blo Vidales, Glenford Mapp, Frank Stajano, Jon Crowcroft, Carlos Jesus Bernardos  TRIDENTCOM 2005: 172-181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2" marL="631800" indent="-114480">
              <a:lnSpc>
                <a:spcPct val="90000"/>
              </a:lnSpc>
              <a:spcBef>
                <a:spcPts val="3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ffffcc"/>
                </a:solidFill>
                <a:latin typeface="Arial"/>
              </a:rPr>
              <a:t>Internet Routing Policies and Round-Trip-Times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Han Zheng, Eng Keong Lua, Marcelo Pias, and Timothy G. Griffin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in the Proceedings of the Passive &amp; Active Measurement Workshop 2005 March 2005, Boston, MA </a:t>
            </a:r>
            <a:br>
              <a:rPr sz="1000"/>
            </a:b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(to appear)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rterRoam: A Novel Mobile and Wireless Roaming Settlement Model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 Keong Lua, Alex Lin, Jon Crowcroft, Valerie Tan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ofIS 2004: 348-357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 case for all-wireless, dual-radio virtual sinks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hieh-Yih Wan, Andrew T. Campbell, Jon Crowcroft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CM SynSys 2004: 267-268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804600" indent="-5796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thinking incentives for mobile ad hoc networks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lgan Huang, Jon Crowcroft, Ian Wassell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ceedings of the ACM SIGCOMM workshop on Practice and theory of incentives in networked systems, Portland, Oregon, USA , August 2004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marL="170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26440" indent="-226440">
              <a:lnSpc>
                <a:spcPct val="90000"/>
              </a:lnSpc>
              <a:spcBef>
                <a:spcPts val="451"/>
              </a:spcBef>
              <a:buClr>
                <a:srgbClr val="0000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Importance of Being Opportunistic: Practical Network Coding For Wireless Environment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chin Katti, Dina Katabi, Wenjun Hu, Hariharan Rahul, and Muriel Medard, Allerton, 2005.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cal Network Packet Error-Rate due to Physical Layer Co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rew W. Moore, Laura B. James, Madeleine Glick, Adrian Wonfor, Richard Plumb, Ian H. White, Derek McAuley, and Richard V. Penty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EEE/OSA Journal of Lightwave Technology,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olume 23, Number 10, Oct, 2005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ain Name System: An exercise in centralized comput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 Deegan, Jon Crowcroft and Andrew Warfield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M SIGCOMM CCR, Vol. 35, No. 5, Pages 5-13, October 2005.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26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DC7-24AB-4A96-9E48-763C5E38C7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Publicatio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05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zing data layout for delay-line mem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n Crowcroft and Tim Deegan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s Letters Vol. 41, No. 6, Pages 358-359, March 200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oiting Diversity to Enhance Multimedia Streaming Over Cellular Link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ian Chesterfield, Rajiv Chakravorty, Ian Pratt, Suman Banerjee, Pablo Rodriguez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proceedings of IEEE INFOCOM, March 2005, Miami, FL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Arial"/>
              </a:rPr>
              <a:t>(t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ptimizing data layout for delay-line memor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on Crowcroft and Tim Deegan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ctronics Letters Vol. 41, No. 6, Pages 358-359, March 2005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483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xploiting Diversity to Enhance Multimedia Streaming Over Cellular Link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ulian Chesterfield, Rajiv Chakravorty, Ian Pratt, Suman Banerjee, Pablo Rodriguez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the proceedings of IEEE INFOCOM, March 2005, Miami, FL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ear)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968040" indent="-6984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BarterRoam: A Novel Mobile and Wireless Roaming Settlement Model.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ng Keong Lua, Alex Lin, Jon Crowcroft, Valerie Tan: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QofIS 2004: 348-357 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lvl="3" marL="968040" indent="-69840">
              <a:lnSpc>
                <a:spcPct val="90000"/>
              </a:lnSpc>
              <a:spcBef>
                <a:spcPts val="249"/>
              </a:spcBef>
              <a:buClr>
                <a:srgbClr val="00008a"/>
              </a:buClr>
              <a:buFont typeface="Trebuchet MS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  <a:p>
            <a:pPr marL="205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case for all-wireless, dual-radio virtual sinks.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ieh-Yih Wan, Andrew T. Campbell, Jon Crowcroft: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M SynSys 2004: 267-268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hinking incentives for mobile ad hoc network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gan Huang, Jon Crowcroft, Ian Wassell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ceedings of the ACM SIGCOMM workshop on Practice and theory of incentives in networked systems, Portland, Oregon, USA , August 2004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LTACAST - Efficient File Reconciliation in Wireless Broadcast Syste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lian Chesterfield and Pablo Rodriguez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Proceedings of MOBISYS, June 2005, Seattle, WA 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50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3583-BF6D-4AA4-BBFC-93D08E0E63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Agenda Setting &amp; Influenc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3128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.g. Dyspan pan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Sruti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Ubicomp Secur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Running WiOp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tc.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449000"/>
            <a:ext cx="4064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alking to Pitcom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ress relea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Liason with other similar inst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MVCE, SFI, etc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F27-4D84-4F17-B9D2-CCFF77DD83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6-02-19T09:26:57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38666097</vt:r8>
  </property>
  <property fmtid="{D5CDD505-2E9C-101B-9397-08002B2CF9AE}" pid="3" name="_AuthorEmail">
    <vt:lpwstr>ejmurphy@ntlworld.com</vt:lpwstr>
  </property>
  <property fmtid="{D5CDD505-2E9C-101B-9397-08002B2CF9AE}" pid="4" name="_AuthorEmailDisplayName">
    <vt:lpwstr>Eddie Murphy</vt:lpwstr>
  </property>
  <property fmtid="{D5CDD505-2E9C-101B-9397-08002B2CF9AE}" pid="5" name="_EmailSubject">
    <vt:lpwstr>CRN member recruitment</vt:lpwstr>
  </property>
</Properties>
</file>