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BE5-65F8-4D87-B162-D4FB2CF2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496-18FC-4275-AB63-F30BDFC0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8AE-A270-4293-A76B-F08B9A67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F0D-EC67-4F9F-91AB-A0EC592D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34D-B9B1-4899-AE68-1D222502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F70D-DED9-4E09-B489-01C79E87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AADD-6122-4CF0-BF76-1B0B8111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B3FD-D75A-4236-B0CD-4CE645B1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81F5-A9F2-4621-ABF0-7D434D7A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1266-46D3-44DB-9970-939D523C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CDD2-89B1-4230-8A84-A60D8F4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092-3416-4F03-9CC3-3BCB5856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6475-4242-425C-B9F6-D953C79D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855B-7416-4295-91DD-7160B14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D986-9308-49AA-AB9D-EA8C14EE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E1E8-771C-4567-9A2D-166B1F70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35BA-4788-4F9B-9C5C-15BC1FAA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E23-C78B-452A-B98F-5CA87157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574-A695-4D5F-A841-20F9CE2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2F1-FDA4-4977-9741-2777B827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2EE-B829-4890-882D-23FD0C50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56C-5784-4D99-9446-7B8E5FF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FFF-FE5B-458F-9C85-5571EFDE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99B-4410-4706-94C1-6634D720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C54B-BBBA-4731-9157-5380B4D5740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5695-FC2D-4DAF-A22F-66445402C9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F515-8A45-4FB1-BBD9-39447CBA49B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70BF-3585-4FBA-B32B-4C50F9D4FE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(Nearly) MAC-less MANET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’s proposal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when we got rid of x.25 layer 3 and 2 reliabilty and flow control when we found TCP over IP over X.25 was very, very b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for TCP/IP over A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gnore MPLS:-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lso, amateur packet radio X.25 (phil karn’s KA9Q code) could disable tcp functions if ax25 layer did wor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of 2 different Timescal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(alt) TCP-less M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DDE-9D07-45CD-A910-2FF7E762C21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7A7DB-EEAA-490F-96E4-CD3519F9E2A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adband ques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teby, a hamlet about 15km outside Katrineholm, Sörm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ia, versus Tyfon versus SB Broad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L v. WiMAX 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deas … :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flashearth.com/?lat=58.994309&amp;lon=16.404535&amp;z=14.7&amp;r=0&amp;src=g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.crowcroft@cl.cam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AFF-6A6D-41BD-B586-3FEEA3904D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829F0-63AA-41E9-9EED-FB3BF3765923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jon crowcroft</cp:lastModifiedBy>
  <cp:lastPrinted>1904-01-01T00:00:00Z</cp:lastPrinted>
  <dcterms:modified xsi:type="dcterms:W3CDTF">2007-05-02T15:41:55Z</dcterms:modified>
  <cp:revision>14</cp:revision>
  <dc:subject/>
  <dc:title>General</dc:title>
</cp:coreProperties>
</file>