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76D-CDB7-4A9E-938E-1B3D3001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E0E-2553-4E1C-A382-3686574E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7BD-CB6C-46C6-8915-C1F92B49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B78-85E2-43D7-82F0-FDAEA134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85DB-7A8C-4BD6-BEA2-AE579C80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2853-BFAA-4455-BD32-7FFD8358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3D7-F9AA-48B7-8B6E-3B97D690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8271-8739-439A-AAD9-4334DB48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C967-A191-4D1E-A320-02A54752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45F2-616B-4131-A328-A150051D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FDBD-F1DA-449F-8DCB-930519C1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812-3FB0-4837-BBD5-D4C6709D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B71E-1F7E-4C2C-A4FE-29F64188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6793-5E27-4B56-825F-651CDCBC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A860-0D3D-445E-A395-1A3CA262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AD4A-D8D5-4707-BF6A-3B100D4A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78E1-89BD-4C71-A590-536C0F8A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DBD-BCC9-4CAA-A8D3-62B62C75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87D-67BA-479E-B737-FD5E62F3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78E-9E0A-42B0-951F-3AD41987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847-B4BB-4A28-8707-20033C72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653-EF0E-4170-B7CD-49122587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0CE-8D85-43E9-9EE0-783646FF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417-8CBB-405E-A8F4-A6C66C8C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1F65-E125-4936-B605-3D61727C27D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D947-7B24-4061-BBE2-64D23771F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0CB7-F6F9-44D0-BCE7-72F6BC7F25A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AFE8-9452-486B-A0C9-4968E2D22D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(Nearly) MAC-less MANET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’s proposal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when we got rid of x.25 layer 3 and 2 reliabilty and flow control when we found TCP over IP over X.25 was very, very b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for TCP/IP over A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gnore MPLS:-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lso, amateur packet radio X.25 (phil karn’s KA9Q code) could disable tcp functions if ax25 layer did wor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of 2 different Timescal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(alt) TCP-less M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6C1-0D19-49D2-8136-2F29E3714D5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9A351-5470-452B-9CFC-8E3FB53AEEE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adband ques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teby, a hamlet about 15km outside Katrineholm, Sörm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ia, versus Tyfon versus SB Broad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L v. WiMAX 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deas … :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flashearth.com/?lat=58.994309&amp;lon=16.404535&amp;z=14.7&amp;r=0&amp;src=g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.crowcroft@cl.cam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49F-56F2-46D8-B06A-753AE2ED3EF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38E5D-7615-439E-A74C-ABD0195D0D90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jon crowcroft</cp:lastModifiedBy>
  <cp:lastPrinted>1904-01-01T00:00:00Z</cp:lastPrinted>
  <dcterms:modified xsi:type="dcterms:W3CDTF">2007-05-02T15:41:55Z</dcterms:modified>
  <cp:revision>14</cp:revision>
  <dc:subject/>
  <dc:title>General</dc:title>
</cp:coreProperties>
</file>