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9.png" ContentType="image/png"/>
  <Override PartName="/ppt/media/image11.pct" ContentType="image/x-pict"/>
  <Override PartName="/ppt/media/image7.png" ContentType="image/png"/>
  <Override PartName="/ppt/media/image8.pct" ContentType="image/x-pict"/>
  <Override PartName="/ppt/media/image1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D67E-599F-4872-825D-D293AC47C6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t how does a node know what packets its neighbors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port to its neighbors the packets it st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owever, at times of severe congestion, report may get lost in collisions. They also may arrive too late after the coding 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first way and the third way are rel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 the gap between theory of network coding and practical network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734-0F05-43B4-BEE3-A6FACFE3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8CF-26E7-44A5-A780-003F8B3A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06F-5EFB-4E6A-A463-B562E34A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453-48D9-45CC-B985-ACDFEFDC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47A-B42B-487A-AFEF-082D0F86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A8D-7832-4106-B9BB-2500150A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BFA-FD13-49E9-9B88-58587D29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52C-8E00-4EF5-9D33-9BA83F69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261-4229-4752-BA5A-299D04A6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512-1870-4E27-887D-F710B2B4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BA2-5AE0-44AF-8360-5955E510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EC4-3634-4CAC-8E1E-86205709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20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runel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4C2C-CFAB-4985-A732-E5DFAAE237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 Black"/>
              </a:rPr>
              <a:t>XORs in The Air: Practical Wireless Network Coding</a:t>
            </a:r>
            <a:endParaRPr b="0" lang="en-US" sz="40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achin Katti, Dina Katabi, Wenjun Hu, Jon Crowcroft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esented by 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lides borrowed from MIT Collaborators including Yan 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ways to get neighbor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p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ETX metric (delivery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probability that packets are over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ighbor is the previous hop of the pac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’s Gai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lice-and-Bob example gains 4/3 (maximum is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+MAC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ue to Mac allocation, relay node is the bottleneck and throughput is 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th COPE, throughput i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ding+Mac Gain =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ake the packet at the head of its output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ever delay packets (if can not code, simply send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ategorize larger packets and small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de packets headed for the different nexth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wo virtual queues for each neighbor: large and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 neighbors 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2M virtual 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5146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200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2743200"/>
            <a:ext cx="12189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27432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27432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1840" y="2300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360" y="2286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4880" y="2286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6560" y="334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6560" y="41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560" y="4967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90720" y="41911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6560" y="5043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54280" y="35053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54280" y="51195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40384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49528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560" y="35053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4240" y="42670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2209680"/>
            <a:ext cx="1676160" cy="18288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209680"/>
            <a:ext cx="1676520" cy="27432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6386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6760" y="58672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6760" y="6186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2209680"/>
            <a:ext cx="1676520" cy="3429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06960" y="5715000"/>
            <a:ext cx="1055160" cy="368280"/>
            <a:chOff x="5106960" y="5715000"/>
            <a:chExt cx="1055160" cy="368280"/>
          </a:xfrm>
        </p:grpSpPr>
        <p:sp>
          <p:nvSpPr>
            <p:cNvPr id="173" name=""/>
            <p:cNvSpPr/>
            <p:nvPr/>
          </p:nvSpPr>
          <p:spPr>
            <a:xfrm>
              <a:off x="5106960" y="57150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69120" y="571500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097240" y="6019920"/>
            <a:ext cx="1055160" cy="368280"/>
            <a:chOff x="5097240" y="6019920"/>
            <a:chExt cx="1055160" cy="368280"/>
          </a:xfrm>
        </p:grpSpPr>
        <p:sp>
          <p:nvSpPr>
            <p:cNvPr id="176" name=""/>
            <p:cNvSpPr/>
            <p:nvPr/>
          </p:nvSpPr>
          <p:spPr>
            <a:xfrm>
              <a:off x="5097240" y="601992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59400" y="601992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06960" y="6338880"/>
            <a:ext cx="1043640" cy="368280"/>
            <a:chOff x="5106960" y="6338880"/>
            <a:chExt cx="1043640" cy="368280"/>
          </a:xfrm>
        </p:grpSpPr>
        <p:sp>
          <p:nvSpPr>
            <p:cNvPr id="179" name=""/>
            <p:cNvSpPr/>
            <p:nvPr/>
          </p:nvSpPr>
          <p:spPr>
            <a:xfrm>
              <a:off x="5106960" y="63388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68400" y="6338880"/>
              <a:ext cx="68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7315200" y="5791320"/>
            <a:ext cx="7621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cket id: A 32-bit hash of src IP and Seq. 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OR the encoded packet with the corresponding stored packets to get native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the native packet in packet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seudo Broad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ns of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reliable due to no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ack of 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iggy back on un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one of intended node as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 all others in COPE header (between MAC and IP hea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eiver: if it is on the list, decode the packet, else store the packet in its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p by hop 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synchronous 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ach of native packet schedules an event for re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-enqueue the packet if no Ack within Ta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cks added in COPE he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 what packets are enco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sender’s packet pool inf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nowledge what packets the sender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apacity of Multi-hop Wireless Networks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pta/Kumar limit (for 1/r^2 far fiel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geometry/receiver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glauser/Tse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(random) m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e co-operative MIMO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smart antennae and v. accurate c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Coding - originally for broad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welde result for rateless code/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d Bob (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629400" y="22096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114800" y="2438280"/>
            <a:ext cx="830160" cy="939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093680" y="3463920"/>
            <a:ext cx="65264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d Bob (U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54160" y="2286000"/>
            <a:ext cx="6618240" cy="3467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96720" y="5797440"/>
            <a:ext cx="835056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arge Scal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flo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ick sender and receiver random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cket size based on actual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low arrival are Po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Large Scale Exp.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10320" cy="3230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63800" y="5546880"/>
            <a:ext cx="7089480" cy="625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584520" y="4836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ed load in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: a new approach to wir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throughput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mplement network coding to wireless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roblems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experiment runs on a hidden node fre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lmost no gain due to hidden 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general (3+ packets coded toge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ery hard (np) to figure ou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tter (e.g. Luby)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putationally expens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unter indicated for wireless nodes: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Future work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o: Bjorn Scheuermann/Wenjun 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hop-by-hop Congestion control &amp;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s near optimal coding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target is set to incorporate coding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Casting: Gkantsidis/Hu et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ath (e.g. VRR) routing +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 near opt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MAC would be “simpler”/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early impossible to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Questions?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….please e-mail me and I can forward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gements to my colleagues, collaborators and student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ridge, MIT and Microsoft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.b. some work was funded by the Cambridge MIT Institute (DTI+BT) and some by MS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roblem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8231040" cy="110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95480" y="4572000"/>
            <a:ext cx="3429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and 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629400" y="26668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830160" cy="93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7320" y="2452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8862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3886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9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4876920"/>
            <a:ext cx="4953240" cy="99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4 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and 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29400" y="26668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830160" cy="939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17320" y="2452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38862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3886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029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4876920"/>
            <a:ext cx="4953240" cy="99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581280" y="3809880"/>
            <a:ext cx="457200" cy="304920"/>
            <a:chOff x="3581280" y="3809880"/>
            <a:chExt cx="457200" cy="304920"/>
          </a:xfrm>
        </p:grpSpPr>
        <p:sp>
          <p:nvSpPr>
            <p:cNvPr id="88" name=""/>
            <p:cNvSpPr/>
            <p:nvPr/>
          </p:nvSpPr>
          <p:spPr>
            <a:xfrm>
              <a:off x="3581280" y="38098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09880" y="38098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029200" y="3048120"/>
            <a:ext cx="457200" cy="304560"/>
            <a:chOff x="5029200" y="3048120"/>
            <a:chExt cx="457200" cy="304560"/>
          </a:xfrm>
        </p:grpSpPr>
        <p:sp>
          <p:nvSpPr>
            <p:cNvPr id="91" name=""/>
            <p:cNvSpPr/>
            <p:nvPr/>
          </p:nvSpPr>
          <p:spPr>
            <a:xfrm>
              <a:off x="5029200" y="304812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57800" y="3048120"/>
              <a:ext cx="22860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191120" y="380988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47920" y="4495680"/>
            <a:ext cx="457200" cy="304920"/>
            <a:chOff x="1447920" y="4495680"/>
            <a:chExt cx="457200" cy="304920"/>
          </a:xfrm>
        </p:grpSpPr>
        <p:sp>
          <p:nvSpPr>
            <p:cNvPr id="95" name=""/>
            <p:cNvSpPr/>
            <p:nvPr/>
          </p:nvSpPr>
          <p:spPr>
            <a:xfrm>
              <a:off x="1447920" y="44956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6520" y="44956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162920" y="4495680"/>
            <a:ext cx="457200" cy="304920"/>
            <a:chOff x="7162920" y="4495680"/>
            <a:chExt cx="457200" cy="304920"/>
          </a:xfrm>
        </p:grpSpPr>
        <p:sp>
          <p:nvSpPr>
            <p:cNvPr id="98" name=""/>
            <p:cNvSpPr/>
            <p:nvPr/>
          </p:nvSpPr>
          <p:spPr>
            <a:xfrm>
              <a:off x="7162920" y="44956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1520" y="44956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086600" y="41148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1148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748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2578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52578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Black"/>
              </a:rPr>
              <a:t>COPE</a:t>
            </a:r>
            <a:br>
              <a:rPr sz="4000"/>
            </a:br>
            <a:r>
              <a:rPr b="0" lang="en-US" sz="4000" spc="-1" strike="noStrike">
                <a:solidFill>
                  <a:srgbClr val="3366ff"/>
                </a:solidFill>
                <a:latin typeface="Arial Black"/>
              </a:rPr>
              <a:t>(Coding Opportunistically)</a:t>
            </a:r>
            <a:endParaRPr b="0" lang="en-US" sz="40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sider multiple unicas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eneralize Alice-Bob scen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xploits Shared Nature of Wireless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Overheard Packets for Shor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se packets are used for decoding perspective pa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rst implement Wireless Network Coding in the re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hear neighbors’ 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these packets in a buff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cket Poo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shor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he packet pool info. to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at packets to code based on the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encoded pack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1898640"/>
            <a:ext cx="3733920" cy="305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67080" y="2666880"/>
            <a:ext cx="163692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2187720" cy="3047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4920" y="1523880"/>
            <a:ext cx="3962160" cy="40388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209680"/>
            <a:ext cx="1523880" cy="274320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1447920"/>
            <a:ext cx="2819160" cy="4038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924680" y="2590920"/>
            <a:ext cx="380880" cy="457200"/>
            <a:chOff x="7924680" y="2590920"/>
            <a:chExt cx="380880" cy="457200"/>
          </a:xfrm>
        </p:grpSpPr>
        <p:sp>
          <p:nvSpPr>
            <p:cNvPr id="122" name=""/>
            <p:cNvSpPr/>
            <p:nvPr/>
          </p:nvSpPr>
          <p:spPr>
            <a:xfrm>
              <a:off x="7924680" y="259092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24680" y="259092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848720" y="3200400"/>
            <a:ext cx="609480" cy="457200"/>
            <a:chOff x="7848720" y="3200400"/>
            <a:chExt cx="609480" cy="457200"/>
          </a:xfrm>
        </p:grpSpPr>
        <p:sp>
          <p:nvSpPr>
            <p:cNvPr id="125" name=""/>
            <p:cNvSpPr/>
            <p:nvPr/>
          </p:nvSpPr>
          <p:spPr>
            <a:xfrm>
              <a:off x="7848720" y="3352680"/>
              <a:ext cx="228600" cy="30492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8077320" y="320040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77320" y="3276720"/>
              <a:ext cx="304560" cy="3045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924680" y="3809880"/>
            <a:ext cx="609840" cy="457200"/>
            <a:chOff x="7924680" y="3809880"/>
            <a:chExt cx="609840" cy="457200"/>
          </a:xfrm>
        </p:grpSpPr>
        <p:sp>
          <p:nvSpPr>
            <p:cNvPr id="129" name=""/>
            <p:cNvSpPr/>
            <p:nvPr/>
          </p:nvSpPr>
          <p:spPr>
            <a:xfrm>
              <a:off x="7924680" y="3962520"/>
              <a:ext cx="228600" cy="3045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153280" y="3809880"/>
              <a:ext cx="38124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06:54:36Z</dcterms:created>
  <dc:creator>gy</dc:creator>
  <dc:description/>
  <dc:language>en-US</dc:language>
  <cp:lastModifiedBy>jon crowcroft</cp:lastModifiedBy>
  <dcterms:modified xsi:type="dcterms:W3CDTF">2007-07-20T17:43:46Z</dcterms:modified>
  <cp:revision>17</cp:revision>
  <dc:subject/>
  <dc:title>XORs in The Air: Practical Wireless Network Coding</dc:title>
</cp:coreProperties>
</file>