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935A-BC78-4966-8161-2C2F8B5C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E18-04E7-43DF-9A27-2195641D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9A7-4D74-4423-AD25-0357B843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0784-7ADE-4F5E-893E-713BB65F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0DC-AF03-4E59-BD8B-FF809701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464A-E297-4E9E-923D-2D85B75B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9140-C9E5-4E20-8CD1-53B0B423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D2B-AFF3-49CD-A713-97F8A18E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28E-B80D-4E5B-BE2B-5A5557FF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A0CB-9CC5-469C-9249-D70A24C6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2CE5-C0C9-4C89-806B-8086978D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5B33-48BA-4991-B549-516B0343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478" r="0" b="68472"/>
          <a:stretch/>
        </p:blipFill>
        <p:spPr>
          <a:xfrm>
            <a:off x="0" y="0"/>
            <a:ext cx="9144000" cy="178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2" marL="987480" indent="-179280">
              <a:spcBef>
                <a:spcPts val="601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3" marL="1257480" indent="-90720">
              <a:spcBef>
                <a:spcPts val="601"/>
              </a:spcBef>
              <a:buClr>
                <a:srgbClr val="00008a"/>
              </a:buClr>
              <a:buFont typeface="Trebuchet MS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4" marL="1523880" indent="-87120">
              <a:spcBef>
                <a:spcPts val="601"/>
              </a:spcBef>
              <a:buClr>
                <a:srgbClr val="00008a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5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6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4108" t="5478" r="49299" b="73949"/>
          <a:stretch/>
        </p:blipFill>
        <p:spPr>
          <a:xfrm>
            <a:off x="7848720" y="81000"/>
            <a:ext cx="1238040" cy="4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12000" y="6597720"/>
            <a:ext cx="23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31280" y="6597720"/>
            <a:ext cx="558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51640" y="6597720"/>
            <a:ext cx="36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p. </a:t>
            </a:r>
            <a:fld id="{74D69E0D-B476-4D69-BCBE-B8CDA01F8BAD}" type="slidenum"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5054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5" name=""/>
          <p:cNvSpPr/>
          <p:nvPr/>
        </p:nvSpPr>
        <p:spPr>
          <a:xfrm>
            <a:off x="431640" y="6597720"/>
            <a:ext cx="4140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© 2004 The Communications Innovation Institute.  All rights reserved.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4460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2" marL="808200" algn="ctr">
              <a:spcBef>
                <a:spcPts val="400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3" marL="1166760" algn="ctr">
              <a:spcBef>
                <a:spcPts val="349"/>
              </a:spcBef>
              <a:buClr>
                <a:srgbClr val="00008a"/>
              </a:buClr>
              <a:buFont typeface="Trebuchet MS"/>
              <a:buChar char="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Futura Md BT"/>
            </a:endParaRPr>
          </a:p>
          <a:p>
            <a:pPr lvl="4" marL="1436760" algn="ctr">
              <a:spcBef>
                <a:spcPts val="300"/>
              </a:spcBef>
              <a:buClr>
                <a:srgbClr val="00008a"/>
              </a:buClr>
              <a:buFont typeface="Trebuchet MS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5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6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5054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utura Md BT"/>
              </a:rPr>
              <a:t>Ubiquity, Pervasiveness, Ambience and Invisible Computing </a:t>
            </a:r>
            <a:endParaRPr b="1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671640" y="5562360"/>
            <a:ext cx="5040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Jon Crowcroft,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The Computer Laboratory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University of Cambridge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Jon.crowcroft@cl.cam.ac.uk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any people are disabled – can help!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Many disabilities, not just loss of memor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ame tricks we use on road can work in lif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lready have started to record much digitiall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Location/Video/Audio from camera phon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utomatic Aide Memoire/Amanuensi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Needs to be smart:-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Just helping” remind can do more harm than good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Hint/suggest/retrain memory continuousl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Similar technology for partial sight, hearing, physical disabilit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mbined with cybernetic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eeing eye robot dog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2128-6737-4A08-A703-7D8DA5B88FB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Environmental Monitoring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48000" y="1773360"/>
            <a:ext cx="4570200" cy="457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1A7B-3779-4CFB-A5C0-009781C71F6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1640" y="-347040"/>
            <a:ext cx="73454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Building, City, World monitoring/Control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lready have projects to sense whole earth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Huge scale of problem: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mount of data, and physical model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Deployment of sensor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What to do with it? 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ntrols – e.g.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here to generate power when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hat to charge for carbon tax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en to change weather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Again, political, ethical, technical mix of problem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822-2CC1-4943-B302-E2FF7C1151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omputing 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Dependa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Provable Program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Properties like correctness, timeliness, scale/cost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Very very big systems, so automate proof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May not be conventional math proofs – more statistical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Like biological system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Extensi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New Programming Language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Combine huge numbers of very small components (pebbles)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Script behaviour, and check (programming is debugging!)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Usa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Human Computer Interaction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Not like VCRs, DVDs, Digital Set Top Boxe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Yes like digital cameras, cell phones, engine management sy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But all joined up!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C969-9CA9-4E9B-9CB6-B33817D167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ore simply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Time and Location part of all program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Ownership and Rights part of all data in and ou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Risk of failure of component and system must be know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Java and Basic not good enough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Internet too slow and no use on wireles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entiums use too much power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Windows needs too much memory, cpu and disk storag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ll these take too long to lear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Do you know where to even </a:t>
            </a:r>
            <a:r>
              <a:rPr b="0" i="1" lang="en-GB" sz="2400" spc="-1" strike="noStrike">
                <a:solidFill>
                  <a:srgbClr val="000000"/>
                </a:solidFill>
                <a:latin typeface="Futura Md BT"/>
              </a:rPr>
              <a:t>start</a:t>
            </a: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0FFF-098C-42C0-8A95-D7F12DA0FD5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Interlocking concerns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Economic, regulatory and technical concerns interac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Every day objects now part of cyberspace </a:t>
            </a:r>
            <a:r>
              <a:rPr b="0" i="1" lang="en-US" sz="2000" spc="-1" strike="noStrike">
                <a:solidFill>
                  <a:srgbClr val="000000"/>
                </a:solidFill>
                <a:latin typeface="Futura Md BT"/>
              </a:rPr>
              <a:t>(mixed reality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Note embedded systems do not use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Intel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x86 processors,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Microsoft’s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Windows Operating System, or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Cisco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routers and WWW/Internet to communicate.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They are all currently “</a:t>
            </a:r>
            <a:r>
              <a:rPr b="0" i="1" lang="en-US" sz="2000" spc="-1" strike="noStrike">
                <a:solidFill>
                  <a:srgbClr val="000000"/>
                </a:solidFill>
                <a:latin typeface="Futura Md BT"/>
              </a:rPr>
              <a:t>proprietary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” for lots of good technical reasons.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ome are made right here in the UK (ARM processor, </a:t>
            </a: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Symbian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 OS for example most common in PDAs and Handsets!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o plenty of interesting work for the next 40 years!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E85-815C-431F-B101-09EB426314F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What if all you touch is programmable?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Computers are so cheap &amp; useful we put ‘em everywher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side toys, inside cars, inside ourselv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 the environment, sea, atmospher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 the walls of our hous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Slowly, these devices are also being linked up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ireless networks (cell phone, 3G, WiFi, Bluetooth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Ubiquitous Internet acces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reviously they were “hardwired”, now programmabl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ell phone, PDA, Sky Box (Tivo), Car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oon, toys, healthcare, building, cit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D18-ED17-4637-8918-8135C563C2E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Toys or Cybernetics 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76360" y="1052640"/>
            <a:ext cx="4765680" cy="537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CDC-4D82-445F-94A5-BBFA475CCAF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Sinister or Fascinating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Furby could be re-programmed by TV program/advert!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mputing researchers “reverse engineered” protoco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Now used to program furby for fun/home project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nly a step from there to lego mindstorms etc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Note interface between everyday object and larger world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Has enormous effect, not just technica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Privacy, ethics, etc all suddenly important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Note private interface didn’t last long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pen community will be more creativ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ften leads to more profit (and fun) too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B31-486C-4AA0-8712-7D300A6F90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Healthcare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700360" y="1665360"/>
            <a:ext cx="3699000" cy="317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F39B-2CE2-4BB1-B15E-F6EDE704702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onitor (and control) of your health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ulse, blood sugar, skin conductivit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Effectively a lie detector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lso useful for “evidence based medicine”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Privacy! But also informed consent to access (research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Consider control (intervention)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E.g. de-fibrillator or insulin pump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trict access control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afety (correct operation now life critical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39A4-7A64-4E61-88DD-7D25D8E278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ar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00360" y="1808280"/>
            <a:ext cx="5484600" cy="411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6295-5615-4066-8685-47E8573EA80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In car navigation – a small step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Insurance might be cheaper if we choose safer route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also drive within speed limit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the system forces us to stay within speed limit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rely on that, and it goes wrong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arrot and Stick – cheaper, faster driving, if we agree 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add in pollution charge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charge is dynamic (based on car and today’s conditions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However, price of journey might become surprising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Now have technical and economic considerations +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Also still have privacy (where I am and when!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ould we add controls based on radar ?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Pedestrian/cyclist avoidance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How to make safe with only some cars fitted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A07-E042-45A9-8463-B94B33B9675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utura Md BT"/>
              </a:rPr>
              <a:t>Never lost or forgotton?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2854080" cy="43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578-C294-4F8D-A518-6EE02DBF21D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0:14:09Z</dcterms:created>
  <dc:creator>has27</dc:creator>
  <dc:description/>
  <dc:language>en-US</dc:language>
  <cp:lastModifiedBy>Jon Crowcroft</cp:lastModifiedBy>
  <dcterms:modified xsi:type="dcterms:W3CDTF">2004-11-14T14:24:53Z</dcterms:modified>
  <cp:revision>50</cp:revision>
  <dc:subject/>
  <dc:title>PowerPoint Presentation</dc:title>
</cp:coreProperties>
</file>