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A4C9-056C-48F0-8EF4-1551AAD6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BAC-B675-4BF5-9433-3A835B1E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BB9-8AC9-4D76-9654-9D3F7E4F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455D-F992-4F2C-8817-1D711E36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6A44-F8E3-47B5-8E1E-A380AEA5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876A-362C-4318-909C-7993051D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AEF7-B7E8-43BB-9026-90100C50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2925-CCF2-4539-8E13-EADA7D08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822D-0211-4DB6-A8E4-6A2AD21F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18A5-480C-4C9C-B589-0AB19179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0E71-7EDE-461B-8FBC-7836AE15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8AA-B516-4789-962E-1423824B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3007-B014-4A0E-9382-79BC5E91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EB39-0A37-4E5C-A12A-03CA2121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85D2-2793-44D1-9DCB-FA4A0776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064F-5A39-4904-BD81-151CB91F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BB5E-6667-436E-96E8-BF139653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807-ECBC-415E-A454-F935900F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014-1AEA-483C-AE0D-716F3963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F6C-EA69-4024-96E9-25016030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106E-ECAA-4DB4-AD44-755135C1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911-545C-4A26-8184-5016E998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AE7-E6DC-46A0-9246-E9EA5A51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1B4C-A1F7-4D4C-B702-8969E90C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oFIS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BCF3-3A1F-4909-8C89-65FC3FB1E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98BD-5712-49FD-9464-4B1A6444A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917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00000"/>
                </a:solidFill>
                <a:latin typeface="Arial"/>
              </a:rPr>
              <a:t>Mobile QoS:Can we provide predictable services for unpredictably mobile users?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4600" y="310356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n.Crowcroft@cl.c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ication Adaption v. Guarant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ld chestnut – can always do adaptation, but users (particularly humans) don’t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need admission control (Yes, I agree with Jim Roberts!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be policed down to the MAC/physical layer, and included in spectrum al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uggest spectrum allocation by economic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e surprising price for surprising Qo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em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string/gibbens/kelly/crowrof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Optimis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ser has a utility function to optimi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optimise the aggregate utili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l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dapt their transmission rates (c.f. TC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prices set by aggregate traff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al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nodes adapt prices (c.f. AT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rates are set by route p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ff66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 are used to guide a system to its optimum operating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of N nodes:  node S has R routes to send traffic to 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select particular route(s) to u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equipped with one directional transcei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cannot send/receive simultaneousl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sent, received or forwarded (received &amp; sent) is constrained by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speed of wireless ca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power consumption at a node is constrain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consumed by transmitting/receiving/forwarding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e Control, Price Adap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node has a willingness-to-pay parame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node’s credit bal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S determines the route with minimum pr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s discovered by, e.g. DS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sending 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price is the cumulative cost of sending traffic on each hop along the rou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cost &amp; receiv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include power costs and capacit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dapt bandwidth and power pr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local total traffic load and power consump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477120" y="3657600"/>
                <a:ext cx="1368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dit Bal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1856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centives for users to forward traff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receive credit for forwarding traff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credit received is dependent on the node prices and the magnitude of the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receive an initial credit balance of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ness-to-pay is proportional to credit bala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s lost when users leave the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credit lost depends on credit accrued by the user during its stay in the networ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a discount fact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4191120"/>
                <a:ext cx="4970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Desig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ly placed nodes in a 100mx100m gr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nodes within range of a node’s radio are its neighbou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re ON-OFF 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/OFF periods are exponentially distribu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s for traffic during ON period are uniformly distribu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costs are determined when a connection is initi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cost route is selec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not changed during connec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routing information being distributed within the networ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s route flapp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optimum not achieved, but reflects routing in actual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ndom Static Net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30520" y="1671480"/>
            <a:ext cx="5676840" cy="42595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Power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5676840" cy="425916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28600" y="152388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s are strongly dependent on lo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8 has the highest power pr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t is often used by other nodes to forward traffi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t’s location requires higher energy to transmit to neighbouring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1 has very low power price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Bandwidth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5676840" cy="42577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62120" y="2286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72200" y="1676160"/>
            <a:ext cx="2743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8 does not have the highest bandwidth pr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Traffic can be routed around edge of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 edge nodes (N1 and N7) carry minimal traff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bandwidth prices rapidly head to ze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Credit Balan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300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balances are strongly dependent on loc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8 has the highest power pr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It accumulates the most credit by forwarding traffic for other no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-neglig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edit reple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oS is most wanted when it is leas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reless networks are the last frontier of scarce resource, and will remain so for so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ig Challenge appears to be coping with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dictable service is what the subscriber and provider both w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lessons are there from QoS Architectures from Wired Networks, and What is Missing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ynamic Network Simul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arrive according to a Poisson proces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geographically placed according to a uniform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’ stay in the network is exponentially distribut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s must be updated within the network for ongoing connec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total credit evolv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-4572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Credit Bal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95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0" y="914400"/>
            <a:ext cx="2743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rival of a user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always increases the total credit by 1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nge in total credit, due to a departure of a user,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varies depending on the credit the user has accumul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redit in the system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decays to the number of 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ecay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depends on </a:t>
            </a:r>
            <a:r>
              <a:rPr b="0" lang="en-US" sz="2000" spc="-1" strike="noStrike">
                <a:solidFill>
                  <a:srgbClr val="9999ff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th of Mobile No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27280" y="1676520"/>
            <a:ext cx="5676840" cy="425916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ity: Node Power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0" y="106668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 of N1 increases as it moves towards the centre of the net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Routes are increasingly chosen with N1 as a forwarding nod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 of N8  de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N1 provides competition for N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Less energy is required to transmit to N1 as it moves clo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ity: Bandwidth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1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Overall increase in traffic in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8 also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Greater flow of traffic between N1 and N8 as they move closer toge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Overall increase in traffic in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4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6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57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ividual Node Throughpu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970360" y="169056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0" y="990720"/>
            <a:ext cx="2743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s of both N1 and N8 incre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More traffic between the no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Both nodes have more credit to send traffi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of N4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N4 is the node most often used to forward traffic to N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Traffic transmitted from N4 to N1 is relatively che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Network Throughpu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57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6400800" y="380880"/>
            <a:ext cx="2743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etwork throughput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ncreased throughput for N1 has not been at the expense of the overall network 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Mobility (in an appropriate direction) has increased the performance of the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6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redit in system  is cons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ummary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a system model for the interaction between nodes in a mobile ad hoc networ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price mechanisms and credit balance to provide framework for cooper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s demonstr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s of total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put increases with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our scheme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imescale decomposition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top people working on pure ad hoc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we know its fun, but it makes no sen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uade Intel to build some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uade FCC to let us d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r denial,theft,witness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ash (double spend/fo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signatures (trust h/w – e.g. A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becomes a Wired Internet QoS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scale decomposition (short to longes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ssion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ada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ffic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 Provis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de and Link 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 Priori Knowled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uch do we know or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TCP Padhye Equa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RTP VOIP/on-of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Poisson Arrival of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VOIP – Erlang sta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ffic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e/Elephant aggre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e 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 level source/destination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’s similar for mobil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llular/Wireless Acces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haul capacit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ll capacit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backha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have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’s different for mobil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nk” capacity not necessarily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s on spectrum allocatio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s (less usually) on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urce model may be affected by var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cell, distance from base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ad hoc, route capa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feedback, e.g. TCP adapts (or proxy/splic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trix is more rapidly time var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aggregate behaviour is really random…s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n we still use traditional tool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ends on what we believe about random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real world, we know about the disposi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k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RF propagation models for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do not move random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ong architected and planne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use communication random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 ad hoc/hybrid case specially har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ends on why you use ad h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networks-  small, not multi-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ndezvo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\t need high capacity (unless to reach printer/back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hicle networks – take a different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network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 constellation simply swap through cell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use multi-hop, but, eventually, reach road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nty of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 in vehicle makes spectrum re-use efficient even in flash cro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 true random movement betwee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quences for MAC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have power/distance aware MACs (trend in 802.11* and Blue Tooth is to hide this infor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think about information theory in regard to appl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vehicle network, for real time monitor and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where between Gupta/Kuma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Grossglauser/T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design to be at the good e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n</cp:lastModifiedBy>
  <dcterms:modified xsi:type="dcterms:W3CDTF">2003-10-01T13:07:28Z</dcterms:modified>
  <cp:revision>65</cp:revision>
  <dc:subject/>
  <dc:title>Multicast extensions for TCP</dc:title>
</cp:coreProperties>
</file>