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2AD-2FE0-4B9E-8417-161C73CD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100-C7F6-4B02-B6D0-738E738A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17C-2EB2-4A01-B4FE-97C6000B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D7C-A62C-4718-8EE6-CA5980BC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E208-7C6C-491E-972E-A703AC61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26EB-F109-4E99-BAC0-2650258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D25-77B1-4328-A701-BEF2B09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9EB8-75DD-4227-A1F2-8A352964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5523-9578-4325-B5C5-2929DA48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395-388E-41B8-B05D-F8F407E0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D68-30F1-4E2F-9D59-CEF9A24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EF7-F696-4A4D-B0EE-AEA523E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1822-CE08-44FB-9C84-D087DCC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02D8-9A8E-473D-95EC-39484DF5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4C67-92DE-4520-B5C5-29B6CABB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2AE7-E25F-428E-8D2A-F4B1626D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56AE-2B77-45DA-9462-F942B094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308-3E64-4968-82C0-75D2F79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3A7-4DC2-46FA-81AA-60DD4912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CF1-2791-482C-BD55-3DB58E2E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1D1-53E7-4614-A05E-998242E8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001-0AF4-4F4B-8496-2007E01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847-BF06-4AF4-84C2-0262861C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471-800C-4BBF-94DE-93B33E7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Hands Meet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358-4945-414D-A83E-D756601D5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0B13-E47B-4908-89D1-CFDE7EA3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eliable high-speed Grid data delivery using IP Multica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Jeacle &amp; 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2840" y="3103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.lastname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switch to unicast after failed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y splitting receivers int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ccording to cwin /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ip_addr group_i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oup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tx_mode txmod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ni/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8t nrtx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# re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*next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ext “m”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06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13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20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27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34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ture Grid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arl-ahm-p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559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2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unicast / multicas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back / fall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loo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eScien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lane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ience volunte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es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eur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ing to intel about more EU sites doing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specialise (or enhance) To add e.g. 3G wireless and WiFi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low more local experimentation without the usual “Big Science” hassle of engaging with NRN and G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have a lot of EU Datagrid site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with good (netherlight/starlight/uklight) connectivirt to each other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o some Big Scienc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goal is to see if TCP-XP can go faster than FAST TCP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ybrid, Purist, Over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e argument is to leave incentive for subscriber to demand and provider to deploy ip native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n’t worked (15 years after first h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schemes not much examined (SCE prob. One of f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retains understanding gained in unicast and mcast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ay requires lots of new mechanisms to be debu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2P promising, but side by side problems alluded to in Diot’s anti-deployment paper sti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ly good for “grid”like users (shared incentive to forward for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lab &gt;100 “random”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value – if have account on 1 site, have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ed multicast deployment from all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chance of tx being about to use mcast is to k out of r non zero but chance of all paths to all receivers working is close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p of AS doing mcast, average path len a Ass, 1- (1-p)^a per receiver -&gt; [1-(1-p)^a]^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 receivers al working, but a lot better for k&lt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09-17T04:52:10Z</dcterms:modified>
  <cp:revision>58</cp:revision>
  <dc:subject/>
  <dc:title>Multicast extensions for TCP</dc:title>
</cp:coreProperties>
</file>