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DDD-318A-447B-BB38-DEEE4074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E014-DEF1-4168-9279-BEEF7894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11E8-EE0A-48F2-AFFB-07D65722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0F33-94E9-402A-9651-D077A60D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A7ED-F677-4E8F-BD56-FE2C0F52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79BF-19BD-4EAB-A4A3-0007BA97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BE6A-5DA2-465B-8301-8BC584BE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B90D-C377-466D-852B-8F2BBFF8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1B4E-D115-4FF4-A433-0BB808DE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1407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94BC-73FE-4660-ADB9-337C05C6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F9FB-7068-4CF0-8D74-EA3B6261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3314-EFD4-42B3-A9BE-5DE30636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8593-F166-47EA-9D02-3235ED49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801D-AFB4-43FA-BBA3-6C36AF3C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CBD9-B1DB-457A-A759-9DD38E03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8C72-DD4E-4724-9D88-94FAEFD0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1855-A4A3-4FCA-88DF-CDA41579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AB18-3124-44F6-A956-AD182957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F02A-76DA-4440-9818-8F0A5202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7AA6-5658-4ECD-9D23-60DAA090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600" y="1407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FE0-578A-4E01-A126-52579BDE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5D2-A084-41D8-ADA8-C15821B8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5ADA-2650-41BF-8CD6-B4E695AD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AD6D-1E70-4E34-AFEC-66D7A87D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99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4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rtinoro, FuDiCo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18C9-AD47-4623-AF20-69ACCE75C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80880" y="609480"/>
            <a:ext cx="83844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620120" y="0"/>
            <a:ext cx="1465200" cy="160020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6"/>
          <a:stretch/>
        </p:blipFill>
        <p:spPr>
          <a:xfrm>
            <a:off x="7905600" y="540540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2133-E27B-434B-9875-F2A8054C3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80880" y="476280"/>
            <a:ext cx="83844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620120" y="-133200"/>
            <a:ext cx="1465200" cy="1600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5000" y="1886040"/>
            <a:ext cx="9144000" cy="8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International Technology Al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pperplate Gothic Bold"/>
              </a:rPr>
              <a:t>In Network &amp; Information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610080" y="0"/>
            <a:ext cx="2028600" cy="1905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58800" y="2808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Mobile Ad-hoc Inter-domain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34960" y="4978440"/>
            <a:ext cx="6400800" cy="676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on Crowcroft, Computer Laboratory, 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ttp://www.cl.cam.ac.uk/~jac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6560" y="5767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2F19-E699-497E-9331-7D8E6F198B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A Future with Many MANETs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day we’ll want to inter-m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alking about a cloud of manets clustered around the fixed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inter-domain manet - traversing different routing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very hard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ven clear that one solution is se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A00B-165E-45DB-A745-F0C19D3FF6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Quick Drying Gloss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ET=Mobile Ad-hoc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qaeda, swarm of bees, Man Un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P = Interior Gateway Protoc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OLSR, DLR, AODV,GP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P= Exterior Gateway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BGP, IDPR, IDRP, as yet don’t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= Autonom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Ci, ETH, 18.0.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mr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ana-3.lcs.mit.edu/~jnc/nimrod/doc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D036-F0C9-4FD0-B707-E3DD24C149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Definitely a MAD distributed system!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omain has own go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on geo- or topo-, on demand or reactive, optimized for capacity, delay, loss, power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ies (ingress, egress, transit) are colo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ion is not just at “edg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ation of IGP and EGP non triv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data follow control traffic (in space and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Addr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we add level of hierarchy or transl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1DDF-2CEE-4CE0-A0AB-5050D3D0CE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1. IGP to EGP interface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ve:Proa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- trumps 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ause route and act as hello in same breat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 versus Topolog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- trumps Ge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ap one way not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 route or reachability (AS map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Map (like nimrod) trumps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associate in a MANET longer than route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DE73-A354-428C-8B1F-84B551C9BD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2. Torrents of Policy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ANET is a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has own incentive &amp; recommendation &amp; reput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map these between different syst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o we have separation of ingress/egress/transit policy from intra-manet rou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ms like separation is required for technical reasons too (see previous and next sli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602B-F25B-4B10-8F3A-C58E3C486E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3. IGP to EGP Synchronization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P may not actually conve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- and gradient- protocols don’t ne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P offer of probability of reach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output of EGP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UDLR and other asymmetric schemes (IP over x.25:-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map&amp;reachability exchange control traverse more stable paths than users’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B3B0-CF7E-46CD-B6D0-1D3B86CDDA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4. Heterogeneous Addresses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MANET will assign addresses (identifiers for routing and end system) dynam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report these in EGP as part of reach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“re-prefix” them (like IPv6) or assume AS level uniqueness, or transl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7C7B-D37D-4C63-9E82-490F8E3399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pperplate Gothic Bold"/>
              </a:rPr>
              <a:t>Conclusion/future</a:t>
            </a: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looking at u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tarou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ostdoc looking a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urt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lut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e on composable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first we have to have a clear problem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wman proposed - next: evaluate - criteria/topology/mobility/dynamics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2200" y="6100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E773-72F1-40B2-B7F3-2534A2F5FF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n crowcroft</cp:lastModifiedBy>
  <dcterms:modified xsi:type="dcterms:W3CDTF">2007-06-03T10:53:17Z</dcterms:modified>
  <cp:revision>20</cp:revision>
  <dc:subject/>
  <dc:title>PowerPoint Presentation</dc:title>
</cp:coreProperties>
</file>