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E1F3-51C9-47B2-961E-EC576E35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9721-CF33-468B-A441-3A263512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32BF-0807-4BC8-B44D-5E643332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08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6008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BB41-F8B3-4489-87D3-9E4C78E3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EA70-0331-4AC1-B54D-AC4C338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A5B9-E267-46F7-9320-E8272561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F078-E52C-442C-A271-EF708D5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4CCA-2955-4849-9091-5799BAA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77FB-35A6-4E28-BEC8-7B1EF1A7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7A46-65C1-4DEA-BFC1-2BB948C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C1E1-BFCC-4B31-AC70-9FE4DCE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8B45-11F3-4182-871B-6DAC98F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Thomson Labs Paris, just outside Paris :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D66F80-A464-4966-A94F-42B2D067227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Nov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703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azy Susan: dumb waiting as proof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360" y="3860280"/>
            <a:ext cx="5376960" cy="19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.Crowcroft@cl.cam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 &amp; Thomson Research Paris&amp; LI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560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4680" y="599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9640" y="1800360"/>
            <a:ext cx="75247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parallizable Shared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ch Report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techreports/UCAM-CL-TR-7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chained with tim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type of homomorphic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of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impact of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ook at impact of adding our PoW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graphs are from analysis (no implementation ye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ttacke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PoW-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er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work, but requires our system deploy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vali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location might be access ro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penWRT linux router woul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ingress devices that polic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CPE, or ISP ingress router,or even D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k1,k2,k3) idea using 3 IP address spaces (client=k1,server=k3,validator=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therwise I must go and celebrate my birth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n.Crowcroft@cl.cam.ac.u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AM-CL-TR-703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don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Deegan at Xensource, Christian Kreibich at ICSI, Richard Mortier at Microsoft Research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cholas Weaver at Berke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merci a CNRS et Thom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Slate DoS Proof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 Sus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ay for service to contro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 aspe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of of work (PoW)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centralized way to implement P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ermits arbitrary clie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some) ingress control/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zy Susan &amp; Dumb Wa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689200" cy="358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chitectural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zy Sus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ree layers of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required to acquire each to ge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ferred to as k1,k2,k3, but not P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b Wa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novel proof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PU or mem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Work (P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, Memory,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scale of botnets ve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resource available to legitimat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, 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 service itself target fo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PoW hard to make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zed attacks a problem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1 on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imp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ew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clients that have misbeha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sed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analogou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xt slide f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-243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y Cookie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338880" cy="54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2 on P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01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paral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must contact valid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validator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 client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cr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 can help new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out-of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r Clients become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9000" y="1838160"/>
            <a:ext cx="7506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11-20T13:00:02Z</dcterms:modified>
  <cp:revision>176</cp:revision>
  <dc:subject/>
  <dc:title>Bubble Rap: Forwarding in Small World DTNs in Ever Decreasing Circles</dc:title>
</cp:coreProperties>
</file>