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24.png" ContentType="image/png"/>
  <Override PartName="/ppt/media/image9.pct" ContentType="image/x-pict"/>
  <Override PartName="/ppt/media/image8.gif" ContentType="image/gif"/>
  <Override PartName="/ppt/media/image13.pct" ContentType="image/x-pict"/>
  <Override PartName="/ppt/media/image7.gif" ContentType="image/gif"/>
  <Override PartName="/ppt/media/image23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22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5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98FE-FCA6-49D1-B578-C8C3420BA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ED57-E5F6-4F35-9668-9E98B0A31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as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aker (TaeSaeng Choi, ETRI) mentioned – is pretty shit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move to autonomic stuff of some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FFAEB-564E-4618-A6EC-8865FE183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D770-283A-4AC7-A3C0-F95B8CB5D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EAEA-D504-492A-81AE-9E5DA3724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27EF-52D2-458E-8394-F5A209AFE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959F-099D-4377-91D4-CA5B496E0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22091-9C89-4539-8D96-B92C622B8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733B-46E7-4359-9371-CAAAAC88A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54A50-BBBC-46D9-990F-D47AB1DC3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795AD-546A-4B6A-82DE-602EB39CF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FD2E3-2081-4E2D-B61E-07BE387BD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ED11-C2BA-44BB-BB4F-AD670C177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E984-04BA-4459-A763-BD1EBE5EA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KAIST, September 3rd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9E85-DC10-49FC-AE4D-C4D59E14983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pct"/><Relationship Id="rId8" Type="http://schemas.openxmlformats.org/officeDocument/2006/relationships/image" Target="../media/image10.pct"/><Relationship Id="rId9" Type="http://schemas.openxmlformats.org/officeDocument/2006/relationships/image" Target="../media/image11.pct"/><Relationship Id="rId10" Type="http://schemas.openxmlformats.org/officeDocument/2006/relationships/image" Target="../media/image12.pct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2062440"/>
            <a:ext cx="8435880" cy="18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Based on Haggle  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5040" y="4212720"/>
            <a:ext cx="579744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crowcroft@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.cam.ac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u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http://www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6"/>
              </a:rPr>
              <a:t>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7"/>
              </a:rPr>
              <a:t>.cam.ac.uk/~jac22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Example: Haggle, a Human DTN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F6682-851B-41FE-93E5-74212F65A7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860a8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8FC4-76EF-46FC-94E8-DF5AFC08BF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Can we Generalize From Haggle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3EB8B-885D-45A4-A01D-C7019BDDC5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4E38-CFC6-4E9A-B9BA-3A42665FE9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CF756-7269-4D49-B988-80E6D5321D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78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8122400">
              <a:off x="5502960" y="258624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AA12-7CC1-46DF-BBE8-168A3E5BC3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8FBF2-A74E-4D0F-8419-1748AE6AFA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2B439-7E25-4615-989B-0C48F09E93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C1BC0-30E2-4993-90FA-03BFE75596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CAA7-075F-4C59-8C81-3BECE49D02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and Steven Hand &amp; Wenjun Hu, Experiments and Analysis from Pan (Ben) Hui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068560" y="6194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E628-46D0-4E58-8838-68CD730803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detection and Community based forwar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251A3-DB73-4281-8C0C-7A198CE91F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ommunity detection&amp;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mmunity structur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communities, i.e. affiliations/explicit label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pological cohesive groups or modul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entral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hubs, celebrities and postma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tweenness, closeness, inference power 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races of human xco-mobilty on/from Crawdad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 own Cambridge, Hong Kong, Infoco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IT Reality Mining, Dartmouth, UCS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925C0-BE90-49E8-8937-6BF1F8B5AB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9740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ommunities in Infocom06 Dataset: </a:t>
            </a:r>
            <a:r>
              <a:rPr b="1" lang="en-GB" sz="2800" spc="-1" strike="noStrike">
                <a:solidFill>
                  <a:srgbClr val="0860a8"/>
                </a:solidFill>
                <a:latin typeface="Comic Sans MS"/>
              </a:rPr>
              <a:t>Union of k-cliques reachable via series of adjacent k-cliques [Palla et al]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85840" y="1523880"/>
            <a:ext cx="8858160" cy="4248360"/>
            <a:chOff x="285840" y="1523880"/>
            <a:chExt cx="8858160" cy="4248360"/>
          </a:xfrm>
        </p:grpSpPr>
        <p:grpSp>
          <p:nvGrpSpPr>
            <p:cNvPr id="207" name=""/>
            <p:cNvGrpSpPr/>
            <p:nvPr/>
          </p:nvGrpSpPr>
          <p:grpSpPr>
            <a:xfrm>
              <a:off x="285840" y="1523880"/>
              <a:ext cx="8858160" cy="4248360"/>
              <a:chOff x="285840" y="1523880"/>
              <a:chExt cx="8858160" cy="4248360"/>
            </a:xfrm>
          </p:grpSpPr>
          <p:pic>
            <p:nvPicPr>
              <p:cNvPr id="20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5840" y="1523880"/>
                <a:ext cx="8858160" cy="42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8015400" y="3047400"/>
                <a:ext cx="16740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015400" y="2666160"/>
                <a:ext cx="166680" cy="1699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183160" y="347112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59000" y="253944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06240" y="232740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768160" y="215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63720" y="287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97240" y="34711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54080" y="3216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03240" y="389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45320" y="33861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36840" y="355500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53360" y="355608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96560" y="330192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66200" y="300528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31680" y="3639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42680" y="3301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59920" y="355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26600" y="3133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06040" y="52491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73080" y="49953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56960" y="546120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66120" y="51645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54560" y="207360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371960" y="3005280"/>
                <a:ext cx="5139000" cy="11005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30560" y="4826520"/>
                <a:ext cx="1211400" cy="8467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947040" y="487548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47040" y="4600080"/>
              <a:ext cx="140040" cy="1382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47040" y="515196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47040" y="542700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25320" y="466992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25320" y="453168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7120" y="480708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5320" y="50670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5320" y="53589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10400" y="211788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29080" y="260172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23720" y="193572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600" y="225648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0240" y="434772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8560" y="473868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4E2D8-58C3-4D2D-B18D-9FF3C8A7A1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253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90AB2-72A7-48B7-9CBE-F6E8F93BDC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860a8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573E-5529-4954-9F33-EA332E09EF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Centrality  Cambridge Dataset: </a:t>
            </a: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times node is on shortest delay path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D43B-B94A-4075-AD5C-2B92D1831B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Interaction and 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ird generation human interaction mod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tegories of human contact patter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ique and commun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pularity/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ual natures of mobile networ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hysic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enchmark Forwarding strateg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looding, Wait, and Multiple-copy-multiple-hop (MCP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95AD5-4C5F-4C5E-9C5F-35353F76F3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Design Spac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860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Human Dimension</a:t>
            </a: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DE31-44A4-420C-AA4B-543D48700A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RAN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8DF2C-AECC-486F-8955-C353032462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LABE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 a less mixing environment (e.g. Reality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person in one group may not meet members in another group so ofte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ait for destination group not effici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5866D-EA24-40C5-91F2-FAE96F0EFB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35114-F0A5-4D98-AA84-DACF5A03E2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opulation divided into commun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Node has a global and local ran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Global popular node like a postman, or politician in a c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ocal popular node like Christophe Diot in SIGCOM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B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C9A5-5B11-456B-AFB0-285551839F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C8E46-B0B9-47EA-868E-0F84E187AC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3A677-00F6-481D-A8E2-91DDE2D1EB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Making Centrality Practica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can each node know its own centrality in decentralised way?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well does past centrality predict the future?</a:t>
            </a:r>
            <a:br>
              <a:rPr sz="2400"/>
            </a:b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E7B67-6C15-4886-8092-EC3276DE49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3752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361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otal degree, per-6-hour degre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rrelation coefficients, 0.7401 and 0.951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97EF-3E8D-4C52-976E-0373A0C3A0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Using decentralised 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38880" cy="319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BDF0F-53BC-40B0-A1A2-CAE858193B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redictability of Human Mobility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237520" cy="21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ree sessions of Reality datas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wo sessions using the ranking calculated from the first session: Almost same performa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5975280" cy="28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C12F-61F3-4584-8B40-B6E06237E8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CB14-9317-409B-BAD5-FC6D425F7B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ease e-mail me: Jon.Crowcroft@cl.cam.ac.u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apers availabl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4536-A94C-4FF3-AA57-810771334F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ne (incremental) view: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Internet choices ok: Don’t Panic!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gestion collaps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CP congestion control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e backbone won’t scale!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raffic Engineering, DWDM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e’ll run out of address spac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IDR, NAT (and IPNL, 4+4, Triad, …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ng fat pipes are under-used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calable TCP, HSTCP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tocol stacks can’t keep up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Zero-copy I/O, TSO, …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CP doesn’t work on wireless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plit-TCP, i-TC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ut what about security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irewalls, Application-level filtering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9E7D5-EA4E-458D-9D4D-50B8F8323F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So everything’s ok then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ll, no…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kludg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stop-g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NAT for a billion cellular devices? a trillion sensors?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management story whatsoever… and security really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 nutshell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: Just-in-time Engineering” (Anon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has always just been saved from catastrophic failure” (M Handley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is a triumph of human ingenuity over common sense” (S Hand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That isn’t architecture, it’s sloppy building repairs!</a:t>
            </a:r>
            <a:endParaRPr b="0" lang="en-US" sz="17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AB7FD-B330-4C8E-A070-16B1F171EF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8CC5D-7C6A-434C-9833-E927F0619E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9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A4AA-BEFE-4F95-A137-3953963BA6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272D-D3DB-4374-9CD0-B65E860051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 algn="ctr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o FIND/GENI?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erience: Architectures emerge (ANSA/Herber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FC0F-434A-45C9-9979-5E1FD8B733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9-02T22:23:09Z</dcterms:modified>
  <cp:revision>262</cp:revision>
  <dc:subject/>
  <dc:title>Haggle Work </dc:title>
</cp:coreProperties>
</file>