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64C-F624-44A4-BB4F-BF82C0AA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C89-E4B2-4E22-A388-2014825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10B-285F-4BC4-ACB1-91A14A18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D01-6D8E-40D8-BEDE-CB3DFDA8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6C2B-46A7-4BD6-ADDD-59E94377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070C-291A-4298-B8FD-3A3CE8BD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7C92-0CDE-4ED3-90B8-AB6C604C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C3F-A9D5-4BB3-988F-4D8D64CD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147-CD08-4928-8B65-D451B131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77C2-5711-4DD2-8AA1-374D5A38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AB0-2DD1-4D91-94F4-C31E4EA8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649-97A1-4350-A71C-959934D5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A932-2A00-47D6-88A8-2ABCB6C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8198-390E-465E-B372-440A23A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721-8D36-42E9-9FD7-3E32083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B8EE-5103-4932-AC81-FCBC471B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A5DA-8563-49F4-87CC-464FF461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E8E-75C2-4195-AF8A-09C5660A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C44-B42F-4CB3-B128-C1BDAF4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A2A-7615-405E-AA85-4A6A635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BC0-CB42-46D3-96AA-0896A69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165-444E-4D6D-BD4A-7A184B6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A00-1153-4D53-9D44-C992897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7B0-00AA-409A-94EC-1822156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3492-2C47-4303-A29D-12E1D00FC4A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A8DC-5758-4AC0-9842-6BB9717E5725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eploying Mesh Networks through Public Transpor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36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 Huang, J Crowcroft,, I Wassell, Wenjun 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boratory of Communication Engine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obileMAN Project:IST 2001 38113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108000" y="508464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ic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ty model based on Manhattan Grid System with realistic movement and traffic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dio propagation model for microcells, based on a recursive path loss model with multipath fading and interference from other n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evaluation made based on outage durations, connectivity, maximum outage tim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relationships between performance and number of nodes, connection times, traffic congestion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7280" y="1052640"/>
            <a:ext cx="453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us to establish physical bound for network connectivity independent of upper layer protoc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stem is unsuitable for real time communication, however feasible for dispatch type ap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a number of business and technical risks to consider, however serves to highlight considerations for this type of appl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3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bile Ad Hoc Networks (MANET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27640" y="167328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 of a set of self-organized, decentralized, mobile hosts that roam at will and communicate directly with each 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ropose a novel application scenario in the form of a MANET dispatch system for t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2276640"/>
          <a:ext cx="4033800" cy="27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4033800" cy="27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Business 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llab with SUPSI-DS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of Wiki to elicit user prefer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 detailed business cases devised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Taxi Cab Radio 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Ad Hoc Ga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Shopping Mall Messaging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alistic Business Cas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at retain p2p/ad hoc 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reak down to stakehol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isk analysis (for busi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rity requirements analys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customer and business ration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 find requirements for incentives/cooperation (reput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cab operation’s primary play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600200"/>
            <a:ext cx="6857280" cy="4343400"/>
            <a:chOff x="914400" y="1600200"/>
            <a:chExt cx="6857280" cy="4343400"/>
          </a:xfrm>
        </p:grpSpPr>
        <p:grpSp>
          <p:nvGrpSpPr>
            <p:cNvPr id="170" name=""/>
            <p:cNvGrpSpPr/>
            <p:nvPr/>
          </p:nvGrpSpPr>
          <p:grpSpPr>
            <a:xfrm>
              <a:off x="5166360" y="4952160"/>
              <a:ext cx="2605320" cy="991440"/>
              <a:chOff x="5166360" y="4952160"/>
              <a:chExt cx="2605320" cy="99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6360" y="51217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6360" y="5518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88960" y="4952160"/>
                <a:ext cx="178272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914400" y="1600200"/>
              <a:ext cx="6035040" cy="4343040"/>
              <a:chOff x="914400" y="1600200"/>
              <a:chExt cx="6035040" cy="4343040"/>
            </a:xfrm>
          </p:grpSpPr>
          <p:sp>
            <p:nvSpPr>
              <p:cNvPr id="175" name=""/>
              <p:cNvSpPr/>
              <p:nvPr/>
            </p:nvSpPr>
            <p:spPr>
              <a:xfrm>
                <a:off x="914400" y="1600200"/>
                <a:ext cx="6035040" cy="3116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3040" y="2025000"/>
                <a:ext cx="123444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810"/>
                    </a:solidFill>
                    <a:latin typeface="Arial Unicode MS"/>
                  </a:rPr>
                  <a:t>Custom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920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204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H/W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20624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71500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520440" y="3110400"/>
                <a:ext cx="3154680" cy="1274760"/>
                <a:chOff x="3520440" y="3110400"/>
                <a:chExt cx="3154680" cy="1274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20440" y="3110400"/>
                  <a:ext cx="3154680" cy="127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Cab Compan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0352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810"/>
                      </a:solidFill>
                      <a:latin typeface="Verdana"/>
                    </a:rPr>
                    <a:t>Dispatcher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5760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Verdana"/>
                    </a:rPr>
                    <a:t>Cab driv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92040" y="3818520"/>
                  <a:ext cx="4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051560" y="5093640"/>
                <a:ext cx="150876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Internet Service Provider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access point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6120" y="5093640"/>
                <a:ext cx="164592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Credit card service provid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credit card facility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588320" y="2756160"/>
                <a:ext cx="22680" cy="23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828440" y="2768040"/>
                <a:ext cx="22680" cy="23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7480" y="2401920"/>
                <a:ext cx="123444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31840" y="4095000"/>
                <a:ext cx="4456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166360" y="4101480"/>
                <a:ext cx="41112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23160" y="2741760"/>
                <a:ext cx="1097280" cy="235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206240" y="438480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8056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148840" y="3534840"/>
                <a:ext cx="0" cy="155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342880" y="393660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354400" y="3960360"/>
                <a:ext cx="11656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48840" y="3535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12648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ad hoc gaming on ubiquitous devices scenario’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76360" y="2637000"/>
            <a:ext cx="6400800" cy="2568240"/>
            <a:chOff x="1476360" y="2637000"/>
            <a:chExt cx="6400800" cy="2568240"/>
          </a:xfrm>
        </p:grpSpPr>
        <p:grpSp>
          <p:nvGrpSpPr>
            <p:cNvPr id="203" name=""/>
            <p:cNvGrpSpPr/>
            <p:nvPr/>
          </p:nvGrpSpPr>
          <p:grpSpPr>
            <a:xfrm>
              <a:off x="5705280" y="2979720"/>
              <a:ext cx="2171880" cy="799920"/>
              <a:chOff x="5705280" y="2979720"/>
              <a:chExt cx="2171880" cy="799920"/>
            </a:xfrm>
          </p:grpSpPr>
          <p:sp>
            <p:nvSpPr>
              <p:cNvPr id="204" name=""/>
              <p:cNvSpPr/>
              <p:nvPr/>
            </p:nvSpPr>
            <p:spPr>
              <a:xfrm>
                <a:off x="5705280" y="31165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05280" y="34369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91080" y="2979720"/>
                <a:ext cx="148608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476360" y="2637000"/>
              <a:ext cx="4114800" cy="256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0460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Manufactur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7648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End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648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Content Develo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60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Retail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0680" y="314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171600" y="3700080"/>
              <a:ext cx="7333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0680" y="4633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90680" y="3490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1976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Game Service Provi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2560" y="458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362560" y="3703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370480" y="44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81040" y="37411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retail mall based scenari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03280" y="1773360"/>
            <a:ext cx="6400080" cy="3886200"/>
            <a:chOff x="1403280" y="1773360"/>
            <a:chExt cx="6400080" cy="3886200"/>
          </a:xfrm>
        </p:grpSpPr>
        <p:grpSp>
          <p:nvGrpSpPr>
            <p:cNvPr id="223" name=""/>
            <p:cNvGrpSpPr/>
            <p:nvPr/>
          </p:nvGrpSpPr>
          <p:grpSpPr>
            <a:xfrm>
              <a:off x="1403280" y="1773360"/>
              <a:ext cx="6400080" cy="3886200"/>
              <a:chOff x="1403280" y="1773360"/>
              <a:chExt cx="6400080" cy="38862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632200" y="4288680"/>
                <a:ext cx="2171160" cy="799920"/>
                <a:chOff x="5632200" y="4288680"/>
                <a:chExt cx="2171160" cy="799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632200" y="4425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2200" y="47458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17640" y="4288680"/>
                  <a:ext cx="1485720" cy="7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mone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inform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03280" y="1773360"/>
                <a:ext cx="6172200" cy="3886200"/>
                <a:chOff x="1403280" y="1773360"/>
                <a:chExt cx="6172200" cy="3886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03280" y="1773360"/>
                  <a:ext cx="4114800" cy="388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3152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Manufactur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340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Publish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0340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Develop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3152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and Software Retail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17600" y="2284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17600" y="3770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117240" y="2627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307960" y="2877840"/>
                  <a:ext cx="0" cy="3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45920" y="451728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End Custom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3993840" y="41742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26060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466092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117600" y="3488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2774880" y="414576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03480" y="41742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46680" y="3144960"/>
                  <a:ext cx="1828800" cy="8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all get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ore custom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 flipH="1">
              <a:off x="3117240" y="2436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re Details on Ad Hoc Network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axi Dispatch Sy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ails in Mobihoc pap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mobility (from “Panther”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RF propa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lication is decentrali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s expensive central alterna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anci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sing the value proposition for primary p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ng technolog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st comparis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s likely to be cheaper and easier to roll 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6-02-12T12:32:11Z</dcterms:modified>
  <cp:revision>90</cp:revision>
  <dc:subject/>
  <dc:title>Ultra Wideband Radio Technology: Potential &amp; Challenges Ahead</dc:title>
</cp:coreProperties>
</file>