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8EA4-E3A0-4D83-92EA-36258D441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s already have 500 computers in (40% of car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0AC-C9CC-4E2A-BFE1-90626421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7F5-8942-47F9-BE08-A0039E21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FE5-D2DD-4BAB-B015-C4A4554B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5A8-B258-478E-9816-A05BA3AA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45E-F636-41F9-9A22-A849BB0A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117-11AB-43EF-BDF9-B606D4A8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B68-5CD8-461F-813A-92BEB422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FCB-9669-45CE-88E7-CB30AFB2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7B5-8ECF-4D84-A7C0-2B50DE06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90B-56C0-4BB7-BB82-AB0E5977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947-63EE-4E1E-8248-6DABB6EB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33A-DE69-4F0F-B97E-FD37A4B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dcen School for Girls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B9DE-7012-41B8-8FF8-27DB0BB87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Future of Computing and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mpute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586728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BDE-267A-47A8-A767-991824E72B3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 of interaction without phys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put the computer away from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all of the h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door of the c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heel of a sho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ve it into your shir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will you interact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Victoria Bellotti at Ap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ch, gesture, context - no keyboard, no mouse, no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C6A-6EEF-48D6-9EEF-4B7AEB513D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 havnt mention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ould like to empower every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and control the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how the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use/configure/re-purpo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ans we need an accesible program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like VCR, DVD, Skybox, Windo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new? Yes, but what ? Any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31E-A14E-4D43-B430-FE9CCA6E882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(or 2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+5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(or 1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 again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thinking, logic or comp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E61-6507-4A2A-A5C5-2281C8AB5A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9, Computer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BA in Natural Sciences in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 years as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Sc at U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0 years sentence t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back to Cambridge…sin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DD3-2EBB-4716-8454-087A75C954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ing: the Science of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t on a formal, but also practical fo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is the business of build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just gadgets, but the world (ecosystem) that supports ga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he Internet, The Web, Google, iTunes, Amazon,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s, Browsers, Searching/Maps, MP3, secure online payment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62D-4F68-44B9-91C1-FCDA84DCE4C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eople think CS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eople want to cross a narrow rope bridge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1 torch, and only 2 people can fit on the bridge safel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west takes 10 mins, the next slowest 5, the next slowest 2, and the fastest 1 min. You need to take the torch back for the next 2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et everyone across in 17 mins.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AD7-8BFD-49D1-B813-0448E99E26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lot of Computing is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ol Goble (A Prof at Manchester) s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ever we do something right in computing, it becomes invisible to the 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wireless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music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cell phones or ipods, or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5B0-1E5D-4B0A-811C-6539E88EFF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ensible to en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s that computer, storage and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n capacity every year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ost 1/2 as much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10 years, will have hand held movie device with 15000 fil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arry it? Why not have 100 of them if they cost 1 eu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lse will we dream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A4E-7019-4C1B-A85C-EA99FCEC8C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going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hig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 and point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health/wellbe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v. Psychology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computing in the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alk about just these 3 exampl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DBD-B936-476D-9345-3DC65F8F38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 High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00 people a year die in the UK on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ccidents don’t have to happen if car does collision avoidance-  simpler is to control gap betwee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rs don’t like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 even worse habits (viz ABS, Airbag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urance companies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ot put a pointy stick in the middle of the steering whe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 people don’t learn much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732-DB9B-441D-8767-654261D741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ust in online medical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you let a machine make decisions about your medical treat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nother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a “human in the lo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trust the doctor, and the doctor trusts the program, should I trust the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dy Hall (prof at Southampton) sa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 meets psychology (math loses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12A-201E-464F-8BE1-F000F667D9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Jon Crowcroft</cp:lastModifiedBy>
  <dcterms:modified xsi:type="dcterms:W3CDTF">2006-03-19T19:43:30Z</dcterms:modified>
  <cp:revision>29</cp:revision>
  <dc:subject/>
  <dc:title>Scaleable Ubiquitous Systems</dc:title>
</cp:coreProperties>
</file>