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8558-8447-466D-96DC-6F230FBE0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033E-2B68-4E49-8886-CF21F2829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1C36-680F-40B3-9FB0-66B12ED3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A44-8293-4A72-95BB-EB7469A4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EE5-5A00-4006-AE04-C11277C1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4527-7468-47CA-8BB6-3A89A6D8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440A-BA50-480D-8E9F-7E01DBB4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268-1FD1-4BD8-824B-254B2C59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5D6-0E8D-46CD-93F7-EE5BD6EE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771-C6B8-4503-8642-EFBAFDF3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9384-B61D-4D07-BED1-522ABD13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77F4-6ACE-4AF1-9888-F7BC9EE5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0C1-EFB3-467C-88CE-8B514C54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234-A5C3-42AC-9786-F213641D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800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3" marL="1884240" indent="-268200">
              <a:spcBef>
                <a:spcPts val="18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4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5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6" marL="2422440" indent="-272880">
              <a:spcBef>
                <a:spcPts val="18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FF7F-EF2F-4799-964E-74F00BE1879E}" type="datetime">
              <a:rPr b="1" lang="en-US" sz="800" spc="-1" strike="noStrike">
                <a:solidFill>
                  <a:srgbClr val="ffffff"/>
                </a:solidFill>
                <a:latin typeface="Verdan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85A2-0AB8-4434-9312-03EDC6C077D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857680"/>
            <a:ext cx="807552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43" name="" descr="University of Cambridge"/>
          <p:cNvPicPr/>
          <p:nvPr/>
        </p:nvPicPr>
        <p:blipFill>
          <a:blip r:embed="rId2"/>
          <a:stretch/>
        </p:blipFill>
        <p:spPr>
          <a:xfrm>
            <a:off x="2627280" y="620640"/>
            <a:ext cx="448776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247680" indent="83484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indent="10429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indent="142236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 indent="142236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1434960"/>
            <a:ext cx="8435880" cy="25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860a8"/>
                </a:solidFill>
                <a:latin typeface="Verdana"/>
              </a:rPr>
              <a:t>Network Architecture Research Considerations Or The Internet Conspiracy</a:t>
            </a:r>
            <a:br>
              <a:rPr sz="4100"/>
            </a:br>
            <a:endParaRPr b="1" lang="en-US" sz="41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36640" y="4212720"/>
            <a:ext cx="5800680" cy="308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60a8"/>
                </a:solidFill>
                <a:latin typeface="Verdana"/>
              </a:rPr>
              <a:t>Jon Crowcroft (University of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James Scott (xxx Research Cambrid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n Hui (University of Cambridge)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hristophe Diot (Thoms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Mothy Roscoe (ETH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A third way…post internet arch (“post” can bind to net or arch: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Sidestep the whole purist/pluralist debat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void an architecture completel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’s unnecessar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doesn’t address any problem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t may be counterproduct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t me give a detailed worked example from the Haggle Project :- 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ST-4-027918-I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D94-46BB-4FA7-826E-F6D83522EF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BE2C3-656F-4377-9A24-AE25C7DA77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The alternativ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ere is no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Just a bunch of computers with lin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moves “semantic bottleneck” from application writer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mbrace “radically heterogeneous networking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wo end-systems should be able to communicate even if they have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nothing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in common: protocols, address realms, semantics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619-CE03-4E8B-80B4-388C60370E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C25670-0765-403A-9007-04CA08F54A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Surely something must be common?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Of course: but it is only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the application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at what is common is that which is application-specifi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Even DTN has single overlay architectu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(bundle routing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382-5B83-496B-8DA3-885F36C4896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D4595-C742-41BF-BA9E-6C4EBBB0EF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Verdana"/>
              </a:rPr>
              <a:t>By way of example: </a:t>
            </a: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Haggle (== DTN bis): </a:t>
            </a:r>
            <a:br>
              <a:rPr sz="2800"/>
            </a:br>
            <a:r>
              <a:rPr b="0" lang="en-GB" sz="2800" spc="-1" strike="noStrike">
                <a:solidFill>
                  <a:srgbClr val="0860a8"/>
                </a:solidFill>
                <a:latin typeface="Verdana"/>
              </a:rPr>
              <a:t>A framework for Networking Mobile Users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Wireline Networks: Sol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ET: Liqui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Haggle: Ga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anage Phase Changes between these – reality of wireless is that we need to move fro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Sol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Gas -&gt; Liqui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ore often than we previously realize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9BC-3DF8-4608-8C66-30B912E4B89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A3A1E-41DB-4A4D-801C-F08A184C56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Our approach: Haggle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98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lean slate design of networking subsystem for mobile device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Haggle: a layerless, but modular network architectur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igned around the needs of mobile user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ims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applications to take advantage of all types of data transfer (neighborhood, infrastructure, mobility)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networking endpoints to be specified by user-level naming schemes rather than node-specific network addresses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ow limited resources to be used efficiently by mobile devices, taking into account user-level priorities for tas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D28-3FD7-4C05-88AC-1FD937DEF65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CD5F4-3839-4B2F-BD64-F93556B965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sign principles for Haggle</a:t>
            </a:r>
            <a:br>
              <a:rPr sz="3200"/>
            </a:b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(not an architecture, no no no:-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ward using application layer inform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e-lay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synchronous oper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assume pat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 intermediate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Do not separate host from rou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user data kept network-visible, and req/resp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x==rx==store  - all equal class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loit all data transfer metho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Greed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ke advantage of brief connection opportun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patience is goo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marL="353880" indent="-353880">
              <a:lnSpc>
                <a:spcPct val="80000"/>
              </a:lnSpc>
              <a:spcBef>
                <a:spcPts val="1349"/>
              </a:spcBef>
              <a:buClr>
                <a:srgbClr val="0860a8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mpowered and informed resource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814680" indent="-318600">
              <a:lnSpc>
                <a:spcPct val="80000"/>
              </a:lnSpc>
              <a:spcBef>
                <a:spcPts val="799"/>
              </a:spcBef>
              <a:buClr>
                <a:srgbClr val="0860a8"/>
              </a:buClr>
              <a:buSzPct val="125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Know and tell what it cos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C1D-885D-4C6C-BAF7-76D0968899D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FF4568-BE18-4A5C-A8B2-D7C993B499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Current device software framework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363920"/>
            <a:ext cx="2744640" cy="86544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Interface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0000" y="364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Delivery (IP)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0000" y="292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Protocol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40000" y="220500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 logic + GU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0000" y="1484280"/>
            <a:ext cx="2744640" cy="865080"/>
          </a:xfrm>
          <a:prstGeom prst="cube">
            <a:avLst>
              <a:gd name="adj" fmla="val 25000"/>
            </a:avLst>
          </a:prstGeom>
          <a:solidFill>
            <a:srgbClr val="b9ffc5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User Data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2492280"/>
            <a:ext cx="144360" cy="129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3280" y="2852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0720" y="39322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6920" y="181944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Times New Roman"/>
              </a:rPr>
              <a:t>File System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24360" y="3789360"/>
            <a:ext cx="2448000" cy="863640"/>
          </a:xfrm>
          <a:prstGeom prst="wedgeRectCallout">
            <a:avLst>
              <a:gd name="adj1" fmla="val -135277"/>
              <a:gd name="adj2" fmla="val -50000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nchronous, node-centric API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1197000"/>
            <a:ext cx="2448000" cy="792000"/>
          </a:xfrm>
          <a:prstGeom prst="wedgeRectCallout">
            <a:avLst>
              <a:gd name="adj1" fmla="val -115629"/>
              <a:gd name="adj2" fmla="val 31361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olated from network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4360" y="2492280"/>
            <a:ext cx="2448000" cy="863640"/>
          </a:xfrm>
          <a:prstGeom prst="wedgeRectCallout">
            <a:avLst>
              <a:gd name="adj1" fmla="val -95134"/>
              <a:gd name="adj2" fmla="val 18013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 has two orthogonal parts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4360" y="5013360"/>
            <a:ext cx="2448000" cy="863640"/>
          </a:xfrm>
          <a:prstGeom prst="wedgeRectCallout">
            <a:avLst>
              <a:gd name="adj1" fmla="val -138199"/>
              <a:gd name="adj2" fmla="val -124449"/>
            </a:avLst>
          </a:pr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ivery uses anonymous IP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FDB2-3A4A-4976-91CE-AB29B153921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4DF08-0EC0-41BD-AD71-DBEAB5EED2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Haggle Overview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8000" y="1414440"/>
            <a:ext cx="496872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lean-slate redesign of mobile n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pans MAC to application layers (inclusive), but is itself layerless – uses six “managers”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I is asynchronous and data-centri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e-and-forward architecture with data persisting inside Haggle not separate file sy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-layer protocols (SMTP, HTTP, etc) moved into Haggle rather than apps themselv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aming/addressing done in graphs instead of sta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349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management built-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735080" y="836640"/>
            <a:ext cx="4775040" cy="5146200"/>
            <a:chOff x="4735080" y="836640"/>
            <a:chExt cx="4775040" cy="5146200"/>
          </a:xfrm>
        </p:grpSpPr>
        <p:sp>
          <p:nvSpPr>
            <p:cNvPr id="151" name=""/>
            <p:cNvSpPr/>
            <p:nvPr/>
          </p:nvSpPr>
          <p:spPr>
            <a:xfrm>
              <a:off x="5049720" y="1323720"/>
              <a:ext cx="4056120" cy="32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Arial"/>
                </a:rPr>
                <a:t>Haggle Application Interface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49720" y="836640"/>
              <a:ext cx="405612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plications (messaging, web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0800000"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Protocol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7257600">
              <a:off x="5397840" y="178416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Resourc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3667800">
              <a:off x="539784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8920" y="1784160"/>
              <a:ext cx="3448080" cy="349848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Name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7995800">
              <a:off x="5398200" y="178488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4376600">
              <a:off x="5398200" y="1784520"/>
              <a:ext cx="3449520" cy="3498840"/>
            </a:xfrm>
            <a:prstGeom prst="blockArc">
              <a:avLst>
                <a:gd name="adj1" fmla="val 14574304"/>
                <a:gd name="adj2" fmla="val 17825696"/>
                <a:gd name="adj3" fmla="val 23361"/>
              </a:avLst>
            </a:prstGeom>
            <a:noFill/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8122400">
              <a:off x="5420160" y="2585880"/>
              <a:ext cx="1202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860a8"/>
                  </a:solidFill>
                  <a:latin typeface="Arial"/>
                </a:rPr>
                <a:t>Forwarding</a:t>
              </a: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860a8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9720" y="5495760"/>
              <a:ext cx="4059360" cy="487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nnectivities (WiFi, BT, GPRS, etc)</a:t>
              </a:r>
              <a:endParaRPr b="0" lang="en-US" sz="1800" spc="-1" strike="noStrike">
                <a:solidFill>
                  <a:srgbClr val="0860a8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3CD-301A-4714-BDD6-A44C0E1FC42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89FF0-E78E-4178-83F5-11D40083CA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ata Objects (DOs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47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O = set of attributes = {type, value} pairs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posing metadata facilitates sear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Can link to other DO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tructure data that should be kept toge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692280" indent="-34776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allow apps to categorise/organi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pps/Haggle managers can “claim” DOs to assert ownership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19640" y="1627200"/>
          <a:ext cx="3638520" cy="1942920"/>
        </p:xfrm>
        <a:graphic>
          <a:graphicData uri="http://schemas.openxmlformats.org/drawingml/2006/table">
            <a:tbl>
              <a:tblPr/>
              <a:tblGrid>
                <a:gridCol w="1405080"/>
                <a:gridCol w="223344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message/rfc822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From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James Scot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To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Richard Gas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bjec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heck this photo out!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Body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text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435640" y="4170240"/>
          <a:ext cx="3600360" cy="1619280"/>
        </p:xfrm>
        <a:graphic>
          <a:graphicData uri="http://schemas.openxmlformats.org/drawingml/2006/table">
            <a:tbl>
              <a:tblPr/>
              <a:tblGrid>
                <a:gridCol w="1440000"/>
                <a:gridCol w="2160360"/>
              </a:tblGrid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O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1368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ontent-Typ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image/jpeg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Keywords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Sunset, London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Creation time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05/06/06 2015 GMT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5760">
                      <a:solidFill>
                        <a:srgbClr val="0860a8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Data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860a8"/>
                      </a:solidFill>
                    </a:lnL>
                    <a:lnR w="576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860a8"/>
                          </a:solidFill>
                          <a:latin typeface="Verdana"/>
                        </a:rPr>
                        <a:t>[binary]</a:t>
                      </a:r>
                      <a:endParaRPr b="0" lang="en-US" sz="1200" spc="-1" strike="noStrike">
                        <a:solidFill>
                          <a:srgbClr val="0860a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860a8"/>
                      </a:solidFill>
                    </a:lnL>
                    <a:lnR w="13680">
                      <a:solidFill>
                        <a:srgbClr val="0860a8"/>
                      </a:solidFill>
                    </a:lnR>
                    <a:lnT w="5760">
                      <a:solidFill>
                        <a:srgbClr val="0860a8"/>
                      </a:solidFill>
                    </a:lnT>
                    <a:lnB w="13680">
                      <a:solidFill>
                        <a:srgbClr val="0860a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5653080" y="3571920"/>
            <a:ext cx="0" cy="6490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318000" y="1197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essage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80240" y="37638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ttachment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599-2E09-404C-9710-CAA1B278EC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79550-66F1-44B9-966A-7F189F7CD9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Protocol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Protocols are methods for communicating with other nodes, including Haggle-specific protocols as well as legacy protocols (e.g. email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to send an ADU over an ad-hoc WiFi connection given a neighbour’s MAC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ample: protocol using keywords as addresses via Google – e.g. satisfy a query for “world news”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4440" indent="-2444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egacy example: encapsulate an ADU in an email and send it using SMTP to an email addres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C73-4FDE-4AA1-B74E-EBF1F03D513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D1174-65BA-40E9-B718-41EAD6DE0F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Why we shouldn’t do network arch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Liberally borrowed slides from Mothy Roscoe (ex cambridge, sprint, intel, berkeley, oz, now ETH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ost-modernism (Wenjun Hu, Jon, Mothy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 to FIND/GENI? - n.b. my abstract’s comments(*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rchitectures emerge (ANSA/Herbert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35120" indent="-24984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apers about them are usually post-hoc rationalisati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First, general Argument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hen specific (Haggle) example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726-1BBA-4019-8B05-D212374FB9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4CF39-2470-4C4D-AA17-0A17E1F7B2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Delivery uses user-level names(ANA)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854100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lutarch, IPNL, RSIP etc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ames come from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, e.g. using neighbour discovery (12:AB:23:98:BE:FF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s, e.g. Jon Crowcroft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»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jon.crowcroft@cl.cam.ac.u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Some names are also “addresses” i.e. data can be delivered to that name using one of the protocols availabl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58120" indent="-258120">
              <a:lnSpc>
                <a:spcPct val="8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Delivery engine needs t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e “nearby” addresses (e.g. Bluetooth inquiry gives MAC addresses, Internet connectivity means all email addresses are deliverabl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sender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p between ADU’s destination name(s) and addresses of suitable next-hop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Known-recipient: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termine suitable nearby nodes which may be sources or help find sources for requested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59600" indent="-258120">
              <a:lnSpc>
                <a:spcPct val="8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escribe these potential transfers and their benefits to the resource mana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F9B-12DA-4C40-AA78-ECCF34DBA49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DA4EC-92AE-466B-AB7F-7A7E04C65C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Resource management using tasks 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5760" y="837720"/>
            <a:ext cx="8237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Task is a network activity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source management uses a list of tasks mainly provided by delivery engine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perform discovery on interface I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E.g. send ADU X to neighbour Y on interface Z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8920" indent="-26892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Each task has an associated benefit and cos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Benefit is specified by task provider.  May be time-dependent (i.e. using a pointer-to-function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To get cost, resource use is estimated, and then the “cost” is a function of the resource use * the resource scarcity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92000" indent="-26892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Resource manager then schedules execution of tasks in order of highest benefit/cost ratio.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5CD0-C8EF-462A-AD24-9D0C236457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20370-5282-49A2-A4FF-D256B32811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860a8"/>
                </a:solidFill>
                <a:latin typeface="Verdana"/>
              </a:rPr>
              <a:t>So where are w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37520" cy="46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Problem definition and some idea of solution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NOT architecture:- framework for others to use(Sourceforge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thers develop use ca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rchitecture will emerge from common us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ther work we’ve done: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/analysis of human connectivity patter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asurement of in-motion wireless networking 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Ongoing work in European projec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measurement and analysis of possible data path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of modular software frame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ing challenges of naming/addressing, forwarding, security/trust, usability,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legacy compati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210-6A6E-4379-A42A-3AD5AFEDA06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C8D7D-C6F3-4A5C-BFEB-BC79C5A741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Back to FIND/GENI &amp; Architecture/Testbeds &amp; EU v. US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s per my contentious (*) abstract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ND and GENI are to fill a funding gap US h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U doesn’t have ga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chitecture research is philosophy, not science or enginee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he devil is in the details, so: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 1000 architectures bloo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World will pick a winn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ego will declare it the new architecture and beco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783720" indent="-2664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mother-in-law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the Next Generation Inter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266400" indent="-266400">
              <a:lnSpc>
                <a:spcPct val="90000"/>
              </a:lnSpc>
              <a:spcBef>
                <a:spcPts val="15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P7 should fund good communications systems research as usual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A45-CFC0-44E2-B422-D4A82B1F90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CA98B-EF44-471B-AC60-F9DBC8B65E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Questions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hank you…obrigado …ciao …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49840" indent="-24984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cknowledgements: James Scott, Mothy Roscoe, Mark Handley, Richard Mortier, Steve Hand, Keshav, Nick Feamster, Kevin Fall, for arguments about architecture, post modern or otherwise :-)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7E9-F908-4521-8075-9C2B76F300B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1E493-79A9-49C7-A4F7-8E2C2CEE2F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y have an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What does an Internet Architecture hope to achieve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Interoperability across network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Easier for applications to code to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ramework for providers to compet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oes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any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Internet architecture really address these issues?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815-425B-4220-9357-97B63467F5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44EB5-51AB-43E2-8208-826EC4803B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60a8"/>
                </a:solidFill>
                <a:latin typeface="Verdana"/>
              </a:rPr>
              <a:t>What is a Network Architecture?</a:t>
            </a:r>
            <a:endParaRPr b="1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Paradig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iven Physical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constraint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acket/circuit/new(e.g. multihop radio)?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Fundamentally is net a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graph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protocols/services “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layered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”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hoose Functional Decomposi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Trade between packet </a:t>
            </a:r>
            <a:r>
              <a:rPr b="0" i="1" lang="en-US" sz="2000" spc="-1" strike="noStrike">
                <a:solidFill>
                  <a:srgbClr val="0860a8"/>
                </a:solidFill>
                <a:latin typeface="Verdana"/>
              </a:rPr>
              <a:t>header</a:t>
            </a: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 and node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hoose stateless or stateful (e2e v. hbh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(e.g. change trade to include transpor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1341360" indent="-258840">
              <a:lnSpc>
                <a:spcPct val="90000"/>
              </a:lnSpc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can do NAT, Header Compression and QoS/Flow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re nodes different (host v. router)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oose Packet Format(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8EE-3292-4527-BA9C-4EB9165EFA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C011F-9791-41FB-BBC3-B367D37D07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operability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o – not really</a:t>
            </a:r>
            <a:r>
              <a:rPr b="0" lang="en-US" sz="2000" spc="-1" strike="noStrike">
                <a:solidFill>
                  <a:srgbClr val="0860a8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form API: 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Bad thing: hides useful features of the underlying network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.f. cross layer optimisations and other oxymoron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rovider framework: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as any tier-1 ISP ever made significant profit from offering IP service?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Net Neutrality Debate etc etc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7497-1D79-4FB7-BDEC-F1FA87A180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3142A-39B7-4620-AB42-B1E1F217E2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What has the “Internet Architecture” done for us lately?</a:t>
            </a:r>
            <a:endParaRPr b="1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2400" spc="-1" strike="noStrike">
                <a:solidFill>
                  <a:srgbClr val="0860a8"/>
                </a:solidFill>
                <a:latin typeface="Verdana"/>
              </a:rPr>
              <a:t>used to</a:t>
            </a: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 enable rapid innov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laim: lack of attention to value flow &amp; economics was a Good Thing!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igh commercial value blunts innovation (c.f. other industries)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-274680">
              <a:lnSpc>
                <a:spcPct val="90000"/>
              </a:lnSpc>
              <a:spcBef>
                <a:spcPts val="10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Disruption is bad for business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dea: goal of networking research should be to enable surprising thing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lvl="1" marL="808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061A-E091-4DF5-B863-5357F2E4C0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E36B3-3656-4946-B8F5-5051459AF6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urist?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03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209680"/>
            <a:ext cx="1828800" cy="1447920"/>
          </a:xfrm>
          <a:prstGeom prst="wedgeRectCallout">
            <a:avLst>
              <a:gd name="adj1" fmla="val 71092"/>
              <a:gd name="adj2" fmla="val 90240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2209680"/>
            <a:ext cx="1828800" cy="1447920"/>
          </a:xfrm>
          <a:prstGeom prst="wedgeRectCallout">
            <a:avLst>
              <a:gd name="adj1" fmla="val -56856"/>
              <a:gd name="adj2" fmla="val 72699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Email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IM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Unreal Tournament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74C6-FAE1-4102-9EB5-7FD28D57D8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2B8D9-B159-4522-A89E-3E2CE00560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One (pluralist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438960" y="3565440"/>
            <a:ext cx="2043000" cy="1758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3962520"/>
            <a:ext cx="1795680" cy="1833480"/>
          </a:xfrm>
          <a:prstGeom prst="rect">
            <a:avLst/>
          </a:prstGeom>
          <a:ln w="0">
            <a:noFill/>
          </a:ln>
        </p:spPr>
      </p:pic>
      <p:sp>
        <p:nvSpPr>
          <p:cNvPr id="111" name="Cloud"/>
          <p:cNvSpPr/>
          <p:nvPr/>
        </p:nvSpPr>
        <p:spPr>
          <a:xfrm>
            <a:off x="3505320" y="1676520"/>
            <a:ext cx="3200400" cy="2144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Arial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1905120" y="2286000"/>
            <a:ext cx="1295280" cy="1295280"/>
          </a:xfrm>
          <a:custGeom>
            <a:avLst/>
            <a:gdLst>
              <a:gd name="textAreaLeft" fmla="*/ 371880 w 1295280"/>
              <a:gd name="textAreaRight" fmla="*/ 1109520 w 1295280"/>
              <a:gd name="textAreaTop" fmla="*/ 745920 h 1295280"/>
              <a:gd name="textAreaBottom" fmla="*/ 11095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 rot="5400000">
            <a:off x="7009200" y="2208960"/>
            <a:ext cx="1295640" cy="1295640"/>
          </a:xfrm>
          <a:custGeom>
            <a:avLst/>
            <a:gdLst>
              <a:gd name="textAreaLeft" fmla="*/ 371520 w 1295640"/>
              <a:gd name="textAreaRight" fmla="*/ 1109520 w 1295640"/>
              <a:gd name="textAreaTop" fmla="*/ 745920 h 1295640"/>
              <a:gd name="textAreaBottom" fmla="*/ 110952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a6cae1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90920"/>
            <a:ext cx="1828800" cy="1066680"/>
          </a:xfrm>
          <a:prstGeom prst="wedgeRectCallout">
            <a:avLst>
              <a:gd name="adj1" fmla="val 71092"/>
              <a:gd name="adj2" fmla="val 10461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Voice over GSM mobile phone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2666880"/>
            <a:ext cx="1828800" cy="990720"/>
          </a:xfrm>
          <a:prstGeom prst="wedgeRectCallout">
            <a:avLst>
              <a:gd name="adj1" fmla="val -56856"/>
              <a:gd name="adj2" fmla="val 83171"/>
            </a:avLst>
          </a:prstGeom>
          <a:solidFill>
            <a:srgbClr val="ffff00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Comic Sans MS"/>
              </a:rPr>
              <a:t>Skype P2P voice over IP</a:t>
            </a:r>
            <a:endParaRPr b="0" lang="en-US" sz="20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6B94-E974-42CE-9B3A-9438422B1A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56EB2-A17E-43BF-B7B3-64F60BC49D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60a8"/>
                </a:solidFill>
                <a:latin typeface="Verdana"/>
              </a:rPr>
              <a:t>Different (separatist/corrosive/layered) view of network architecture</a:t>
            </a:r>
            <a:endParaRPr b="1" lang="en-US" sz="2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7" name="Cloud"/>
          <p:cNvSpPr/>
          <p:nvPr/>
        </p:nvSpPr>
        <p:spPr>
          <a:xfrm>
            <a:off x="3352680" y="2895480"/>
            <a:ext cx="3429000" cy="13827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860a8"/>
                </a:solidFill>
                <a:latin typeface="Comic Sans MS"/>
              </a:rPr>
              <a:t>Network Architecture”</a:t>
            </a:r>
            <a:endParaRPr b="0" lang="en-US" sz="24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4495680"/>
            <a:ext cx="396216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2743200"/>
            <a:ext cx="3962520" cy="0"/>
          </a:xfrm>
          <a:prstGeom prst="line">
            <a:avLst/>
          </a:prstGeom>
          <a:ln cap="rnd" w="381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28600" y="468468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Networking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76200" y="20178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860a8"/>
                </a:solidFill>
                <a:latin typeface="Comic Sans MS"/>
              </a:rPr>
              <a:t>Systems people”</a:t>
            </a:r>
            <a:endParaRPr b="0" lang="en-US" sz="2800" spc="-1" strike="noStrike">
              <a:solidFill>
                <a:srgbClr val="086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eXT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26C-8C06-494C-A949-241C47B9259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24F15-48A4-49D6-90FF-6736B13134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16:26:58Z</dcterms:created>
  <dc:creator>James Scott</dc:creator>
  <dc:description/>
  <dc:language>en-US</dc:language>
  <cp:lastModifiedBy>jon crowcroft</cp:lastModifiedBy>
  <dcterms:modified xsi:type="dcterms:W3CDTF">2006-12-05T14:35:44Z</dcterms:modified>
  <cp:revision>249</cp:revision>
  <dc:subject/>
  <dc:title>Haggle Work </dc:title>
</cp:coreProperties>
</file>