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FA1-608E-4FC6-9B44-4C922277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F14-D044-40CA-ABB7-EDF62E0C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AEC-99CF-409B-95F3-48ECC7EC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4D4-6D83-4588-A0EA-9F936C60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552-3307-45B1-89C3-1CD59948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7BB-D845-42E3-9DB9-F77969EF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D7C-04A9-4E7D-BD1D-11ED88DF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F17-B5F2-4703-BD71-BC468650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C4B-1FD6-467F-8939-8E6B0F2B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789-57B0-4D1C-96D9-D14DDCB6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2D4-3004-4A2F-A3DA-5D1BBC00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6A8-B6FE-4520-9032-58080710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2F46-086F-4F1E-941D-12CE238A97D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oNeXt/COST ARCADIA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Future Internet Workshop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Panel Session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809520"/>
            <a:ext cx="620856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Christophe Dio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Serge Fdid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Kenjiro Ch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The Flo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4754520" y="662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ote of the da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 “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nyone who isn't dead or from another plane of existence would do well to cover their ears right about now.”, Smith, et al…1999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88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9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e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No, but seriousl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1 we’ve seen a lot of actual technical work going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specially the student posters !!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europe is a live and well and happen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I am asking people to decide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trategy&amp; Prior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activ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lus coordinating with new places  - vi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ina, Japan, Korea e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xample Topics for prioritisation from this workshop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Virtualisation (or is i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Virtualizati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Xen, Xorp, XCP and XI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ed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r is it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ubsidiarity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nitoring/Measur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Day in the Life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Last Bit Txe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n the Interne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ireless&amp;Security&amp;Nam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wher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urop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has distinguishing streng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IP over Voice Networks… …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re Workshops… … …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just wanna go to Rehab, baby” (apols to Amy Winehouse :-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4T16:43:48Z</dcterms:modified>
  <cp:revision>241</cp:revision>
  <dc:subject/>
  <dc:title>Haggle Work </dc:title>
</cp:coreProperties>
</file>