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88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21280" y="190476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88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21280" y="3895200"/>
            <a:ext cx="2601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560" y="302760"/>
            <a:ext cx="8637480" cy="25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7560" y="389520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7560" y="1904760"/>
            <a:ext cx="39430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95200"/>
            <a:ext cx="8080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slid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pttitle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0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00"/>
              </a:spcBef>
              <a:buClr>
                <a:srgbClr val="ffffcc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OARC, 26/7/05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038120" y="5562360"/>
            <a:ext cx="4496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What we want to do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finite bandwidth for fre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ow cost optica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roadband wirel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fficient, secure cont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are the Technical, Policy, Economic barrier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ber everywhe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esh wireless everywhere el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ternity P2P storage everywhere and everywhere el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Fiber everywher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K ought to be ide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right demographic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duct infrastructure to most home/offi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oldest EU deregulated telecom industry and gung ho free market loony govern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world leading photonics re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 it isnt just a technical or business case probl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ulatory framewor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urrently, if incumbent deploys ftth for all, they have to allow access (as in ADSL) to all ISPs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be need to have govt. “own” fib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nd license spectrum on it? :-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necessarily the solution, but just to give flavou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Mesh wireless everywhere else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on theory says mesh can have capacity increase as  we add wireless users - panacea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quite since there’s a minimal tiling necessary, just to get connectiv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F propagation is black magic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quite a few multihop hybrid candidates just to sta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n there’s the spectrum regul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n its cheap, but only when you ship 100s Millions of uni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 stage evolu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 Mixed access+spectrum license trad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 First 2/3 hop community nets for wider acc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Net coding and mesh starts to crystalize in some c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610920"/>
            <a:ext cx="8637480" cy="146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Making Content owners Content with Content distribution and not contend with pirates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2p scales. It reduces cost of ownershi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be used for storage and computation (c.f. Eternity and Xenoserver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 commercial (netflix) and Domestic (backup) storag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 commercial (derivative) and domestic (halflife) compu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secure auditable story on revenue stream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censes havn’t scal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usted computing hasn’t deliver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scription/radio/podcast play models (for CPU/OS/App?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Picking just one interesting tech problem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 to provision for p2p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source model (e.g. download/upload arrival process statistic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n measure this by join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traffic “matrix” (and over tim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Getting hard to measure with torrents, network codes and chaum mixes going 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me very large content outfits would like to use thi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arner for examp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ld also then design p2p solutions for other problem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NS replacement for examp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Some other mad stuff 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portunistic networking (a.k.a Haggl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its somewhere between MANET and DT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 mobile objects to ferry packets (a.k.a. pocket switched networking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periment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ve tried at Infocom (application was to distribute IP addresses via bluetooth and motes/phones to people when DHCP service was broken:-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ve tried using envelop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agine if all the letters in the post could carry packets to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Really interesting mad stuff…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 reality networks - one e.g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cars have WiFi (mimo and steerable antenna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cars have cameras (and other sensor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“fly through” a route t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miliarise yourself with how it looks to dr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eck out live traffic situ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cue people can check out how to reach accid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istory can be record of problem causes:-(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lling and speed contro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g. Via tamper proof box &amp; insurance discount (no privacy problem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302760"/>
            <a:ext cx="8637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CII is Ideas shop</a:t>
            </a:r>
            <a:endParaRPr b="1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80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ike innovation workbench, we have skills along the cha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rom different departmen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rom industry, regulator, govern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You can play too…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8a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lease do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5-07-25T15:02:40Z</dcterms:modified>
  <cp:revision>17</cp:revision>
  <dc:subject/>
  <dc:title>PowerPoint Presentation</dc:title>
</cp:coreProperties>
</file>