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F9CE-5D99-407D-9FA1-1AE8D6E2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4997-175D-4C40-B877-C027B692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2118-24FE-43E6-9828-0560B83D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D9B2-9E86-4626-B0EF-7F4DFE86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B4CA-9B2D-4F36-B258-28075987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B1C3-47C2-4C58-8DC6-FBA06F96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0FD5-6DCE-40C8-9276-38544E76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0AA5-F60B-4B23-8EC2-C5477668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9F3F-CC2F-470F-8FF1-5AF79479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5E57-6434-49F5-8493-E3BBB9CC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5937-AFE4-41CF-A3D6-F7C2AC33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35DF-D44C-4C15-A7E8-635692EC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E182-3AEA-47F4-9778-0669489F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CAB8-A665-4062-99D6-B0BB6866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F86D-E512-44AA-93D6-A9BD8FC7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C156-0D62-499E-9BCA-B4A033C8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51BF-7F55-4F01-9457-FF53405B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8021-1FFD-45F4-92CD-E219966C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02C5-483A-4D5A-8FC8-95384BFB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582C-FD64-4E4E-9A10-F2B20A8B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52A5-2A05-4201-8C6F-939A1314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461D-F242-4804-B68E-8AFFD0F3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E5ED-1C34-4C51-9509-82FB8A28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B6CE-7294-4ED6-BEF4-08D12850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308F-45C4-4645-A28A-ECBF6F2DB51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F63E-7560-4FA7-8399-DF6EE3436F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DE96-1231-4234-9CDD-08DA1ABBBA9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FCD5-0814-4AAC-A926-5CD3EC88CF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(Nearly) MAC-less MANETs?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n’s proposal 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s when we got rid of x.25 layer 3 and 2 reliabilty and flow control when we found TCP over IP over X.25 was very, very b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e for TCP/IP over A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gnore MPLS:-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also, amateur packet radio X.25 (phil karn’s KA9Q code) could disable tcp functions if ax25 layer did work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blem of 2 different Timescal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(alt) TCP-less MAN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E971-DBAD-40BE-9ED0-2F07688A77D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E9B3B-6211-4E2B-A7E3-93272A51F24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Broadband question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teby, a hamlet about 15km outside Katrineholm, Sörm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ia, versus Tyfon versus SB Broadba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L v. WiMAX v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ideas … :-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flashearth.com/?lat=58.994309&amp;lon=16.404535&amp;z=14.7&amp;r=0&amp;src=gg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n.crowcroft@cl.cam.ac.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126C-9C8C-48E4-80A0-4A197A4EE5B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2E20C-DB68-4A65-917E-482BC623763A}" type="datetime1">
              <a:rPr lang="en-US"/>
              <a:t>07/30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jon crowcroft</cp:lastModifiedBy>
  <cp:lastPrinted>1904-01-01T00:00:00Z</cp:lastPrinted>
  <dcterms:modified xsi:type="dcterms:W3CDTF">2007-05-02T15:41:55Z</dcterms:modified>
  <cp:revision>14</cp:revision>
  <dc:subject/>
  <dc:title>General</dc:title>
</cp:coreProperties>
</file>