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5564-6AE3-4156-A593-BC767344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4DAB-213E-45DC-9CD8-88DC8FF1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BFE3-B83A-4602-996D-64E63505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849B-AC15-4999-BADF-7EA4E531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4A9C-CAB4-4713-87D2-F33869BD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0641-3F94-4624-BC65-6DB2A3A1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9C5D-CF9A-41A8-8DCD-AE97CBD5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597D-F359-449A-8268-E515E345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565F-CF25-4F74-A0DE-0BB24C43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7C05-1FB1-4E8B-92CE-A63A1B17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D9BF-2448-4F43-98B9-76CD15B5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E482-36AE-4D21-B633-C03A22C7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702F-8C9C-4ECE-92D6-E9083F215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.cam.ac.uk/~jac22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G Workshop Panel</a:t>
            </a:r>
            <a:br>
              <a:rPr sz="4400"/>
            </a:b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l.cam.ac.uk/~jac2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Generation Internet: Services, technical challenges;impact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sation &amp;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FIND/GENI programme is very very weak in wireless (and only so-so in photon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adical work in Europe is also leapfrogging 3G/4G (e.g. cognitive radio and software defined radio, cooperative mimo etc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’s a disconnect between these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uded by ease of past:-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dimensions of tension:- next 3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+Internet ea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cellular is just another access network, 2G and 3G convergence with IP is easy (so is IPTV since multicast is d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ext generation wireless is no longer architecturally an access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its own architecture (well, will hav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ensions #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DoS is quite a bad problem in today’s wired internet, but is a minor problem in telephone 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be a critical problem, potentially disastrous, in 4G and Next Gen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terrorists jamming london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being blackmailed to pay money to get money out at cash point :-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tensions #2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sioning of multihomed mobile, users and assurance, when P2P, MANET, Mesh or similar cooperative wireless net is a VERY HARD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it isn’t optional - in future services, it is crucial (if we want to charge people for low latency games, VOD, music/skype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budget ceiling in data centers means content services must be P2P, not server ba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tensions #3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relationships are both horizontal and vertical. To date, ISPs only do horizontal (BGP) and CDNs do vert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dynamic bundling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ransparency and parsimonious regulatory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 needs to take a lead on doing the wireless, but needs to underpin architectural work that US will do in IP, not just fol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is a mess with massive costs and vulner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1:24:31Z</dcterms:created>
  <dc:creator>jon crowcroft</dc:creator>
  <dc:description/>
  <dc:language>en-US</dc:language>
  <cp:lastModifiedBy>jon crowcroft</cp:lastModifiedBy>
  <dcterms:modified xsi:type="dcterms:W3CDTF">2007-04-17T11:41:29Z</dcterms:modified>
  <cp:revision>1</cp:revision>
  <dc:subject/>
  <dc:title>4G Workshop Panel http://www.cl.cam.ac.uk/~jac22 jon.crowcroft@cl.cam.ac.uk</dc:title>
</cp:coreProperties>
</file>