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A307-375A-4AC6-A0FB-52CB2C6F5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38DF-7120-4ED6-BB59-483F96936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0444-AFA7-4678-B1D2-5B14292F5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83B8-B30A-4C8E-85C5-751E82CD9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AD6F-E8EF-4B3A-B9C4-EB7F60AE6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488A-5872-4876-837F-88C236BE6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373E-09BF-41B2-853F-CDF9DBC66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CE20-0475-4D3A-8E93-7DEF680DA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17AC-9146-432C-8B61-A30067A4D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0CD9-EF9C-4447-8953-F53A96D3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AF00-1BB9-49D3-8387-6D101962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B58E-CA47-4E8A-8FAB-E806E0E8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618A3-CB14-4E98-B5AA-84D78E8EF1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Jon.crowcroft@cl.cam.ac.uk" TargetMode="External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aleable Ubiquitou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should be enough – 1 or 2 in the US and 1 in England”…(ok, Scotland)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needs from other discip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heor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– need to accommodate theory of ubi systems – e.g. location, reliable, e.g. Need to work between network calculi and process calculi</a:t>
            </a: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User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need to tell us what new model of transparencies are!!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exemplar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ct as a clock for systems work…</a:t>
            </a: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problems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ple of other thoughts about meta-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location of data and code as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tag;  but include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ven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principles/capabilities) in some (many?) applications to feed into user confidence. TR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some sort of system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conomic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of combined data, processing and communications) AFFORD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mpl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sentient building, street, hospital, city, planet, solar system, et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uture is bright, the future is…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t windows, IP, int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ole new business in processor, OS,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re importantly, whole new models for systems, including a science, not just engineering, and including people, not just technolog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aleable Ubiquitou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ystems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me CS Systems Grand Challe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Jon.crowcroft@cl.cam.ac.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ttp://www.cl.cam.ac.uk/~jac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biquity&amp;Environment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sumptions – extend scale down and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irst Dow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psilon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mited traditional resources (comms, cpu, memo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ery low (range, and variability) MTBF, high MTTR of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ut: do assume a large“infrastructure”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near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(i.e.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not,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bsolutely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NOT,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d hoc self or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biquity&amp;Environment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sumptions – extend scale down and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 then up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000 powered devices per pers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erabytes of store per person per 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ixed network capacity Gbps per person 24*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TBF 100 year line, disk, cp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Information Theory appl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de must be executed redundantly ,but not greedily!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ta must be stored (and moved) in some FEC manner (c.f. eternity/pastry etc) (DHT, Rabin Fingerprint, stripe/wra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ansmission need to deal with lowering overheads, adapting to circumstance and converging in determined time (e.g. routing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ggressive use of intermediaries to cache, transform 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wer, location, identity and ownership are a first class member of (meta) data, code, node,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perating System, Comms “Stack”, Storage all subject to same limitations as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is minimal unit we “boot” – pico/nano hypervisor (xen) ker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is the VM of a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r subset of nodes that present a traditional “computer” to the world (I.e. is hierarchical decomposition of function still ok or do we need new model (components in a graph combine to provide overall service – e.g. store an object, deliver a sense…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stem is refl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n monitor and reason about (and report) its own behaviour and esp. performance (e.g. accuracy, timeliness et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n reason about trust in system from h/w up (viz TCB will be here before mid way through G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oal is Highly Optimized Tolerance (see Doy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eria for Ubiquitou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Programmabl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by “naïve” us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rate continuously in evolving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cale to 10^12 nodes – measure \(IMW) ubiq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ustworthy (“proof of behaviour” carrying code) – I.e. use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stainable, Adaptable, Multipurp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cept of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Transparenci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revised from ODP…accuracy+certainty derived from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heor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of…expresses principles (e.g. e2e, parsimony, soft state, etc etc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Ubiquitou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mpowers some users (c.f. normal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uman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mpowers some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.e. economic in some sense, although for some (e.g. support for field work, whether science, medicine or what have you) not do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corporate range of intermediaries for pipelines of  transforms (lego like)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6:41:37Z</dcterms:created>
  <dc:creator>jon</dc:creator>
  <dc:description/>
  <dc:language>en-US</dc:language>
  <cp:lastModifiedBy>Computer Laboratory</cp:lastModifiedBy>
  <dcterms:modified xsi:type="dcterms:W3CDTF">2002-12-10T12:55:34Z</dcterms:modified>
  <cp:revision>22</cp:revision>
  <dc:subject/>
  <dc:title>Scaleable Ubiquitous Systems</dc:title>
</cp:coreProperties>
</file>