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A636-E2E9-45BC-9521-349C4EC4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9ACE-D5A3-44C7-BDFC-70734C60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3CBB-AAAE-432A-A022-7D8DB615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4588-A29D-4054-A4FE-2603BF83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6BD1-4108-484E-8A96-A6B807C1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B11E-67AA-4F25-B0B1-53EFDC14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8B3F-9D9B-4E31-9E33-77C1DAB2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8F7F-F5A0-4851-B52B-20A3B6DB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7798-BAC0-4991-9E17-60EC7995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068A-8055-4221-BF56-02AF94D8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32F2-BC80-4526-8455-1E830796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D4A8-FC43-4E4D-9BA4-E09A275B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1FDE-F1B4-4FA4-BA07-E95B13628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eable Ubiquitou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should be enough – 1 or 2 in the US and 1 in England”…(ok, Scotland)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needs from other discip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need to accommodate theory of ubi systems – e.g. location, reliable, e.g. Need to work between network calculi and process calculi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User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need to tell us what new model of transparencies are!!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xemplar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ct as a clock for systems work…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roblem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ple of other thoughts about meta-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location of data and code a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tag;  but includ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en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principles/capabilities) in some (many?) applications to feed into user confidence.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some sort of syste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onom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f combined data, processing and communications) AFFORD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sentient building, street, hospital, city, planet, solar system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uture is bright, the future is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windows, IP, in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ole new business in processor, OS,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re importantly, whole new models for systems, including a science, not just engineering, and including people, not just tech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eable Ubiquitou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ystems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CS Systems Grand Challe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on.crowcroft@cl.cam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cl.cam.ac.uk/~jac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biquity&amp;Environmen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umptions – extend scale down and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rst 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psilon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mited traditional resources (comms, cpu, memo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y low (range, and variability) MTBF, high MTTR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t: do assume a large“infrastructure”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ear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i.e.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ot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bsolutely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NOT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 hoc self or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biquity&amp;Environmen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umptions – extend scale down and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then u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000 powered devices per per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rabytes of store per person per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xed network capacity Gbps per person 24*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TBF 100 year line, disk, 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nformation Theory app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de must be executed redundantly ,but not greedily!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a must be stored (and moved) in some FEC manner (c.f. eternity/pastry etc) (DHT, Rabin Fingerprint, stripe/wra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mission need to deal with lowering overheads, adapting to circumstance and converging in determined time (e.g. routing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ggressive use of intermediaries to cache, transform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wer, location, identity and ownership are a first class member of (meta) data, code, node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erating System, Comms “Stack”, Storage all subject to same limitations as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minimal unit we “boot” – pico/nano hypervisor (xen) 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the VM of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subset of nodes that present a traditional “computer” to the world (I.e. is hierarchical decomposition of function still ok or do we need new model (components in a graph combine to provide overall service – e.g. store an object, deliver a sense…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is refl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monitor and reason about (and report) its own behaviour and esp. performance (e.g. accuracy, timeliness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reason about trust in system from h/w up (viz TCB will be here before mid way through G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oal is Highly Optimized Tolerance (see Doy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a for Ubiquitou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rogrammab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y “naïve” u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rate continuously in evolving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ale to 10^12 nodes – measure \(IMW) ubi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ustworthy (“proof of behaviour” carrying code) – I.e. us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stainable, Adaptable, Multi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cept of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Transparenci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revised from ODP…accuracy+certainty derived from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f…expresses principles (e.g. e2e, parsimony, soft state, etc etc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biquitou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mpowers some users (c.f. normal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uman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mpowers som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.e. economic in some sense, although for some (e.g. support for field work, whether science, medicine or what have you) not do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corporate range of intermediaries for pipelines of  transforms (lego like)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6:41:37Z</dcterms:created>
  <dc:creator>jon</dc:creator>
  <dc:description/>
  <dc:language>en-US</dc:language>
  <cp:lastModifiedBy>Computer Laboratory</cp:lastModifiedBy>
  <dcterms:modified xsi:type="dcterms:W3CDTF">2002-12-10T12:55:34Z</dcterms:modified>
  <cp:revision>22</cp:revision>
  <dc:subject/>
  <dc:title>Scaleable Ubiquitous Systems</dc:title>
</cp:coreProperties>
</file>