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A0B-790E-488F-814B-6771A570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640-1B50-4A8F-9BCB-DF9C2434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745-300E-4D0E-966A-EB0483CB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25F-6681-4F10-8E11-34CE504D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2FAF-9BC6-453F-8442-76F0DF39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98F1-9717-47ED-AC3E-191C013B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8F6D-E75B-4608-852F-E0A00475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D343-8985-4C13-AE37-CC444602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148C-9FF0-4F87-8E30-3BE2394C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9D8F-6186-43BC-8D82-B63016B8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09AB-1BAA-4794-B4B3-DD62ED83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120-7381-4BE8-9570-098E6DDA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0044-3A6B-40CD-9CEA-7018E66A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0D09-71C0-4D47-AAF4-30F4BC6E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F0B9-1F19-44F2-AC31-4DB7E9FC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B490-85CE-41E0-952A-B6F0B3C0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5381-9F85-4210-9CA6-D8A1A0C5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2E9-5A55-46E8-95B3-E0F5DB8D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AAF-1EFF-4FCB-9452-F519120C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792-7065-4A0F-B76C-0BFB0BD6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4B2-5614-4326-A3F0-FDF8AE55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7F6-E78F-40C4-ACBC-7BA39FF5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993-4441-4D11-9556-6462D76C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F29-4C5D-4404-8ECB-88A0560F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7751-7478-4EC4-A28D-BAED4EAD7659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REALMAN 2006, Fir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6C63-CC38-4C47-8620-D17755F76A20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CBAE-E1C7-4664-A885-42B28F11ADAC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REALMAN 2006 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BC01-CAF3-42A5-AA77-C475F73BE521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University of Cambridge"/>
          <p:cNvPicPr/>
          <p:nvPr/>
        </p:nvPicPr>
        <p:blipFill>
          <a:blip r:embed="rId3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8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435880" cy="1555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EALMAN ‘06 Pan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REAL must be the ad hoc network research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4038120"/>
            <a:ext cx="6172200" cy="205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Jon Crowcroft (University of Cambridg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1"/>
              </a:rPr>
              <a:t>Jon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2"/>
              </a:rPr>
              <a:t>crowcroft@cl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3"/>
              </a:rPr>
              <a:t>.cam.ac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4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5"/>
              </a:rPr>
              <a:t>http://www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6"/>
              </a:rPr>
              <a:t>cl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7"/>
              </a:rPr>
              <a:t>.cam.ac.uk/~jac2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2666880" y="609480"/>
            <a:ext cx="762120" cy="72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7680" y="88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33640" y="612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171AA63-7032-4AF2-B957-BAC0A5755964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hase 3 MANET Research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versity, Heterogeneity, Ad Hocker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“one size fits all” generic solu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silver bulle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I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aracterize by Scenari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pplication, Us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ower, Spectrum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obility, RF Pr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DB3D5-2B82-4B7E-8B0B-2EACE7B85094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s per Internet, pre IMC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ut many different ne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need to interconnect the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ch is bespoke/custo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ed to build codified mod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o can pick one for scenario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ut of a “library” of models&amp;co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ooks like software defined radi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ut for whole network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116C1-19A4-4C9B-A0C4-63EA65BD3D04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stributed Learn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uld we build self-awareness i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e all MANETs log behavi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load to infrastructure when onlin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it like sourceforge+crawdad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bin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ed some sort of authentica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 bad guys don’t infect cod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so like p2p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15AB3-CB76-4B58-B162-1BC99306BE3E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hase 1,2,3,4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liferation of rout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totypical deploymen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ybe codification of scenario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etting commercial uptak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8F5A9-F53A-4DFE-9920-0FCE5CC97522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on Crowcroft</dc:creator>
  <dc:description/>
  <dc:language>en-US</dc:language>
  <cp:lastModifiedBy>jon crowcroft</cp:lastModifiedBy>
  <dcterms:modified xsi:type="dcterms:W3CDTF">2006-05-21T16:05:26Z</dcterms:modified>
  <cp:revision>231</cp:revision>
  <dc:subject/>
  <dc:title>Inroads</dc:title>
</cp:coreProperties>
</file>