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3CD-A732-478E-A7BC-1471871C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200-D3C4-427E-B020-4D63449C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BD2-BE34-4D83-A733-260F1E9F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11B-23EC-4340-911D-CC9A91B3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9CC0-570D-409A-8C6F-A6C9E388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CD3C-57B1-437C-9F02-686A48C4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4FAF-4871-40BC-A8C4-14A846B4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AFD4-894A-480B-B293-4CCCD216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93F2-2E6D-4E9A-9C93-B9A493EE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0F5D-38FA-4757-980D-17300CC2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83F5-702F-41B6-ACA1-D26D1CBF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09B-E348-46BD-B602-0ED17C37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CD97-EF90-4C38-A754-7B45A787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B2BB-DF99-4C96-8324-9577A41B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BBED-256F-4325-A1EC-2714B73E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4803-2750-4A73-99DB-A7B25F8A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FE2B-B07A-4971-8863-3A890ECF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C0A-FC16-4455-96CB-1A8D4116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A91-79B7-4C24-A257-296CCCA2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D3B-1E69-4F1E-AFB4-7B2A0496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BA9-675E-47B0-A275-EB0CADAF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B2D-7535-451B-B9B4-EDF26B98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495-1A7E-49D5-8686-DDAB213A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81F-85F3-4490-8147-9B7B49A2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DCB0-9A83-42EE-AECF-FE2B67E94ED9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, Fi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4DD7-5C3A-409B-BA58-F750917C0249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576F-5793-4BDF-9542-D5612C850760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F6F7-0676-4216-976F-818289A6828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University of Cambridge"/>
          <p:cNvPicPr/>
          <p:nvPr/>
        </p:nvPicPr>
        <p:blipFill>
          <a:blip r:embed="rId3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8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435880" cy="1555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EALMAN ‘06 Pan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REAL must be the ad hoc network research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172200" cy="205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Jon Crowcroft (University of Cambridg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1"/>
              </a:rPr>
              <a:t>Jon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2"/>
              </a:rPr>
              <a:t>crowcroft@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3"/>
              </a:rPr>
              <a:t>.cam.ac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4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5"/>
              </a:rPr>
              <a:t>http://www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6"/>
              </a:rPr>
              <a:t>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7"/>
              </a:rPr>
              <a:t>.cam.ac.uk/~jac2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666880" y="60948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7680" y="88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33640" y="612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43CC842-D4B4-46A1-9654-770254DD155B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3 MANET Research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versity, Heterogeneity, Ad Hocke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“one size fits all” generic solu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silver bull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I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aracterize by Scen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pplication, Us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wer, Spectrum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bility, RF Pr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4FC3E-11A1-4AB9-A962-86E4F7619A32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s per Internet, pre IMC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ut many different ne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eed to interconnect the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is bespoke/cust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to build codified mod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 can pick one for scenari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 of a “library” of models&amp;co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s like software defined radi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ut for whole network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BA3D6-36E3-4164-83FE-534473671B80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tributed Learn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uld we build self-awareness i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ll MANETs log behavi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load to infrastructure when onlin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t like sourceforge+crawda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bin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some sort of authentica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 bad guys don’t infect cod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so like p2p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42491-D64A-4C44-9788-C201AE8D7C9D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1,2,3,4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liferation of rout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totypical deploym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be codification of scenari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tting commercial uptak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F7987-62A3-48BC-8469-C58B83BB7E75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on Crowcroft</dc:creator>
  <dc:description/>
  <dc:language>en-US</dc:language>
  <cp:lastModifiedBy>jon crowcroft</cp:lastModifiedBy>
  <dcterms:modified xsi:type="dcterms:W3CDTF">2006-05-21T16:05:26Z</dcterms:modified>
  <cp:revision>231</cp:revision>
  <dc:subject/>
  <dc:title>Inroads</dc:title>
</cp:coreProperties>
</file>