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3A7-2B1B-4591-8C65-FF34C97A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BC4-A77C-484F-BCF3-DA5A620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F2E-0248-4262-8447-C9AFCCAD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DF1-2CF7-4823-984B-C2527C14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CC18-2543-4A4B-9457-9179997C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DAAF-2ACA-4CEA-ADE3-BA4E84E1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DF28-DA4E-4E45-A17F-6E3B740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3D75-9735-4085-896D-D322B74D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A6E8-98FB-43BE-803C-2B006D81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D392-C197-40C1-98B1-6BCE3776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2ECB-41E5-4CA9-A962-0849598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9E0-67D1-4A45-8FD4-31632B0C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A75E-5AD2-42BC-8C36-0538E77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F52A-692B-4AD0-8610-EEDC346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B835-BBA0-4653-AD33-940C14F4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E4A8-CC06-48BC-B3A0-8A9974C3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6E31-684A-4289-A2E7-B7AB58DA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931-594E-4239-9D23-D9350C9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922-AA8E-4C26-A4EC-6430EFDE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765-00B3-46E9-AEF6-2EA607AC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9BA-2C62-490D-BCF7-ECC5A216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653-A5C2-4EB8-B159-C890E13C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79E-4670-4148-A2AF-5BEEBD23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8C7-E929-46DB-B9DF-0D1BACDC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oF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8131-3E7B-4154-875E-214E96661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4ACB-6275-43DF-8BF3-E79F96479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Mobile QoS:Can we provide predictable services for unpredictably mobile users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4600" y="31035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n.Crowcroft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Adaption v. Guarant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ld chestnut – can always do adaptation, but users (particularly humans) don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eed admission control (Yes, I agree with Jim Roberts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policed down to the MAC/physical layer, and included in spectrum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 spectrum allocation by economic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surprising price for surprising Qo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e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string/gibbens/kelly/crowro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ptim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utility function to optimi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optimise the aggregate ut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dapt their transmission rates (c.f. 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rices set by aggregate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nodes adapt prices (c.f. AT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rates are set by rout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are used to guide a system to its optimum opera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 nodes:  node S has R routes to send traffic to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elect particular route(s) to u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equipped with one directional trans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annot send/receive simultaneousl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, received or forwarded (received &amp; sent) is constrained by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speed of wireless ca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ower consumption at a node is constrain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umed by transmitting/receiving/forwarding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e Control, Price Adap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 a willingness-to-pa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node’s credit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S determines the route with minimum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discovered by, e.g. DS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sending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price is the cumulative cost of sending traffic on each hop along the ro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cost &amp; receiv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include power costs and capacit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dapt bandwidth and power p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ocal total traffic load and power consum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77120" y="3657600"/>
                <a:ext cx="136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185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for users to forward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receive credit for forwarding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received is dependent on the node prices and the magnitude of the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receive an initial credit balance of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-to-pay is proportional to credi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 lost when users leave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lost depends on credit accrued by the user during its stay in the networ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discount fact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4191120"/>
                <a:ext cx="4970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laced nodes in a 100mx100m gr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des within range of a node’s radio are its neighb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ON-OFF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periods are exponential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s for traffic during ON period are uniform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costs are determined when a connection is initi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ost route is selec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not changed during conn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outing information being distributed within the networ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route flapp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timum not achieved, but reflects routing in actual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tatic Net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052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28600" y="15238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s are strongly dependent on lo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 is often used by other nodes to forwar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’s location requires higher energy to transmit to neighbouring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has very low power price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676840" cy="42577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62120" y="2286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2200" y="167616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does not have the highest bandwidth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can be routed around edge of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edge nodes (N1 and N7) carry minimal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andwidth prices rapidly head to 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Credit Bala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alances are strongly dependent on lo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It accumulates the most credit by forwarding traffic for other no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negli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reple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is most wanted when it is leas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eless networks are the last frontier of scarce resource, and will remain so for so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Challenge appears to be coping with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ictable service is what the subscriber and provider both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lessons are there from QoS Architectures from Wired Networks, and What is Missing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Network Sim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rive according to a Poisson pro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geographically placed according to a uniform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’ stay in the network is exponentially distribu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must be updated within the network for ongoing conne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total credit evol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914400"/>
            <a:ext cx="2743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ival of a user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lways increases the total credit by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total credit, due to a departure of a user,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varies depending on the credit the user has accum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the system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cays to the number of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ecay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pends on </a:t>
            </a:r>
            <a:r>
              <a:rPr b="0" lang="en-US" sz="2000" spc="-1" strike="noStrike">
                <a:solidFill>
                  <a:srgbClr val="9999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 of Mobile No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2728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Node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0666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1 increases as it moves towards the centre of the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Routes are increasingly chosen with N1 as a forwarding no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8  de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1 provides competition for N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Less energy is required to transmit to N1 as it moves clo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1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8 also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Greater flow of traffic between N1 and N8 as they move closer toge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Node Throughp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70360" y="169056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9907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s of both N1 and N8 incre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re traffic between the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oth nodes have more credit to sen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4 is the node most often used to forward traffic to N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transmitted from N4 to N1 is relatively che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Network Through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400800" y="380880"/>
            <a:ext cx="2743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etwork throughput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ncreased throughput for N1 has not been at the expense of the overall network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bility (in an appropriate direction) has increased the performance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system  is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ummary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 system model for the interaction between nodes in a mobile ad hoc net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price mechanisms and credit balance to provide framework for coope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demonst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s of tot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increases with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our schem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imescale decomposition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p people working on pure ad ho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we know its fun, but it makes no se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Intel to build some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FCC to let us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denial,theft,witnes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ash (double spend/fo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ignatures (trust h/w – e.g. 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becomes a Wired Internet QoS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scale decomposition (short to longe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ada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ffic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Provi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e and Link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Priori Knowled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o we know or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CP Padhye Equa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TP VOIP/on-of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oisson Arrival of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VOIP – Erlang sta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ffi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e/Elephant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 level source/destin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similar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ular/Wireless Acc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hau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have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different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k” capacity not necessaril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on spectrum alloca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(less usually) on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rce model may be affected by var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cell, distance from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 hoc, route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feedback, e.g. TCP adapts (or proxy/splic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trix is more rapidly time va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ggregate behaviour is really random…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n we still use traditional tool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at we believe about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al world, we know about the disposi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RF propagation models for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do not move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 architected and pla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communication 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d hoc/hybrid case specially har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y you use ad h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networks-  small, not multi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dezv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\t need high capacity (unless to reach printer/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hicle networks – take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etwork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constellation simply swap through cell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se multi-hop, but, eventually, reach road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ty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in vehicle makes spectrum re-use efficient even in flash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rue random movement betwee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 for MAC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have power/distance aware MACs (trend in 802.11* and Blue Tooth is to hide this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hink about information theory in regard to ap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hicle network, for real time monitor and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ere between Gupta/Kum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ssglauser/T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sign to be at the good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10-01T13:07:28Z</dcterms:modified>
  <cp:revision>65</cp:revision>
  <dc:subject/>
  <dc:title>Multicast extensions for TCP</dc:title>
</cp:coreProperties>
</file>