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E649-89E0-4F15-978F-86AAD123A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A439-A161-4334-B713-FB7544F75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594D3-1F0A-4612-A221-9507A519B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5032-C4DA-41B5-9EDD-AE19444BD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A9EB-D382-4C58-BF7B-50274F3D5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5E21-6CC0-47DA-BEB2-831DD2A95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A219-2C5A-46E0-98B5-A63A89DD5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1B56-04AE-430B-9050-0CEDFBA45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B308-8E75-416C-B6DD-09C20C5BC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84B3-80AA-4DAA-A82D-4D0EEADE9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8E271-1B12-4C96-AEEA-13BC07709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E082-0B22-49F3-8137-6F5C02D33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223C-A407-465B-A335-85A780C94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3E93-47EF-4726-9E72-0BF568405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NTT Labs, August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CA0D-EC50-4250-81BB-1020C919647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4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3FCE-2773-43C4-A570-C88AB4AE6C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32D6-F735-404D-AD70-40F6469925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6D68-1EC7-4D70-9A69-F5A43B4AED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103E-E311-45B5-8904-C74B295D2C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70A3-1551-4D7A-B857-06C465FE06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8EF4-A66E-465C-8615-6BA137E0BD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9AA2-1CCE-4527-9DF9-AF4D5A9B5D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E8CE-5E55-4D9E-B8AD-DE16CB0638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2D9B-0286-48B1-95B9-51C6560C9F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4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122400">
              <a:off x="542664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7731-2293-4824-8C27-D976A25DC5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 and Steven Hand (Cambridge, Ericsson, Sprint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E598-0740-4F93-9EFD-031AA5B282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B6F5-C761-43AC-A9BD-784463DB86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505B-6389-4417-B24C-4BCC1AE87F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5389-F0BF-4633-8312-CEB4373FB7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0ED3-D27B-4DD4-91E5-B62AE26C96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A43E-B7C2-47DE-8CF5-BD9204FADC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5F59-6065-44A7-8A15-74E70BB35E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n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A0A0-F68F-4D0C-A083-065B47D445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U Projects/Grouping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cadi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st action including 2 members per EU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Onelab, etc - proposal st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iff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IP just agree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ignement with US - weak, but pres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National programs: UK JANET + Cambridge/UC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70AE-7550-4106-B9E0-E7AC7F1E83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2AE6-03C0-4FF8-95D8-64A8F14452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D807-58FD-431B-BD1A-B097C0FDFD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C21A-7C9A-4BC7-AD72-19AFB723A4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F8D8-21A8-4444-B2A1-A89332A68E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42311-A2D2-415C-83CC-D30D418B82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3FE8-C30D-438E-863E-3BD30E5510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FDC1-A945-4513-B0A9-D6F72659D4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8-05T13:21:58Z</dcterms:modified>
  <cp:revision>255</cp:revision>
  <dc:subject/>
  <dc:title>Haggle Work </dc:title>
</cp:coreProperties>
</file>