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556F-4963-4194-BD1B-600A6B96C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4946-C6D6-46FC-86E5-B10BE754A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9531-69CD-4A10-9B9B-8DE7EE4BD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6037-9F20-4618-9E5D-2626E92A7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D110-EEBD-456B-A25D-F695FA64C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7B87-1C7E-4D18-B000-7DCE5B0D5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5F73-7B3B-407E-9201-2F231C691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21B7-AEB7-4FAC-8743-851CD5980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2CD1-E643-454B-BB4E-2A4C40650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8245-1892-4244-8E2A-FF65F3E83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E56E-5801-44A9-85FD-5213655CF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24C58-C599-46ED-AD29-076955247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2464-69FC-426E-9304-3C58F39E4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58ACA-71F4-4BCA-88C2-FA4C31F9D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NTT Labs, August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C75F-0EEA-4152-AB45-E30CB77393E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4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C716-72B3-42D5-A37C-87F93F2D56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BB1F-2EBE-4E74-B3E6-20E8AAC36D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B035-F305-47D3-AC36-63E21AFC29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ACB2-DA3A-4E21-B4A7-C2728BE4D3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26F0-289A-4FAA-8354-3E382EFB6F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A6C3-17B0-468F-B8A4-A7F94FEA49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90E7-374B-44D6-B85D-44051176E5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6D78-D1BA-45AA-99CC-3F60093560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06B5F-051C-4B6E-964A-175CA5141A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4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8122400">
              <a:off x="542664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CE87-1903-4358-9C58-D32823656C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 and Steven Hand (Cambridge, Ericsson, Sprint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1BD7B-4D5F-4D92-9B62-F72DD235B0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A69B-0D89-428D-A50F-E45861869A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D5FA-69A1-4B60-A3DE-AE5C34C0F0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877A-DFB0-4F24-A00C-A6CBFF54D2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0769-6379-4F81-8D72-AD5C8EAF5A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59D0-C176-4C94-A3C4-19BB438677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8589-D336-497F-A2F1-CD31794564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n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7D59-8ED9-49E5-8EE1-E081002EBA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U Projects/Grouping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cadi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st action including 2 members per EU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Onelab, etc - proposal sta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iff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IP just agree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ignement with US - weak, but pres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National programs: UK JANET + Cambridge/UC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1ACD-038D-43C1-9A17-001B3924AD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05D6-18C5-4A13-A42B-AB40DCDA26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8F19-F1D8-4F92-9CF5-6DB2A41A00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8E97-5D06-4DDD-883B-09DDDBD3AD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4B81-8035-4AFE-B210-1F762D1D9E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6C65-9E92-4C95-BEED-AEA874F67C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1B00-E3DE-4E88-8DDE-EF453D6B54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EE49-7563-481A-95DE-E775E3B1F6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8-05T13:21:58Z</dcterms:modified>
  <cp:revision>255</cp:revision>
  <dc:subject/>
  <dc:title>Haggle Work </dc:title>
</cp:coreProperties>
</file>