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522B-63F8-4F98-9654-2B4056A080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063F-B979-47F5-9284-DB3661F0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E67F-60E8-45AF-AAC3-BF5E4729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4910-3698-4420-A7BE-5150A3B651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55F7-8833-4F79-9FC2-5458297B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A62B-3186-4D9E-8BD3-0DEDEB81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B5D8-FE8F-4E96-BE8F-7BAC01F4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656A-7E0C-44E2-97E9-E68DF14F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59C7-E05E-4DDB-ADB6-1F9741BC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4090-76E6-49B0-A6B2-65C6AA80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D23B-6D54-4BAD-B97F-0BC59D52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5C93-C4E3-488D-92C1-445CC304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352920"/>
            <a:ext cx="19051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SS’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1E59-926D-474B-A461-4F4EE23FD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hyperlink" Target="http://www.cl.cam.ac.uk/~jac22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5200" y="1293480"/>
            <a:ext cx="884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REDS ‘03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63840" y="309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olga Uzuner, Jon Crowcroft, Steve Hand, Andrew Warfield et al, The Computer Laboratory, The University of Cambridg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http://www.cl.cam.ac.uk/~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jac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32480" y="33012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430A-EC38-4320-89DE-E33E713F23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ere are we in innovation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ustry Evolution studied by econom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 compan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hases (see Wroclawski “tipping” – exactly right but wrong use of wor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id growth in number of entrants, lots of different ways of build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l out of companies, emergence of few key players, switch to Concentration on microoptimi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A958-94EA-4EA1-B627-8C663F3803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rocess v. Product Innov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CS/Comms, the “fun” is in product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E/Telecom, the real profession is in refining processes for production, not the product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son for Networks, there are two quite different rolesat periods of a network technology – there’s not one “better” and one “worse” – they reflect maturity of technolog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31C4-FDB3-4E21-AFA4-8BF2BD2CA9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CS Emphasis on this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Integratio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kes big step functions to set up plant – this means that we have to get product innovation stage really really right, since the investment is so high, to get commoditized version price so 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Post-commodity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ltas are in refining usability, optimising etc….need a lot of traditional engineering to understand where to apply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A2EB-7E26-4C9F-BB1D-4AE230C276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means this for resear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ed to have research in both kinds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cognize skill sets not quite same for each kind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ve responsibility to communities we deliver to say which place our output is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.e. don’t tell cisco to use multicast in 1988 – it will be 15 years too early for prime tim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36EB-5624-4A4F-B4F7-6DE7D546EB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Questions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ank you…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279F-46FC-4D71-B738-B74B250A22BC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6:39:47Z</dcterms:created>
  <dc:creator>Jon Crowcroft</dc:creator>
  <dc:description/>
  <dc:language>en-US</dc:language>
  <cp:lastModifiedBy>jon</cp:lastModifiedBy>
  <cp:lastPrinted>1999-11-30T18:30:16Z</cp:lastPrinted>
  <dcterms:modified xsi:type="dcterms:W3CDTF">2003-08-25T08:19:34Z</dcterms:modified>
  <cp:revision>107</cp:revision>
  <dc:subject/>
  <dc:title>Network Field Theory</dc:title>
</cp:coreProperties>
</file>