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B485-F8C4-4C62-9B01-2F7D98614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8BC8-4716-4C96-85F8-AD514830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0275-DFDC-4C75-B103-E2A5A53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ED9C-DB09-4407-9D6C-67A71EAF0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C2C1-2FC0-4FA7-9A07-EB7871D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09DF-1C33-4486-A48A-485253EA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C43C-C955-427F-9CF8-CBBF940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71B1-E8EA-4696-BBEA-D2CC057C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2FAF-39A4-4BE8-A560-20B6EF4B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E0C8-EB7E-4682-8849-3B2A79B7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1E1B-F8FE-4A5B-9B98-65C7701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8880-32B7-4657-AF4C-1AAB78D2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352920"/>
            <a:ext cx="19051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SS’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0004-68FD-412F-94A6-D4A0A4E71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hyperlink" Target="http://www.cl.cam.ac.uk/~jac22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5200" y="1293480"/>
            <a:ext cx="884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REDS ‘03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3840" y="309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Tolga Uzuner, Jon Crowcroft, Steve Hand, Andrew Warfield et al, The Computer Laboratory, The University of Cambridg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cl.cam.ac.uk/~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jac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32480" y="33012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EA14-CCA3-4141-BE5E-C47BF8DD3A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ere are we in innovation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 Evolution studied by econom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 compan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hases (see Wroclawski “tipping” – exactly right but wrong use of wor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growth in number of entrants, lots of different ways of build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out of companies, emergence of few key players, switch to Concentration on microoptim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46F0-FC78-4983-9357-A8C2E033B7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rocess v. Product Innov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CS/Comms, the “fun” is in product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E/Telecom, the real profession is in refining processes for production, not the product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on for Networks, there are two quite different rolesat periods of a network technology – there’s not one “better” and one “worse” – they reflect maturity of technolog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DBD5-70E2-464C-B92F-479A0D46A9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CS Emphasis on this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Integratio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kes big step functions to set up plant – this means that we have to get product innovation stage really really right, since the investment is so high, to get commoditized version price so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c Sans MS"/>
              </a:rPr>
              <a:t>Post-commodity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tas are in refining usability, optimising etc….need a lot of traditional engineering to understand where to apply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92BC-83A2-4943-B530-BC8FFB4011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 means this for resear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ed to have research in both kinds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cognize skill sets not quite same for each kind of 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ve responsibility to communities we deliver to say which place our output i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.e. don’t tell cisco to use multicast in 1988 – it will be 15 years too early for prime tim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74F4-B4B7-4AA1-BBD0-83F6CB23A1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Question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nk you…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2305080" cy="78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24FF-1806-417A-A7AD-3AC4BA0B1FC8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6:39:47Z</dcterms:created>
  <dc:creator>Jon Crowcroft</dc:creator>
  <dc:description/>
  <dc:language>en-US</dc:language>
  <cp:lastModifiedBy>jon</cp:lastModifiedBy>
  <cp:lastPrinted>1999-11-30T18:30:16Z</cp:lastPrinted>
  <dcterms:modified xsi:type="dcterms:W3CDTF">2003-08-25T08:19:34Z</dcterms:modified>
  <cp:revision>107</cp:revision>
  <dc:subject/>
  <dc:title>Network Field Theory</dc:title>
</cp:coreProperties>
</file>