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2831-5990-4DD8-920B-2A6DAD627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075A-F337-4BF1-8923-FF210EA0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4382-B8D8-47F0-A1CA-45A61D97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C70D-EF21-4182-8307-8325E822E5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7C0F-D515-4276-962C-961CF3EB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F857-0369-4CE9-8E71-9C0865DE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0340-BB6D-4C00-B8EC-84FD947F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70D5-E1D5-48FA-834C-137B5A16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C045-B857-4853-BADD-62F73785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9031-D26E-4E15-93F8-5037FE64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1599-9798-482B-ABFC-C9756CC7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AB3C-9D30-453C-BB35-158F5DA1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352920"/>
            <a:ext cx="19051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SS’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47D4-0CF8-4932-882F-0E4CBF0EF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hyperlink" Target="http://www.cl.cam.ac.uk/~jac22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5200" y="1293480"/>
            <a:ext cx="884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REDS ‘03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3840" y="309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olga Uzuner, Jon Crowcroft, Steve Hand, Andrew Warfield et al, The Computer Laboratory, The University of Cambridg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cl.cam.ac.uk/~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jac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32480" y="33012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8A6C-6A61-419F-8415-9F9B377C58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ere are we in innovation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 Evolution studied by econom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 compan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hases (see Wroclawski “tipping” – exactly right but wrong use of wor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 growth in number of entrants, lots of different ways of build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l out of companies, emergence of few key players, switch to Concentration on microoptim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C4B1-07EF-4F94-9643-45CA792A53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rocess v. Product Innov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CS/Comms, the “fun” is in product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E/Telecom, the real profession is in refining processes for production, not the product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on for Networks, there are two quite different rolesat periods of a network technology – there’s not one “better” and one “worse” – they reflect maturity of 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91EB-3D98-4779-9DE5-9196A78C83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CS Emphasis on this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Integrat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kes big step functions to set up plant – this means that we have to get product innovation stage really really right, since the investment is so high, to get commoditized version price so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ost-commodity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ltas are in refining usability, optimising etc….need a lot of traditional engineering to understand where to apply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D390-259C-436F-BB0E-2135F8921D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means this for resear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ed to have research in both kinds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cognize skill sets not quite same for each kind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ve responsibility to communities we deliver to say which place our output i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.e. don’t tell cisco to use multicast in 1988 – it will be 15 years too early for prime tim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A22D4-11BF-48FC-903F-71A38BC1B3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Question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ank you…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E112-5871-4520-BA91-5AC8593F59D9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6:39:47Z</dcterms:created>
  <dc:creator>Jon Crowcroft</dc:creator>
  <dc:description/>
  <dc:language>en-US</dc:language>
  <cp:lastModifiedBy>jon</cp:lastModifiedBy>
  <cp:lastPrinted>1999-11-30T18:30:16Z</cp:lastPrinted>
  <dcterms:modified xsi:type="dcterms:W3CDTF">2003-08-25T08:19:34Z</dcterms:modified>
  <cp:revision>107</cp:revision>
  <dc:subject/>
  <dc:title>Network Field Theory</dc:title>
</cp:coreProperties>
</file>