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A01-D7BB-4540-B6CE-5062B527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634-244A-4FE1-89BA-C140A12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117-E6C3-4E41-8133-2344F964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F53-4B3B-43D1-9055-22102924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3701-808B-4BAF-AE89-9BC7F0AB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6A6B-26CF-41B5-AC75-1A06EE7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8013-CB4E-4199-A8C1-71ECB2AB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51E-0E6E-403F-A9C4-8605C4D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90B7-E9E4-47E0-A917-EE70E0FE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905C-CBC9-4FD1-B5B4-6FCFB42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0B85-8146-47C6-B75F-7F18DB2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38F-0B14-4A8A-BF96-DA33845A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9B2E-8EC9-42FD-BC0B-51EF060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3506-7AA3-42A2-BA33-605884D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B66-CB54-42A3-8FD3-447DB017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1A9A-5799-4100-B9FE-09FF39A1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F7CF-6E57-4ECC-B53E-0012D185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82B-D71B-4387-BF74-090E2ADD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37F-A1E5-4B90-93F1-E1BD9C09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583-8481-4D0B-8E11-2A57E5F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B9B-3CC2-4A19-BFA8-7B6C831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378-65EC-4DBD-A154-CDB5B45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DE9-37C9-4B30-8752-FD5DC86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B3B-DE7F-4623-BD38-F2820DAA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Hands Meet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6E87-EFE6-46DF-B1E8-B022D470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0F4-11AA-43FE-A1BA-D84FC02D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eliable high-speed Grid data delivery using IP Multica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Jeacle &amp; 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2840" y="3103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.lastname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switch to unicast after failed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y splitting receivers int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ccording to cwin /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ip_addr group_i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oup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tx_mode txmod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ni/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8t nrtx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# re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*next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ext “m”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06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13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20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27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34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ture Grid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arl-ahm-p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559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2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unicast / multicas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back / fall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loo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eScien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lane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ience volunte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es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eur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ing to intel about more EU sites doing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specialise (or enhance) To add e.g. 3G wireless and WiFi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low more local experimentation without the usual “Big Science” hassle of engaging with NRN and G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have a lot of EU Datagrid site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with good (netherlight/starlight/uklight) connectivirt to each other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o some Big Scienc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goal is to see if TCP-XP can go faster than FAST TCP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ybrid, Purist, Over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e argument is to leave incentive for subscriber to demand and provider to deploy ip native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n’t worked (15 years after first h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schemes not much examined (SCE prob. One of f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retains understanding gained in unicast and mcast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ay requires lots of new mechanisms to be debu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2P promising, but side by side problems alluded to in Diot’s anti-deployment paper sti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ly good for “grid”like users (shared incentive to forward for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lab &gt;100 “random”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value – if have account on 1 site, have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ed multicast deployment from all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chance of tx being about to use mcast is to k out of r non zero but chance of all paths to all receivers working is close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p of AS doing mcast, average path len a Ass, 1- (1-p)^a per receiver -&gt; [1-(1-p)^a]^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 receivers al working, but a lot better for k&lt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09-17T04:52:10Z</dcterms:modified>
  <cp:revision>58</cp:revision>
  <dc:subject/>
  <dc:title>Multicast extensions for TCP</dc:title>
</cp:coreProperties>
</file>