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gif" ContentType="image/gi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36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9.gif" ContentType="image/gif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BE0B-2B75-469F-9A2C-B662A393D4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bble Reality singl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96D73-59FC-47BB-A443-F3C5DA9E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08EF6-7179-48A1-BF12-A7AFCA61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7358-4DAB-4B98-A8F2-4356DD84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8380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2456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430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8380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2456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82E4-B248-4173-8AA4-3D4A1884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45CF4-3E60-40C6-816F-9CE8789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561A-663F-4784-A5EF-849316DF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6D0FA-CC65-44B1-829E-278D0DBD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4DE50-D5FC-497D-BD95-42E89D0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A046-ED84-4850-89E6-52B24D35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ECA8-F22E-4E9C-8146-652A590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756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D8A95-2387-4FFE-8BF4-826DEE2E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756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304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19504-A34A-40C4-B8E7-B9E650E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Imperial College London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talk for Erol Gelenbe’s research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505420-C80D-4A28-B477-FD04DD4DC87E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295280"/>
            <a:ext cx="12384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ootlight MT Light"/>
              </a:rPr>
              <a:t>February 15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Mob Handed: Realworld Human Mobility Model driven design of forwarding algorithms for Opportunistic Network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0" y="3860280"/>
            <a:ext cx="3776760" cy="15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an 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ther Community Detection Method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tweenness [Newman04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ularity [Newman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on theory[Rosvall0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entrality in Temporal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unlimited flo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sourced and temporal traffic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times on shortest delay deliv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ue to Freeman centrality [freeman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mogenous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327640" cy="5085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67280" y="1268280"/>
            <a:ext cx="8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Re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268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ambri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3860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focom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6000" y="3860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419640" y="227664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93080" y="220500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ithin Group Centrality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ality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95640" y="1214280"/>
            <a:ext cx="5400720" cy="5123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708360" y="1341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40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4076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5080" y="14065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odel Node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47640" y="2276640"/>
            <a:ext cx="73584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 centrality should be modelled in different levels of heterogene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gularity and Famili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759640" cy="5038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4520" y="1198440"/>
            <a:ext cx="423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94560" y="63104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5840" y="5684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mili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0200" y="486900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49840" y="4214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1480" y="1916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89480" y="2494080"/>
            <a:ext cx="5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7840" y="19828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7840" y="422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49480" y="6076800"/>
            <a:ext cx="53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: Community   II. Familiar Strangers  III. Strangers  IV. Fri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64360" y="1916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rrelation Coefficient   = 0.9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704960" y="327168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170496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162400" y="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5219640" y="3271680"/>
            <a:ext cx="3657600" cy="32004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57434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22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2430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667640" y="57196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562200" y="46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66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91280" y="4572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58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37036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83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162920" y="37767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: 0.79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terogeneous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20840" y="206064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second goal of this research is to devise efficient forwarding algorithms for PSNs which take advantage of both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riori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nd learned knowledge of the structure of human mobilit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700360" y="3645000"/>
            <a:ext cx="1830240" cy="1149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4360" y="3716280"/>
            <a:ext cx="1288800" cy="1809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76720" y="765000"/>
            <a:ext cx="1714680" cy="1743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7020000" y="4797360"/>
            <a:ext cx="919080" cy="885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1403280" y="1700280"/>
            <a:ext cx="1513080" cy="958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24000" y="249228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3276720" y="1773360"/>
            <a:ext cx="1800000" cy="10922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7596360" y="981000"/>
            <a:ext cx="1268280" cy="18064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5292720" y="3284640"/>
            <a:ext cx="1219320" cy="1171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4788000" y="5157720"/>
            <a:ext cx="860400" cy="1447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700360" y="692280"/>
            <a:ext cx="138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03640" y="1268280"/>
            <a:ext cx="143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ive it to me, I have 1G bytes phone flash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052640"/>
            <a:ext cx="143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have 100M bytes of data, who can carry for m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771640" y="2637000"/>
            <a:ext cx="1513080" cy="685800"/>
          </a:xfrm>
          <a:custGeom>
            <a:avLst/>
            <a:gdLst/>
            <a:ahLst/>
            <a:rect l="l" t="t" r="r" b="b"/>
            <a:pathLst>
              <a:path w="1233" h="477">
                <a:moveTo>
                  <a:pt x="0" y="0"/>
                </a:moveTo>
                <a:cubicBezTo>
                  <a:pt x="45" y="215"/>
                  <a:pt x="91" y="431"/>
                  <a:pt x="272" y="454"/>
                </a:cubicBezTo>
                <a:cubicBezTo>
                  <a:pt x="453" y="477"/>
                  <a:pt x="945" y="197"/>
                  <a:pt x="1089" y="136"/>
                </a:cubicBezTo>
                <a:cubicBezTo>
                  <a:pt x="1233" y="75"/>
                  <a:pt x="1183" y="83"/>
                  <a:pt x="1134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00720" y="549360"/>
            <a:ext cx="1463400" cy="1245960"/>
          </a:xfrm>
          <a:custGeom>
            <a:avLst/>
            <a:gdLst/>
            <a:ahLst/>
            <a:rect l="l" t="t" r="r" b="b"/>
            <a:pathLst>
              <a:path w="922" h="785">
                <a:moveTo>
                  <a:pt x="0" y="785"/>
                </a:moveTo>
                <a:cubicBezTo>
                  <a:pt x="45" y="452"/>
                  <a:pt x="91" y="120"/>
                  <a:pt x="227" y="60"/>
                </a:cubicBezTo>
                <a:cubicBezTo>
                  <a:pt x="363" y="0"/>
                  <a:pt x="710" y="355"/>
                  <a:pt x="816" y="423"/>
                </a:cubicBezTo>
                <a:cubicBezTo>
                  <a:pt x="922" y="491"/>
                  <a:pt x="892" y="479"/>
                  <a:pt x="862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549360"/>
            <a:ext cx="122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I can also carry for you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858920" y="47628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333360"/>
            <a:ext cx="158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ank you but you are in the opposite direction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9280" y="206064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Don’t give to me! I am running out of storag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003640" y="1844280"/>
            <a:ext cx="273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349360"/>
            <a:ext cx="115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ach an access poi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80360" y="3068640"/>
            <a:ext cx="1152360" cy="1152360"/>
          </a:xfrm>
          <a:prstGeom prst="cloudCallout">
            <a:avLst>
              <a:gd name="adj1" fmla="val -21763"/>
              <a:gd name="adj2" fmla="val 69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9636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8172360" y="278136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524360" y="4437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885080" y="4581360"/>
            <a:ext cx="93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Finally, it arrive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635280" y="479736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51640" y="465300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15772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92720" y="5084640"/>
            <a:ext cx="136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834920" y="3860640"/>
            <a:ext cx="165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08000" y="3645000"/>
            <a:ext cx="13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arch La Bonheme.mp3 for 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3357720"/>
            <a:ext cx="10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here is one in my pocket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283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ltiple levels human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 communit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rsity of centrality in different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 categories of huma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terogeneous forwarding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K (central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BEL (community based forwar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BBLE RAP (centrality meets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roximation and predic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centralized approximation of cen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 predic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teraction and Forw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494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generation human interaction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gories of human contact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que and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ity/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natures of mobil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chmark Forwarding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ing, Wait, and Multiple-copy-multiple-hop (M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556000" y="1339560"/>
            <a:ext cx="0" cy="352908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556000" y="3284640"/>
            <a:ext cx="3097080" cy="15825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0920" y="90792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xplicit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51640" y="594828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96000" y="29955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ucture in Cohesive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79640" y="18432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124000" y="197172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4867200"/>
            <a:ext cx="3960720" cy="792360"/>
          </a:xfrm>
          <a:prstGeom prst="line">
            <a:avLst/>
          </a:prstGeom>
          <a:ln w="889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5084640"/>
            <a:ext cx="165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5227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ank, De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82920" y="4795920"/>
            <a:ext cx="144360" cy="14436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556000" y="1699920"/>
            <a:ext cx="410508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27640" y="342756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34862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iqu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59640" y="1268280"/>
            <a:ext cx="1152360" cy="9367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17002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b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788000" y="43639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9600" y="2779560"/>
            <a:ext cx="729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Dim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Greedy Ranking Algorithm  (RANK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22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re-calculated centrality/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traffic to nodes have higher 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erformance in small and homogene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12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eedy Rank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erarchical paths [Trusina et a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percentage in most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32000" y="3009960"/>
            <a:ext cx="73436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84720" y="3591000"/>
            <a:ext cx="14004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59280" y="4076640"/>
            <a:ext cx="139680" cy="12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19640" y="400536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3068640"/>
            <a:ext cx="14148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3068640"/>
            <a:ext cx="141120" cy="12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882880" y="2852640"/>
            <a:ext cx="3816360" cy="3340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geneous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node for the whole system may not be best node for a specific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75280" y="321300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37893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4920" y="366876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90920" y="29480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292428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28464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R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403280" y="1598760"/>
            <a:ext cx="7345440" cy="3452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1908000" y="530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distribution and rank at dead-end for HK data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abel Strategy (LABE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3040" y="980640"/>
            <a:ext cx="840096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 label, e.g. affil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d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to nodes have same label as the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performance in conference mix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692360" y="2781360"/>
            <a:ext cx="3370320" cy="2948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5076720" y="2781360"/>
            <a:ext cx="3382920" cy="296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851280" y="5805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com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roblem with L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ess mixing environment (e.g. Re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in one group may not meet members in another group so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stination group no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24000" y="3497400"/>
            <a:ext cx="5905440" cy="27399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84720" y="3429000"/>
            <a:ext cx="324036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pulation divided into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de has a global and local r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popular node like a postman, or politician in a 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al popular node like Christophe Diot in SIG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BBLE-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0"/>
            <a:ext cx="8209080" cy="6669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56000" y="404640"/>
            <a:ext cx="3348000" cy="331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558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42160" y="83664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843280" y="1628640"/>
            <a:ext cx="1461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5800" y="2637000"/>
            <a:ext cx="1425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59280" y="2276640"/>
            <a:ext cx="14580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1268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788000" y="414972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21080" y="76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09800" y="43657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484360" y="357336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03280" y="3500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7640" y="378936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64000" y="4724280"/>
            <a:ext cx="28764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619280" y="4508640"/>
            <a:ext cx="360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1547640" y="3645000"/>
            <a:ext cx="3621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547640" y="2781000"/>
            <a:ext cx="578160" cy="71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64000" y="292428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268360" y="2349000"/>
            <a:ext cx="790920" cy="28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050920" y="3716280"/>
            <a:ext cx="43344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195640" y="1773000"/>
            <a:ext cx="71892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05080" y="2349360"/>
            <a:ext cx="10796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693800" y="4652640"/>
            <a:ext cx="16542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627280" y="3068640"/>
            <a:ext cx="93672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492360" y="3933360"/>
            <a:ext cx="935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00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9440" y="907920"/>
            <a:ext cx="43164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95280" y="2492280"/>
            <a:ext cx="0" cy="22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170028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2637000"/>
            <a:ext cx="3585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2637000"/>
            <a:ext cx="14436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05440" y="220500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1016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206064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59640" y="1844640"/>
            <a:ext cx="14580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578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299280" y="1413000"/>
            <a:ext cx="14436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51640" y="1413000"/>
            <a:ext cx="1443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932360" y="2133720"/>
            <a:ext cx="28728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64000" y="1557360"/>
            <a:ext cx="36216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726160" y="98100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084720" y="981000"/>
            <a:ext cx="28908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96000" y="148428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1928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373800" y="134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164360" y="6308640"/>
            <a:ext cx="17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27640" y="630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obal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7740360" y="5445000"/>
            <a:ext cx="43164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237440" y="3284640"/>
            <a:ext cx="28728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078520" y="5300640"/>
            <a:ext cx="244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5580000" y="5013000"/>
            <a:ext cx="14616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407280" y="2565360"/>
            <a:ext cx="24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ubsub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84720" y="1989000"/>
            <a:ext cx="1447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7093080" y="2349000"/>
            <a:ext cx="79200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95640" y="1484280"/>
            <a:ext cx="3618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0480" y="2276640"/>
            <a:ext cx="7823160" cy="27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first goal of this research is to move to a third generation of human mobility models, understanding heterogeneity at multiple levels of detail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260280"/>
            <a:ext cx="721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Understanding multiple levels of heterogene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entrality meets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4105080" cy="3592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1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Making Centrality Prac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20840" y="2924280"/>
            <a:ext cx="7823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each node know its own centrality in decentralised way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ell does past centrality predict the futur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43040" y="4365720"/>
            <a:ext cx="8400960" cy="17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gree, per-6-hour 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coefficients, 0.7401 and 0.95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95600" y="1125360"/>
            <a:ext cx="6476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pproximating Cent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8400960" cy="17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Window (Exponential Smooth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258920" y="3043080"/>
            <a:ext cx="6338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dictability of Human Mo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23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essions of Reality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essions using the ranking calculated from the firs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sam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6720" y="3429000"/>
            <a:ext cx="5975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and Future W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warding using priori label or social structure inferred through 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tributed k-clique building through gossi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per-6-ho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ighted version of k-clique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gener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omic Sans MS"/>
              </a:rPr>
              <a:t>Social Structures Vs Network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munity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communities, i.e. affil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pological cohesive groups or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cial hubs, celebrities and pos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tweenness, closeness, inference power centr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304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ion of k-cliques reachable through a series of adjacent k-cliques [Palla et 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jacent k-cliques share k-1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in a community reachable through well-connected well sub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-clique (connected compon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clique (overlapping triang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verlapp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colation 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5203800"/>
            <a:ext cx="410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k)= 1/[(k-1)N]^(1/(k-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122400"/>
            <a:ext cx="72118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Cambridge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0920" y="1380960"/>
            <a:ext cx="8893080" cy="47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840" y="-360"/>
            <a:ext cx="757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77840" y="1413000"/>
            <a:ext cx="8858160" cy="4248000"/>
            <a:chOff x="177840" y="1413000"/>
            <a:chExt cx="8858160" cy="4248000"/>
          </a:xfrm>
        </p:grpSpPr>
        <p:grpSp>
          <p:nvGrpSpPr>
            <p:cNvPr id="65" name=""/>
            <p:cNvGrpSpPr/>
            <p:nvPr/>
          </p:nvGrpSpPr>
          <p:grpSpPr>
            <a:xfrm>
              <a:off x="177840" y="1413000"/>
              <a:ext cx="8858160" cy="4248000"/>
              <a:chOff x="177840" y="1413000"/>
              <a:chExt cx="8858160" cy="4248000"/>
            </a:xfrm>
          </p:grpSpPr>
          <p:pic>
            <p:nvPicPr>
              <p:cNvPr id="6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7840" y="1413000"/>
                <a:ext cx="8858160" cy="42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7907400" y="2936160"/>
                <a:ext cx="16740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907400" y="2555280"/>
                <a:ext cx="166680" cy="1699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075160" y="335988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451000" y="242856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698240" y="2216520"/>
                <a:ext cx="166680" cy="169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660160" y="204732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155720" y="2766960"/>
                <a:ext cx="166680" cy="1688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389240" y="33598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646080" y="3106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195240" y="378396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837320" y="327492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228840" y="344376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645360" y="3444840"/>
                <a:ext cx="207720" cy="1695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88560" y="3191040"/>
                <a:ext cx="208080" cy="1267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858200" y="2894040"/>
                <a:ext cx="208080" cy="16992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23680" y="352908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434680" y="31910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851920" y="3444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18600" y="3021840"/>
                <a:ext cx="166680" cy="168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598040" y="51382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5080" y="488448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848960" y="534996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058120" y="5053320"/>
                <a:ext cx="208800" cy="21168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6560" y="1962720"/>
                <a:ext cx="2047680" cy="1609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263960" y="2894040"/>
                <a:ext cx="5139000" cy="1100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22560" y="4715280"/>
                <a:ext cx="1211400" cy="846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3839040" y="4764240"/>
              <a:ext cx="138240" cy="13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39040" y="4488840"/>
              <a:ext cx="140040" cy="138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9040" y="5040720"/>
              <a:ext cx="140040" cy="1378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39040" y="5315760"/>
              <a:ext cx="140040" cy="1382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17320" y="4559040"/>
              <a:ext cx="1534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17320" y="442080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19120" y="4695840"/>
              <a:ext cx="160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7320" y="495576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7320" y="5247720"/>
              <a:ext cx="160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2400" y="2007000"/>
              <a:ext cx="167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1080" y="2490480"/>
              <a:ext cx="417960" cy="2750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15720" y="1824840"/>
              <a:ext cx="174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41600" y="2145600"/>
              <a:ext cx="557640" cy="414720"/>
            </a:xfrm>
            <a:prstGeom prst="rightArrow">
              <a:avLst>
                <a:gd name="adj1" fmla="val 50000"/>
                <a:gd name="adj2" fmla="val 3361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2240" y="4236840"/>
              <a:ext cx="202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0560" y="4627440"/>
              <a:ext cx="348840" cy="344880"/>
            </a:xfrm>
            <a:prstGeom prst="rightArrow">
              <a:avLst>
                <a:gd name="adj1" fmla="val 50000"/>
                <a:gd name="adj2" fmla="val 25287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236000" y="5589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8000" y="1123920"/>
            <a:ext cx="8712000" cy="4969080"/>
            <a:chOff x="108000" y="1123920"/>
            <a:chExt cx="8712000" cy="4969080"/>
          </a:xfrm>
        </p:grpSpPr>
        <p:grpSp>
          <p:nvGrpSpPr>
            <p:cNvPr id="111" name=""/>
            <p:cNvGrpSpPr/>
            <p:nvPr/>
          </p:nvGrpSpPr>
          <p:grpSpPr>
            <a:xfrm>
              <a:off x="108000" y="1123920"/>
              <a:ext cx="8712000" cy="4969080"/>
              <a:chOff x="108000" y="1123920"/>
              <a:chExt cx="8712000" cy="4969080"/>
            </a:xfrm>
          </p:grpSpPr>
          <p:pic>
            <p:nvPicPr>
              <p:cNvPr id="1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000" y="1123920"/>
                <a:ext cx="8712000" cy="496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1669680" y="47221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9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32560" y="2051280"/>
                <a:ext cx="24084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52560" y="1884600"/>
                <a:ext cx="24084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942320" y="249660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73520" y="2329560"/>
                <a:ext cx="240480" cy="22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072920" y="2718720"/>
                <a:ext cx="240480" cy="2217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350520" y="2830320"/>
                <a:ext cx="23976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490280" y="210636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04992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469680" y="221796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0280" y="249660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70280" y="2553120"/>
                <a:ext cx="239400" cy="22176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91120" y="2775240"/>
                <a:ext cx="180000" cy="166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89080" y="450036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28480" y="4110120"/>
                <a:ext cx="240840" cy="22284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9080" y="4333320"/>
                <a:ext cx="240840" cy="223200"/>
              </a:xfrm>
              <a:prstGeom prst="diamond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12320" y="1717560"/>
                <a:ext cx="1920600" cy="1391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080" y="2106360"/>
                <a:ext cx="300204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48240" y="3999600"/>
                <a:ext cx="1561680" cy="1112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4052160" y="4103640"/>
              <a:ext cx="136080" cy="132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2160" y="3838680"/>
              <a:ext cx="137880" cy="132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52160" y="4368960"/>
              <a:ext cx="137880" cy="13248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52160" y="4633560"/>
              <a:ext cx="137880" cy="132840"/>
            </a:xfrm>
            <a:prstGeom prst="diamond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24680" y="377208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27560" y="4036320"/>
              <a:ext cx="157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24680" y="4287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aris Group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4680" y="4566240"/>
              <a:ext cx="157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71200" y="1322280"/>
              <a:ext cx="185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14640" y="1719720"/>
              <a:ext cx="480600" cy="265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6080" y="1276920"/>
              <a:ext cx="226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73480" y="1653840"/>
              <a:ext cx="341280" cy="330120"/>
            </a:xfrm>
            <a:prstGeom prst="rightArrow">
              <a:avLst>
                <a:gd name="adj1" fmla="val 50000"/>
                <a:gd name="adj2" fmla="val 2584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3200" y="3596400"/>
              <a:ext cx="181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ausanne Gro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4560" y="3971880"/>
              <a:ext cx="343080" cy="329760"/>
            </a:xfrm>
            <a:prstGeom prst="rightArrow">
              <a:avLst>
                <a:gd name="adj1" fmla="val 50000"/>
                <a:gd name="adj2" fmla="val 2601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7308720" y="5157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K-clique Communities in Infocom06 Data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39640" y="1628640"/>
            <a:ext cx="8317080" cy="3677760"/>
            <a:chOff x="539640" y="1628640"/>
            <a:chExt cx="8317080" cy="367776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539640" y="1628640"/>
              <a:ext cx="8317080" cy="307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6205680" y="289656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24600" y="1861920"/>
              <a:ext cx="261000" cy="259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69120" y="354348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4320" y="2249640"/>
              <a:ext cx="261000" cy="258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0760" y="244332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66600" y="192780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66600" y="3930840"/>
              <a:ext cx="261000" cy="259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22160" y="2896560"/>
              <a:ext cx="261000" cy="258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200" y="1991520"/>
              <a:ext cx="327600" cy="25812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2766600"/>
              <a:ext cx="327600" cy="258120"/>
            </a:xfrm>
            <a:prstGeom prst="hexagon">
              <a:avLst>
                <a:gd name="adj" fmla="val 31729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30320" y="386496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62080" y="1798200"/>
              <a:ext cx="327600" cy="257760"/>
            </a:xfrm>
            <a:prstGeom prst="hexagon">
              <a:avLst>
                <a:gd name="adj" fmla="val 31774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3920" y="1798200"/>
              <a:ext cx="2619360" cy="245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99000" y="1798200"/>
              <a:ext cx="2946960" cy="258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1320" y="1692360"/>
              <a:ext cx="1144800" cy="268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39080" y="4835160"/>
              <a:ext cx="131040" cy="128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35640" y="4725720"/>
              <a:ext cx="2357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arcelona Group (Spanis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64160" y="4705560"/>
              <a:ext cx="131040" cy="129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64160" y="5029200"/>
              <a:ext cx="195840" cy="129240"/>
            </a:xfrm>
            <a:prstGeom prst="triangle">
              <a:avLst>
                <a:gd name="adj" fmla="val 50000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90320" y="459756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A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90320" y="4922280"/>
              <a:ext cx="235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ris Group B (Frenc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360" y="4835160"/>
              <a:ext cx="196200" cy="129600"/>
            </a:xfrm>
            <a:prstGeom prst="hexagon">
              <a:avLst>
                <a:gd name="adj" fmla="val 37847"/>
                <a:gd name="vf" fmla="val 11547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5520" y="4769640"/>
              <a:ext cx="117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Ital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7451640" y="544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02-16T14:03:57Z</dcterms:modified>
  <cp:revision>129</cp:revision>
  <dc:subject/>
  <dc:title>Bubble Rap: Forwarding in Small World DTNs in Ever Decreasing Circles</dc:title>
</cp:coreProperties>
</file>