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24.pct" ContentType="image/x-pict"/>
  <Override PartName="/ppt/media/image23.pct" ContentType="image/x-pict"/>
  <Override PartName="/ppt/media/image22.pct" ContentType="image/x-pict"/>
  <Override PartName="/ppt/media/image21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29.pct" ContentType="image/x-pict"/>
  <Override PartName="/ppt/media/image6.pct" ContentType="image/x-pict"/>
  <Override PartName="/ppt/media/image31.pct" ContentType="image/x-pict"/>
  <Override PartName="/ppt/media/image11.pct" ContentType="image/x-pict"/>
  <Override PartName="/ppt/media/image1.png" ContentType="image/png"/>
  <Override PartName="/ppt/media/image12.pct" ContentType="image/x-pict"/>
  <Override PartName="/ppt/media/image19.gif" ContentType="image/gif"/>
  <Override PartName="/ppt/media/image7.pct" ContentType="image/x-pict"/>
  <Override PartName="/ppt/media/image37.pct" ContentType="image/x-pict"/>
  <Override PartName="/ppt/media/image8.pct" ContentType="image/x-pict"/>
  <Override PartName="/ppt/media/image13.pct" ContentType="image/x-pict"/>
  <Override PartName="/ppt/media/image9.pct" ContentType="image/x-pict"/>
  <Override PartName="/ppt/media/image30.pct" ContentType="image/x-pict"/>
  <Override PartName="/ppt/media/image28.pct" ContentType="image/x-pict"/>
  <Override PartName="/ppt/media/image20.gif" ContentType="image/gif"/>
  <Override PartName="/ppt/media/image10.pct" ContentType="image/x-pict"/>
  <Override PartName="/ppt/media/image5.pct" ContentType="image/x-pict"/>
  <Override PartName="/ppt/media/image35.pct" ContentType="image/x-pict"/>
  <Override PartName="/ppt/media/image34.pct" ContentType="image/x-pict"/>
  <Override PartName="/ppt/media/image4.pct" ContentType="image/x-pict"/>
  <Override PartName="/ppt/media/image27.pct" ContentType="image/x-pict"/>
  <Override PartName="/ppt/media/image33.pct" ContentType="image/x-pict"/>
  <Override PartName="/ppt/media/image36.png" ContentType="image/png"/>
  <Override PartName="/ppt/media/image3.pct" ContentType="image/x-pict"/>
  <Override PartName="/ppt/media/image26.pct" ContentType="image/x-pict"/>
  <Override PartName="/ppt/media/image32.pct" ContentType="image/x-pict"/>
  <Override PartName="/ppt/media/image2.pct" ContentType="image/x-pict"/>
  <Override PartName="/ppt/media/image25.pct" ContentType="image/x-pict"/>
  <Override PartName="/ppt/media/image14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74438-56F1-4B04-9FD6-1CFF45C557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bble Reality singl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2E79A-31C9-4CFA-9589-5F621C82F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43040" y="3802320"/>
            <a:ext cx="8400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6947A-8A32-4810-A3EC-2EEC174B5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756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43040" y="38023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7560" y="38023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7FD10-0C11-44F8-B34F-EFA9817F0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83800" y="12949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24560" y="12949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43040" y="38023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83800" y="38023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24560" y="38023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003E1-C945-49CB-8C38-C19E5451E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B9898-DB7B-4C54-AE24-3AA1BE153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DA022-C34D-4CEA-92F7-5CAF4A98B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4099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7560" y="1294920"/>
            <a:ext cx="4099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1161E-C9FA-4394-845E-FB60A70FC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02261-8D83-4885-B89D-22DAD8CC5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20480" y="-360"/>
            <a:ext cx="782316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3920D-8C77-415C-AD92-539B0F032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7560" y="1294920"/>
            <a:ext cx="4099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43040" y="38023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3C8D1-77D2-496C-8C5C-BF2B406B5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4099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756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7560" y="38023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05A14-2515-4921-808E-F57AB9BE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756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43040" y="3802320"/>
            <a:ext cx="8400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4B5FD-21E9-46DE-AF88-A93491F5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1618920" y="6237360"/>
            <a:ext cx="6661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000000"/>
                </a:solidFill>
                <a:latin typeface="Footlight MT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Footlight MT Light"/>
              </a:rPr>
              <a:t>&lt;footer&gt;</a:t>
            </a:r>
            <a:r>
              <a:rPr b="0" lang="en-GB" sz="1400" spc="-1" strike="noStrike">
                <a:solidFill>
                  <a:srgbClr val="000000"/>
                </a:solidFill>
                <a:latin typeface="Footlight MT Light"/>
              </a:rPr>
              <a:t>DASSON Workshop, Edinbur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400" y="6237360"/>
            <a:ext cx="1155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8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7A4819D-9292-4631-A420-D3ABC4A73F17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295280"/>
            <a:ext cx="1238400" cy="4800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250920" y="623736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Footlight MT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ootlight MT Light"/>
              </a:rPr>
              <a:t>June 26,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3840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gif"/><Relationship Id="rId6" Type="http://schemas.openxmlformats.org/officeDocument/2006/relationships/image" Target="../media/image20.gif"/><Relationship Id="rId7" Type="http://schemas.openxmlformats.org/officeDocument/2006/relationships/image" Target="../media/image21.pct"/><Relationship Id="rId8" Type="http://schemas.openxmlformats.org/officeDocument/2006/relationships/image" Target="../media/image22.pct"/><Relationship Id="rId9" Type="http://schemas.openxmlformats.org/officeDocument/2006/relationships/image" Target="../media/image23.pct"/><Relationship Id="rId10" Type="http://schemas.openxmlformats.org/officeDocument/2006/relationships/image" Target="../media/image24.pct"/><Relationship Id="rId1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ct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ct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ct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ct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ct"/><Relationship Id="rId2" Type="http://schemas.openxmlformats.org/officeDocument/2006/relationships/image" Target="../media/image30.pct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ct"/><Relationship Id="rId2" Type="http://schemas.openxmlformats.org/officeDocument/2006/relationships/image" Target="../media/image32.pct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ct"/><Relationship Id="rId2" Type="http://schemas.openxmlformats.org/officeDocument/2006/relationships/image" Target="../media/image34.pct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pct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pct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4292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Comic Sans MS"/>
              </a:rPr>
              <a:t>Mob Handed: Realworld Human Mobility Model driven design of forwarding algorithms for Opportunistic Network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700000" y="3860280"/>
            <a:ext cx="3776760" cy="15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Jon Crowcro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an H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mputer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University of Camb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Other Community Detection Methodolog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tweenness [Newman04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dularity [Newman06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formation theory[Rosvall06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entrality in Temporal Net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number of unlimited floo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form sourced and temporal traffic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times on shortest delay deliv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ogue to Freeman centrality [freeman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omogenous Centr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484360" y="1268280"/>
            <a:ext cx="5327640" cy="50850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4067280" y="1268280"/>
            <a:ext cx="86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Re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516720" y="12682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ambrid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51280" y="386064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nfocom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236000" y="386064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H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Within Group Centrality  Cambridge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332000" y="1916280"/>
            <a:ext cx="3657600" cy="32004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003640" y="1916280"/>
            <a:ext cx="3657600" cy="32004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419640" y="227664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093080" y="220500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Within Group Centrality 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Reality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195640" y="1214280"/>
            <a:ext cx="5400720" cy="5123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708360" y="1341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43640" y="4005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708360" y="4076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445080" y="14065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odel Node Centr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47640" y="2276640"/>
            <a:ext cx="7358400" cy="16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de centrality should be modelled in different levels of heterogene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gularity and Familia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050920" y="907920"/>
            <a:ext cx="5759640" cy="50389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2054520" y="1198440"/>
            <a:ext cx="423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gul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594560" y="6310440"/>
            <a:ext cx="136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865840" y="568476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mili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450200" y="4869000"/>
            <a:ext cx="79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649840" y="42148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721480" y="1916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289480" y="2494080"/>
            <a:ext cx="57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17840" y="19828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17840" y="4221000"/>
            <a:ext cx="50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049480" y="6076800"/>
            <a:ext cx="53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: Community   II. Familiar Strangers  III. Strangers  IV. Frie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164360" y="191628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rrelation Coefficient   = 0.90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704960" y="3271680"/>
            <a:ext cx="3657600" cy="32004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1704960" y="0"/>
            <a:ext cx="3657600" cy="32004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5162400" y="0"/>
            <a:ext cx="3657600" cy="32004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5219640" y="3271680"/>
            <a:ext cx="3657600" cy="32004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3851280" y="57434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e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2200" y="2430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Infocom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020000" y="2430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Infocom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667640" y="57196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H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562200" y="4636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: 0.66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091280" y="4572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: 0.58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635280" y="37036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: 0.83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162920" y="37767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: 0.79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eterogeneous Forward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320840" y="2060640"/>
            <a:ext cx="78231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he second goal of this research is to devise efficient forwarding algorithms for PSNs which take advantage of both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priori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and learned knowledge of the structure of human mobility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2700360" y="3645000"/>
            <a:ext cx="1830240" cy="11491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684360" y="3716280"/>
            <a:ext cx="1288800" cy="18097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5076720" y="765000"/>
            <a:ext cx="1714680" cy="17431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4"/>
          <a:stretch/>
        </p:blipFill>
        <p:spPr>
          <a:xfrm>
            <a:off x="7020000" y="4797360"/>
            <a:ext cx="919080" cy="8859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5"/>
          <a:stretch/>
        </p:blipFill>
        <p:spPr>
          <a:xfrm>
            <a:off x="1403280" y="1700280"/>
            <a:ext cx="1513080" cy="9586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6"/>
          <a:stretch/>
        </p:blipFill>
        <p:spPr>
          <a:xfrm>
            <a:off x="324000" y="2492280"/>
            <a:ext cx="914400" cy="11430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7"/>
          <a:stretch/>
        </p:blipFill>
        <p:spPr>
          <a:xfrm>
            <a:off x="3276720" y="1773360"/>
            <a:ext cx="1800000" cy="10922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8"/>
          <a:stretch/>
        </p:blipFill>
        <p:spPr>
          <a:xfrm>
            <a:off x="7596360" y="981000"/>
            <a:ext cx="1268280" cy="180648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9"/>
          <a:stretch/>
        </p:blipFill>
        <p:spPr>
          <a:xfrm>
            <a:off x="5292720" y="3284640"/>
            <a:ext cx="1219320" cy="11714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10"/>
          <a:stretch/>
        </p:blipFill>
        <p:spPr>
          <a:xfrm>
            <a:off x="4788000" y="5157720"/>
            <a:ext cx="860400" cy="14479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2700360" y="692280"/>
            <a:ext cx="138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03640" y="1268280"/>
            <a:ext cx="143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Give it to me, I have 1G bytes phone flash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71640" y="1052640"/>
            <a:ext cx="143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I have 100M bytes of data, who can carry for me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771640" y="2637000"/>
            <a:ext cx="1513080" cy="685800"/>
          </a:xfrm>
          <a:custGeom>
            <a:avLst/>
            <a:gdLst/>
            <a:ahLst/>
            <a:rect l="l" t="t" r="r" b="b"/>
            <a:pathLst>
              <a:path w="1233" h="477">
                <a:moveTo>
                  <a:pt x="0" y="0"/>
                </a:moveTo>
                <a:cubicBezTo>
                  <a:pt x="45" y="215"/>
                  <a:pt x="91" y="431"/>
                  <a:pt x="272" y="454"/>
                </a:cubicBezTo>
                <a:cubicBezTo>
                  <a:pt x="453" y="477"/>
                  <a:pt x="945" y="197"/>
                  <a:pt x="1089" y="136"/>
                </a:cubicBezTo>
                <a:cubicBezTo>
                  <a:pt x="1233" y="75"/>
                  <a:pt x="1183" y="83"/>
                  <a:pt x="1134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00720" y="549360"/>
            <a:ext cx="1463400" cy="1245960"/>
          </a:xfrm>
          <a:custGeom>
            <a:avLst/>
            <a:gdLst/>
            <a:ahLst/>
            <a:rect l="l" t="t" r="r" b="b"/>
            <a:pathLst>
              <a:path w="922" h="785">
                <a:moveTo>
                  <a:pt x="0" y="785"/>
                </a:moveTo>
                <a:cubicBezTo>
                  <a:pt x="45" y="452"/>
                  <a:pt x="91" y="120"/>
                  <a:pt x="227" y="60"/>
                </a:cubicBezTo>
                <a:cubicBezTo>
                  <a:pt x="363" y="0"/>
                  <a:pt x="710" y="355"/>
                  <a:pt x="816" y="423"/>
                </a:cubicBezTo>
                <a:cubicBezTo>
                  <a:pt x="922" y="491"/>
                  <a:pt x="892" y="479"/>
                  <a:pt x="862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508720" y="549360"/>
            <a:ext cx="122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I can also carry for you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4858920" y="47628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24360" y="333360"/>
            <a:ext cx="1584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Thank you but you are in the opposite direction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79280" y="2060640"/>
            <a:ext cx="129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Don’t give to me! I am running out of storag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003640" y="1844280"/>
            <a:ext cx="27370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372360" y="2349360"/>
            <a:ext cx="115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Reach an access poi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380360" y="3068640"/>
            <a:ext cx="1152360" cy="1152360"/>
          </a:xfrm>
          <a:prstGeom prst="cloudCallout">
            <a:avLst>
              <a:gd name="adj1" fmla="val -21763"/>
              <a:gd name="adj2" fmla="val 699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596360" y="3429000"/>
            <a:ext cx="11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8172360" y="278136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7524360" y="443700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885080" y="4581360"/>
            <a:ext cx="934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Finally, it arrive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3635280" y="4797360"/>
            <a:ext cx="9367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5651640" y="4653000"/>
            <a:ext cx="5047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492360" y="5157720"/>
            <a:ext cx="136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Search La Bonheme.mp3 for 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292720" y="5084640"/>
            <a:ext cx="136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Search La Bonheme.mp3 for 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1834920" y="3860640"/>
            <a:ext cx="16570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908000" y="3645000"/>
            <a:ext cx="136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Search La Bonheme.mp3 for 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187280" y="3357720"/>
            <a:ext cx="10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There is one in my pocket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20840" y="-360"/>
            <a:ext cx="72835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e levels human heterogene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cal community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versity of centrality in different s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 categories of human relation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terogeneous forwarding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sign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NK (centrality based forward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BEL (community based forward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BBLE RAP (centrality meets commun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proximation and predic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entralized approximation of centr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uman predic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teraction and Forwar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43040" y="1295280"/>
            <a:ext cx="8400960" cy="494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generation human interaction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egories of human contact patt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que and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rity/Centr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al natures of mobile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chmark Forwarding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oding, Wait, and Multiple-copy-multiple-hop (MC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esign Sp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2556000" y="1339560"/>
            <a:ext cx="0" cy="3529080"/>
          </a:xfrm>
          <a:prstGeom prst="line">
            <a:avLst/>
          </a:prstGeom>
          <a:ln w="889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2556000" y="3284640"/>
            <a:ext cx="3097080" cy="1582560"/>
          </a:xfrm>
          <a:prstGeom prst="line">
            <a:avLst/>
          </a:prstGeom>
          <a:ln w="889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050920" y="907920"/>
            <a:ext cx="237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xplicit Social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651640" y="5948280"/>
            <a:ext cx="23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Structure in Deg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796000" y="2995560"/>
            <a:ext cx="18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Structure in Cohesive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979640" y="1843200"/>
            <a:ext cx="100800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124000" y="1971720"/>
            <a:ext cx="7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556000" y="4867200"/>
            <a:ext cx="3960720" cy="792360"/>
          </a:xfrm>
          <a:prstGeom prst="line">
            <a:avLst/>
          </a:prstGeom>
          <a:ln w="889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356000" y="5084640"/>
            <a:ext cx="16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0" y="522756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ank, Deg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482920" y="4795920"/>
            <a:ext cx="144360" cy="14436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2556000" y="1699920"/>
            <a:ext cx="4105080" cy="3166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427640" y="3427560"/>
            <a:ext cx="100800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0" y="3486240"/>
            <a:ext cx="86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lique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659640" y="1268280"/>
            <a:ext cx="1152360" cy="93672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732720" y="170028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ub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788000" y="436392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 P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839600" y="2779560"/>
            <a:ext cx="7290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man Dimens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Greedy Ranking Algorithm  (RANK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43040" y="1295280"/>
            <a:ext cx="8400960" cy="227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pre-calculated centrality/r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sh traffic to nodes have higher r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performance in small and homogeneo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1908000" y="3500280"/>
            <a:ext cx="612000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Greedy Ranking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ierarchical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ierarchical paths [Trusina et al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igh percentage in most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1332000" y="3009960"/>
            <a:ext cx="734364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6084720" y="3591000"/>
            <a:ext cx="140040" cy="12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859280" y="4076640"/>
            <a:ext cx="139680" cy="12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19640" y="4005360"/>
            <a:ext cx="141120" cy="12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003640" y="3068640"/>
            <a:ext cx="141480" cy="12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19640" y="3068640"/>
            <a:ext cx="141120" cy="12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2882880" y="2852640"/>
            <a:ext cx="3816360" cy="334008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oblem with RA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743040" y="1295280"/>
            <a:ext cx="8400960" cy="17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terogeneous at multiple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 node for the whole system may not be best node for a specific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75280" y="3213000"/>
            <a:ext cx="18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643280" y="378936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274920" y="366876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490920" y="2948040"/>
            <a:ext cx="50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076720" y="292428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867280" y="328464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oblem with RA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1403280" y="1598760"/>
            <a:ext cx="7345440" cy="345276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1908000" y="530064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p distribution and rank at dead-end for HK data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Label Strategy (LABE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43040" y="980640"/>
            <a:ext cx="8400960" cy="208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i label, e.g. affil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lated inte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 to nodes have same label as the 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performance in conference mixing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1692360" y="2781360"/>
            <a:ext cx="3370320" cy="294804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5076720" y="2781360"/>
            <a:ext cx="3382920" cy="296064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3851280" y="580536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com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oblem with LAB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242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less mixing environment (e.g. Real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erson in one group may not meet members in another group so of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it for destination group not effic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324000" y="3497400"/>
            <a:ext cx="5905440" cy="273996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6084720" y="3429000"/>
            <a:ext cx="324036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entrality meets Comm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pulation divided into comm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de has a global and local ra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lobal popular node like a postman, or politician in a 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cal popular node like Christophe Diot in SIGCO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BBLE-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BBLE-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539640" y="0"/>
            <a:ext cx="8209080" cy="6669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356000" y="404640"/>
            <a:ext cx="3348000" cy="3313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564000" y="558972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942160" y="836640"/>
            <a:ext cx="1425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843280" y="1628640"/>
            <a:ext cx="1461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125800" y="2637000"/>
            <a:ext cx="14256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059280" y="2276640"/>
            <a:ext cx="14580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979640" y="1268280"/>
            <a:ext cx="36180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788000" y="414972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348000" y="458136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421080" y="765000"/>
            <a:ext cx="1429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909800" y="4365720"/>
            <a:ext cx="1429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547640" y="522936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484360" y="3573360"/>
            <a:ext cx="1447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403280" y="350028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427640" y="378936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364000" y="4724280"/>
            <a:ext cx="287640" cy="28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1619280" y="4508640"/>
            <a:ext cx="36036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1547640" y="3645000"/>
            <a:ext cx="36216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1547640" y="2781000"/>
            <a:ext cx="578160" cy="71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564000" y="292428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2268360" y="2349000"/>
            <a:ext cx="790920" cy="28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2050920" y="3716280"/>
            <a:ext cx="433440" cy="649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2195640" y="1773000"/>
            <a:ext cx="718920" cy="863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205080" y="2349360"/>
            <a:ext cx="107964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1693800" y="4652640"/>
            <a:ext cx="1654200" cy="64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2627280" y="3068640"/>
            <a:ext cx="936720" cy="50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3492360" y="3933360"/>
            <a:ext cx="935280" cy="64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500720" y="2997360"/>
            <a:ext cx="0" cy="79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2989440" y="907920"/>
            <a:ext cx="43164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395280" y="2492280"/>
            <a:ext cx="0" cy="223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1700280"/>
            <a:ext cx="11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284720" y="2637000"/>
            <a:ext cx="3585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788000" y="2637000"/>
            <a:ext cx="14436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805440" y="220500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510160" y="2637000"/>
            <a:ext cx="14292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219640" y="206064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659640" y="1844640"/>
            <a:ext cx="14580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157800" y="2637000"/>
            <a:ext cx="14292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299280" y="141300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651640" y="141300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4932360" y="2133720"/>
            <a:ext cx="28728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5364000" y="1557360"/>
            <a:ext cx="36216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726160" y="981000"/>
            <a:ext cx="21600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084720" y="981000"/>
            <a:ext cx="28908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796000" y="1484280"/>
            <a:ext cx="504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619280" y="5373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373800" y="1341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t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164360" y="6308640"/>
            <a:ext cx="17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227640" y="630864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lobal 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H="1" flipV="1">
            <a:off x="7740360" y="5445000"/>
            <a:ext cx="431640" cy="936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443640" y="393372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b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 flipV="1">
            <a:off x="7237440" y="3284640"/>
            <a:ext cx="287280" cy="72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078520" y="5300640"/>
            <a:ext cx="244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b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 flipV="1">
            <a:off x="5580000" y="5013000"/>
            <a:ext cx="14616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407280" y="2565360"/>
            <a:ext cx="24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ubsub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084720" y="1989000"/>
            <a:ext cx="1447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H="1" flipV="1">
            <a:off x="7093080" y="2349000"/>
            <a:ext cx="792000" cy="28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195640" y="1484280"/>
            <a:ext cx="36180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20480" y="2276640"/>
            <a:ext cx="7823160" cy="27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first goal of this research is to move to a third generation of human mobility models, understanding heterogeneity at multiple levels of detail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260280"/>
            <a:ext cx="72118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Understanding multiple levels of heterogene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entrality meets Comm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332000" y="1844640"/>
            <a:ext cx="4105080" cy="359244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5003640" y="1844640"/>
            <a:ext cx="4140360" cy="36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aking Centrality Practic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320840" y="2924280"/>
            <a:ext cx="78231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can each node know its own centrality in decentralised way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well does past centrality predict the future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pproximating Centr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743040" y="4365720"/>
            <a:ext cx="8400960" cy="173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degree, per-6-hour deg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lation coefficients, 0.7401 and 0.95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1695600" y="1125360"/>
            <a:ext cx="647676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pproximating Centr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743040" y="1295280"/>
            <a:ext cx="8400960" cy="177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G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-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-Window (Exponential Smooth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1258920" y="3043080"/>
            <a:ext cx="6338880" cy="31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dictability of Human Mo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23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sessions of Reality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sessions using the ranking calculated from the first s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most same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1836720" y="3429000"/>
            <a:ext cx="597528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and Future W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warding using priori label or social structure inferred through obser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tributed k-clique building through gossi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y per-6-hou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ighted version of k-clique det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rd generation mo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15640" y="256500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on.Crowcroft@cl.cam.ac.u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omic Sans MS"/>
              </a:rPr>
              <a:t>Social Structures Vs Network Struc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mmunity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ocial communities, i.e. affil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pological cohesive groups or mo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entra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ocial hubs, celebrities and post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etweenness, closeness, inference power centr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K-clique Community Defi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ion of k-cliques reachable through a series of adjacent k-cliques [Palla et al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djacent k-cliques share k-1 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embers in a community reachable through well-connected well sub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-clique (connected compon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-clique (overlapping triang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verlapping fe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ercolation thresh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16360" y="5203800"/>
            <a:ext cx="410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k)= 1/[(k-1)N]^(1/(k-1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20480" y="122400"/>
            <a:ext cx="72118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K-clique Communities in Cambridge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50920" y="1380960"/>
            <a:ext cx="8893080" cy="471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20840" y="-360"/>
            <a:ext cx="75722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K-clique Communities in Infocom06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77840" y="1413000"/>
            <a:ext cx="8858160" cy="4248000"/>
            <a:chOff x="177840" y="1413000"/>
            <a:chExt cx="8858160" cy="4248000"/>
          </a:xfrm>
        </p:grpSpPr>
        <p:grpSp>
          <p:nvGrpSpPr>
            <p:cNvPr id="65" name=""/>
            <p:cNvGrpSpPr/>
            <p:nvPr/>
          </p:nvGrpSpPr>
          <p:grpSpPr>
            <a:xfrm>
              <a:off x="177840" y="1413000"/>
              <a:ext cx="8858160" cy="4248000"/>
              <a:chOff x="177840" y="1413000"/>
              <a:chExt cx="8858160" cy="4248000"/>
            </a:xfrm>
          </p:grpSpPr>
          <p:pic>
            <p:nvPicPr>
              <p:cNvPr id="6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77840" y="1413000"/>
                <a:ext cx="8858160" cy="42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" name=""/>
              <p:cNvSpPr/>
              <p:nvPr/>
            </p:nvSpPr>
            <p:spPr>
              <a:xfrm>
                <a:off x="7907400" y="2936160"/>
                <a:ext cx="167400" cy="1695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907400" y="2555280"/>
                <a:ext cx="166680" cy="169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075160" y="3359880"/>
                <a:ext cx="166680" cy="168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451000" y="2428560"/>
                <a:ext cx="166680" cy="1695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698240" y="2216520"/>
                <a:ext cx="166680" cy="1695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8660160" y="2047320"/>
                <a:ext cx="166680" cy="168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155720" y="2766960"/>
                <a:ext cx="166680" cy="168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389240" y="335988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646080" y="310608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195240" y="378396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837320" y="327492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228840" y="3443760"/>
                <a:ext cx="208080" cy="16992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645360" y="3444840"/>
                <a:ext cx="207720" cy="16956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88560" y="3191040"/>
                <a:ext cx="208080" cy="12672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858200" y="2894040"/>
                <a:ext cx="208080" cy="16992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723680" y="352908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434680" y="319104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851920" y="344484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018600" y="302184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598040" y="5138280"/>
                <a:ext cx="208800" cy="21168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765080" y="4884480"/>
                <a:ext cx="208800" cy="21168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848960" y="5349960"/>
                <a:ext cx="208800" cy="21168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058120" y="5053320"/>
                <a:ext cx="208800" cy="21168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946560" y="1962720"/>
                <a:ext cx="2047680" cy="160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263960" y="2894040"/>
                <a:ext cx="5139000" cy="1100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222560" y="4715280"/>
                <a:ext cx="1211400" cy="84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3839040" y="4764240"/>
              <a:ext cx="138240" cy="137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839040" y="4488840"/>
              <a:ext cx="140040" cy="138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39040" y="5040720"/>
              <a:ext cx="140040" cy="13788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39040" y="5315760"/>
              <a:ext cx="140040" cy="138240"/>
            </a:xfrm>
            <a:prstGeom prst="diamond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117320" y="4559040"/>
              <a:ext cx="1534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117320" y="4420800"/>
              <a:ext cx="1604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arcelona Grou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119120" y="4695840"/>
              <a:ext cx="1603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aris Group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117320" y="4955760"/>
              <a:ext cx="1604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aris Group 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117320" y="5247720"/>
              <a:ext cx="1604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Lausanne Grou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002400" y="2007000"/>
              <a:ext cx="167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is Group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421080" y="2490480"/>
              <a:ext cx="417960" cy="2750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15720" y="1824840"/>
              <a:ext cx="174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arcelona Grou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141600" y="2145600"/>
              <a:ext cx="557640" cy="414720"/>
            </a:xfrm>
            <a:prstGeom prst="rightArrow">
              <a:avLst>
                <a:gd name="adj1" fmla="val 50000"/>
                <a:gd name="adj2" fmla="val 3361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82240" y="4236840"/>
              <a:ext cx="202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ausanne Grou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00560" y="4627440"/>
              <a:ext cx="348840" cy="344880"/>
            </a:xfrm>
            <a:prstGeom prst="rightArrow">
              <a:avLst>
                <a:gd name="adj1" fmla="val 50000"/>
                <a:gd name="adj2" fmla="val 25287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7236000" y="558972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=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K-clique Communities in Infocom06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08000" y="1123920"/>
            <a:ext cx="8712000" cy="4969080"/>
            <a:chOff x="108000" y="1123920"/>
            <a:chExt cx="8712000" cy="4969080"/>
          </a:xfrm>
        </p:grpSpPr>
        <p:grpSp>
          <p:nvGrpSpPr>
            <p:cNvPr id="111" name=""/>
            <p:cNvGrpSpPr/>
            <p:nvPr/>
          </p:nvGrpSpPr>
          <p:grpSpPr>
            <a:xfrm>
              <a:off x="108000" y="1123920"/>
              <a:ext cx="8712000" cy="4969080"/>
              <a:chOff x="108000" y="1123920"/>
              <a:chExt cx="8712000" cy="4969080"/>
            </a:xfrm>
          </p:grpSpPr>
          <p:pic>
            <p:nvPicPr>
              <p:cNvPr id="11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08000" y="1123920"/>
                <a:ext cx="8712000" cy="496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1669680" y="4722120"/>
                <a:ext cx="240840" cy="22320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690280" y="249660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532560" y="2051280"/>
                <a:ext cx="240840" cy="2221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252560" y="1884600"/>
                <a:ext cx="240840" cy="221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942320" y="2496600"/>
                <a:ext cx="240480" cy="221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373520" y="2329560"/>
                <a:ext cx="240480" cy="2221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072920" y="2718720"/>
                <a:ext cx="240480" cy="221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350520" y="2830320"/>
                <a:ext cx="239760" cy="22176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490280" y="2106360"/>
                <a:ext cx="239400" cy="22176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049920" y="221796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469680" y="221796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70280" y="249660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70280" y="2553120"/>
                <a:ext cx="239400" cy="22176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091120" y="277524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89080" y="4500360"/>
                <a:ext cx="240840" cy="22320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428480" y="4110120"/>
                <a:ext cx="240840" cy="22284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909080" y="4333320"/>
                <a:ext cx="240840" cy="22320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412320" y="1717560"/>
                <a:ext cx="1920600" cy="1391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449080" y="2106360"/>
                <a:ext cx="3002040" cy="105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948240" y="3999600"/>
                <a:ext cx="1561680" cy="11127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4052160" y="4103640"/>
              <a:ext cx="136080" cy="132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052160" y="3838680"/>
              <a:ext cx="137880" cy="132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052160" y="4368960"/>
              <a:ext cx="137880" cy="13248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52160" y="4633560"/>
              <a:ext cx="137880" cy="132840"/>
            </a:xfrm>
            <a:prstGeom prst="diamond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24680" y="3772080"/>
              <a:ext cx="157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arcelona Grou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27560" y="4036320"/>
              <a:ext cx="157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aris Group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24680" y="4287240"/>
              <a:ext cx="157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aris Group 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24680" y="4566240"/>
              <a:ext cx="157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Lausanne Grou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571200" y="1322280"/>
              <a:ext cx="185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is Group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14640" y="1719720"/>
              <a:ext cx="480600" cy="265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56080" y="1276920"/>
              <a:ext cx="226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arcelona Grou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973480" y="1653840"/>
              <a:ext cx="341280" cy="330120"/>
            </a:xfrm>
            <a:prstGeom prst="rightArrow">
              <a:avLst>
                <a:gd name="adj1" fmla="val 50000"/>
                <a:gd name="adj2" fmla="val 2584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13200" y="3596400"/>
              <a:ext cx="181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ausanne Grou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84560" y="3971880"/>
              <a:ext cx="343080" cy="329760"/>
            </a:xfrm>
            <a:prstGeom prst="rightArrow">
              <a:avLst>
                <a:gd name="adj1" fmla="val 50000"/>
                <a:gd name="adj2" fmla="val 2601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7308720" y="515772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=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K-clique Communities in Infocom06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39640" y="1628640"/>
            <a:ext cx="8317080" cy="3677760"/>
            <a:chOff x="539640" y="1628640"/>
            <a:chExt cx="8317080" cy="3677760"/>
          </a:xfrm>
        </p:grpSpPr>
        <p:pic>
          <p:nvPicPr>
            <p:cNvPr id="150" name="" descr=""/>
            <p:cNvPicPr/>
            <p:nvPr/>
          </p:nvPicPr>
          <p:blipFill>
            <a:blip r:embed="rId1"/>
            <a:stretch/>
          </p:blipFill>
          <p:spPr>
            <a:xfrm>
              <a:off x="539640" y="1628640"/>
              <a:ext cx="8317080" cy="307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6205680" y="2896560"/>
              <a:ext cx="261000" cy="258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924600" y="1861920"/>
              <a:ext cx="261000" cy="259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169120" y="3543480"/>
              <a:ext cx="261000" cy="258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04320" y="2249640"/>
              <a:ext cx="261000" cy="258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930760" y="2443320"/>
              <a:ext cx="261000" cy="259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566600" y="1927800"/>
              <a:ext cx="261000" cy="259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566600" y="3930840"/>
              <a:ext cx="261000" cy="259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222160" y="2896560"/>
              <a:ext cx="261000" cy="258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633200" y="1991520"/>
              <a:ext cx="327600" cy="25812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9640" y="2766600"/>
              <a:ext cx="327600" cy="258120"/>
            </a:xfrm>
            <a:prstGeom prst="hexagon">
              <a:avLst>
                <a:gd name="adj" fmla="val 31729"/>
                <a:gd name="vf" fmla="val 11547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030320" y="3864960"/>
              <a:ext cx="327600" cy="257760"/>
            </a:xfrm>
            <a:prstGeom prst="hexagon">
              <a:avLst>
                <a:gd name="adj" fmla="val 31774"/>
                <a:gd name="vf" fmla="val 11547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62080" y="1798200"/>
              <a:ext cx="327600" cy="257760"/>
            </a:xfrm>
            <a:prstGeom prst="hexagon">
              <a:avLst>
                <a:gd name="adj" fmla="val 31774"/>
                <a:gd name="vf" fmla="val 11547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073920" y="1798200"/>
              <a:ext cx="2619360" cy="2454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799000" y="1798200"/>
              <a:ext cx="2946960" cy="2584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71320" y="1692360"/>
              <a:ext cx="1144800" cy="2689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139080" y="4835160"/>
              <a:ext cx="131040" cy="128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335640" y="4725720"/>
              <a:ext cx="2357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arcelona Group (Spanish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64160" y="4705560"/>
              <a:ext cx="131040" cy="129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64160" y="5029200"/>
              <a:ext cx="195840" cy="12924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90320" y="4597560"/>
              <a:ext cx="235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is Group A (French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190320" y="4922280"/>
              <a:ext cx="235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is Group B (French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02360" y="4835160"/>
              <a:ext cx="196200" cy="129600"/>
            </a:xfrm>
            <a:prstGeom prst="hexagon">
              <a:avLst>
                <a:gd name="adj" fmla="val 37847"/>
                <a:gd name="vf" fmla="val 11547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965520" y="4769640"/>
              <a:ext cx="117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Italia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7451640" y="544500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=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4T13:29:44Z</dcterms:created>
  <dc:creator>BenHui</dc:creator>
  <dc:description/>
  <dc:language>en-US</dc:language>
  <cp:lastModifiedBy>jon crowcroft</cp:lastModifiedBy>
  <dcterms:modified xsi:type="dcterms:W3CDTF">2007-06-12T09:05:35Z</dcterms:modified>
  <cp:revision>130</cp:revision>
  <dc:subject/>
  <dc:title>Bubble Rap: Forwarding in Small World DTNs in Ever Decreasing Circles</dc:title>
</cp:coreProperties>
</file>