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3E7-82E0-499A-AE44-CAA67C71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196-7C20-4140-AFF0-879965E4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064-3B84-4F36-9783-B2B24026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F4-C66F-4EAB-9E9E-E7323A9D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702-99C0-4B0C-A23B-5A9E253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499D-83C4-4798-B388-B773F8E7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3744-3F63-48A1-BA92-2EEC4F96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CFEF-2BD1-4E14-8600-9DD1F2B9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723E-1948-4211-8D87-8689E5B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B75D-A321-4F9B-B431-26609A60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CC54-CACA-4DDF-9F10-FF92439A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5921-DCA8-482F-8810-037EA23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E1F8-E573-4CE4-8C99-3A468D01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8B6F-5BC3-437B-B0D1-71E9DCF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FB88-329F-4714-AC44-F2065D2D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CD7-D0BF-47E3-A5DE-FCEA38D5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6F4B-06A3-4507-9718-0A8D357A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C9FF-25F1-41F2-B324-563B8AAF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DFC-E188-422A-B826-0B8DEF2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16C-80BB-4634-82B8-183C1C9F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1600" y="1407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F46-530F-47ED-8F63-5F017E7E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C46-E818-4DF8-9920-FC9BBB1A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114-0821-4024-B102-22BE872A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571-A189-45B7-BA38-D243DBA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99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4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tinoro, FuDiCo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09E-B067-4C83-9841-E5C32653E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0880" y="6094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620120" y="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6"/>
          <a:stretch/>
        </p:blipFill>
        <p:spPr>
          <a:xfrm>
            <a:off x="7905600" y="5405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B5C9-9581-4033-B71B-8C67A048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476280"/>
            <a:ext cx="838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7620120" y="-133200"/>
            <a:ext cx="146520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5000" y="1886040"/>
            <a:ext cx="914400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nternational Technology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pperplate Gothic Bold"/>
              </a:rPr>
              <a:t>In Network &amp; Information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10080" y="0"/>
            <a:ext cx="202860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" y="2808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Mobile Ad-hoc Inter-domain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34960" y="4978440"/>
            <a:ext cx="6400800" cy="67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on Crowcroft, Computer Laboratory, 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6560" y="5767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66F-ED0C-4F3D-8AE8-75EE4ED560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A Future with Many MANET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we’ll want to inter-m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alking about a cloud of manets clustered around the fixe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inter-domain manet - traversing different rout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n clear that one solution is se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42A-A731-4E96-A929-A910B40952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Quick Drying Glos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ET=Mobile Ad-ho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qaeda, swarm of bees, Man Un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P = Interior Gatewa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OLSR, DLR, AODV,GP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P= Exterior Gatewa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GP, IDPR, IDRP, as yet don’t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= Autonom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Ci, ETH, 18.0.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mr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a-3.lcs.mit.edu/~jnc/nimrod/doc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30D-7E4D-48BA-BE70-92F8B3B879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Definitely a MAD distributed system!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omain has own go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on geo- or topo-, on demand or reactive, optimized for capacity, delay, loss, powe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ies (ingress, egress, transit) are colo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is not just at “edg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of IGP and EGP non triv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data follow control traffic (in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 of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add level of hierarchy or transl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01A-FF93-49E7-A941-A0202F08AB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1. IGP to EGP interface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:Pro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 trumps 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route and act as hello in same breat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versus Topolog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- trumps G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p one way not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route or reachability (AS map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p (like nimrod) trumps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associate in a MANET longer than route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225-D1BF-41E9-BA96-1721242A7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2. Torrents of Policy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ANET is a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has own incentive &amp; recommendation &amp; reput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map these between differen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 we have separation of ingress/egress/transit policy from intra-manet rou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like separation is required for technical reasons too (see previous and next sli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CB8-00CE-4623-9C3A-8FE770E6FD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3. IGP to EGP Synchronization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P may not actually conve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- and gradient- protocols don’t ne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P offer of probability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output of EGP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UDLR and other asymmetric schemes (IP over x.25:-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ap&amp;reachability exchange control traverse more stable paths than users’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0BF-4C0B-4DCD-AA13-2ECB8FE94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4. Heterogeneous Addresses</a:t>
            </a:r>
            <a:endParaRPr b="0" lang="en-US" sz="44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ANET will assign addresses (identifiers for routing and end system)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port these in EGP as part of reach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“re-prefix” them (like IPv6) or assume AS level uniqueness, or transl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4FB-18B5-440E-B99D-2872BBBF22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407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Copperplate Gothic Bold"/>
              </a:rPr>
              <a:t>Conclusion/future</a:t>
            </a:r>
            <a:endParaRPr b="0" lang="en-US" sz="4000" spc="-1" strike="noStrike">
              <a:solidFill>
                <a:srgbClr val="0066ff"/>
              </a:solidFill>
              <a:latin typeface="Copperplate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looking at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arou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ostdoc looking a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urth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ut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on composa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first we have to have a clear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man proposed - next: evaluate - criteria/topology/mobility/dynamics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2200" y="610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483-0318-4E3D-8932-FFB97AC1B4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crowcroft</cp:lastModifiedBy>
  <dcterms:modified xsi:type="dcterms:W3CDTF">2007-06-03T10:53:17Z</dcterms:modified>
  <cp:revision>20</cp:revision>
  <dc:subject/>
  <dc:title>PowerPoint Presentation</dc:title>
</cp:coreProperties>
</file>