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AA3-18A3-4AFD-AB70-5155C916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FA8-9B06-40A1-8785-43F14FF4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546-1275-4309-B082-1931A98F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89F-A903-4B4F-B7B8-C347D7DB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64EF-EC92-4A1A-A2DD-33E6AD2C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6072-5298-448C-91F7-7DFD527D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4BE1-ACE8-45AF-94FA-2C19C5E5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C4F2-2F10-4979-88E8-DAB06B0F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3B51-2012-4E78-B187-96F7F6F3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A976-3D53-4632-855B-EFE5FBC6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6E9C-2A33-43B6-B4F6-97B0C065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5A5-F2E1-468A-A2AD-4F61602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441A-5C05-4FAC-8A0A-A89F934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BA69-4EDD-4523-8CDA-3AB56AEF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E373-C739-4385-8BCA-7D93C84A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3242-3B3D-40B3-BB9C-0AD084986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2F3F-EC09-4843-9CD3-44A53979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E30-6C9E-4638-B87F-13E8DCDC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A09-68BB-47A0-A4B2-9FFB7DF6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F5C-40D9-4069-8B90-7C13F2BD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17F-F3DD-4939-A89B-30DA1F92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D62-1E46-45B3-BFBC-E43253CF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92C-E61C-4B3D-AA2C-83E79704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853-85A1-4331-89B2-82035EB6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tinoro, FuDiC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E851-75B6-42A4-AFB7-5FA441E03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905600" y="5405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1C35-236D-41BE-930D-5CF201794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4762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620120" y="-13320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000" y="1886040"/>
            <a:ext cx="914400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nternational Technology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In Network &amp; Information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10080" y="0"/>
            <a:ext cx="202860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8800" y="2808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Mobile Ad-hoc Inter-domain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34960" y="4978440"/>
            <a:ext cx="64008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n Crowcroft, Computer Laboratory, 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5767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9B9-6844-4135-97D4-721207168A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A Future with Many MANET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we’ll want to inter-m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alking about a cloud of manets clustered around the fixe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inter-domain manet - traversing different rout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n clear that one solution is se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40D-1E66-4448-881E-2DA5703663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Quick Drying Glos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ET=Mobile Ad-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qaeda, swarm of bees, Man Un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P = Interior Gatewa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OLSR, DLR, AODV,G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P= Exterior Gatewa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GP, IDPR, IDRP, as yet don’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=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i, ETH, 18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a-3.lcs.mit.edu/~jnc/nimrod/doc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FF0-862E-43EA-9729-4FF65C8E8A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efinitely a MAD distributed system!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omain has own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on geo- or topo-, on demand or reactive, optimized for capacity, delay, loss, powe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(ingress, egress, transit) are colo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is not just at “ed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of IGP and EGP non triv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ata follow control traffic (in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add level of hierarchy or trans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B4D-9B30-4B06-876C-BA2B003FA0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1. IGP to EGP interface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:Pro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 trumps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route and act as hello in same brea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versus Topolog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- trumps G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p one way not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route or reachability (AS map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p (like nimrod) trumps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associate in a MANET longer than route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324-BE2F-4161-8DDB-F4FAEE06BC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2. Torrents of Policy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NET is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own incentive &amp; recommendation &amp; reput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p these between differen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 we have separation of ingress/egress/transit policy from intra-manet ro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like separation is required for technical reasons too (see previous and next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86B-8FB9-430E-BA15-BA07796973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3. IGP to EGP Synchronization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P may not actually conve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- and gradient- protocols don’t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P offer of probability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output of EGP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UDLR and other asymmetric schemes (IP over x.25:-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ap&amp;reachability exchange control traverse more stable paths than users’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662-8151-4C38-8CC5-4614A275EF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4. Heterogeneous Addresse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ANET will assign addresses (identifiers for routing and end system)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port these in EGP as part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“re-prefix” them (like IPv6) or assume AS level uniqueness, or trans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D86-F917-42D4-9FC1-E6CA03A611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onclusion/future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at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aro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ostdoc looking a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r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on composab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irst we have to have a clear 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man proposed - next: evaluate - criteria/topology/mobility/dynamic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200" y="610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117C-3E4B-4586-9F99-C258EA329D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crowcroft</cp:lastModifiedBy>
  <dcterms:modified xsi:type="dcterms:W3CDTF">2007-06-03T10:53:17Z</dcterms:modified>
  <cp:revision>20</cp:revision>
  <dc:subject/>
  <dc:title>PowerPoint Presentation</dc:title>
</cp:coreProperties>
</file>