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394B-4EAE-46B4-86D3-86C3BB10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90D-ACC6-4D0A-8295-6BB12971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D79-1A7B-409B-967C-C19DD1BA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360E-18CE-42BE-BA69-69CF571C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53CE-AA3B-4715-B60C-097ED448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95BE-8F7A-4AE2-9D03-93677410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D539-2B01-4828-9691-424C41CD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5F30-CA20-489E-AC5E-CBEAB50B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1D1A-B9CA-4A84-846E-558C3F46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897B-A839-405D-8EBC-A29DC873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1436-F2F4-4C71-BF74-A830A94C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402D-EBA6-449C-B8AE-98AAC44A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C103-FBF8-40AB-AC17-FC85B07D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6202-4E17-4187-95DF-5A7EA482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8F28-E87D-4079-8A61-D8CE3763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E676-FEFB-48AF-9B57-14B8B217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BA49-6C08-4B92-9AFA-D01152DB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25E4-96AC-4FBC-BE6A-E4EDA32C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64DB-438D-455C-A39C-57FDE215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DA1D-BF51-4C7D-A359-15B122A8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6C3-45B1-4824-8952-04936C6F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CF8-53AB-403A-81C2-10EBCB0A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382C-9E9E-4AE9-8740-CDD27708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726C-CB50-487C-AC9F-D5202A96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5280" y="638172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EX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13C7-14BE-4BC3-836D-8797794BA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6093000"/>
            <a:ext cx="1823760" cy="59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3560" y="1143000"/>
            <a:ext cx="83822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838080"/>
            <a:ext cx="381240" cy="327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35280" y="6237000"/>
            <a:ext cx="367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474A-4C59-4A51-9CAD-58BA3484F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4818240"/>
            <a:ext cx="3027600" cy="987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79280" y="4562640"/>
            <a:ext cx="1944720" cy="145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917280"/>
            <a:ext cx="79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brid Reliable Multicast with TCP-X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6560" y="273996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325296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nho P Barcellos, UNIS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fano Pettini,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234936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l Je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1852560"/>
            <a:ext cx="1116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08800" y="1884240"/>
            <a:ext cx="1080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43280" y="198900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5800" y="1773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07520" y="20750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5800" y="24922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32986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843280" y="2282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43280" y="365904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43280" y="4797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43280" y="5235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43280" y="3371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4581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24922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5451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5800" y="43783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82560" y="50259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2560" y="36590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2560" y="4797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5800" y="5445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6160" y="3083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3280" y="3443400"/>
            <a:ext cx="278136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38000" y="28065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70160" y="28065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1320" y="249228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54760" y="134136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4760" y="2997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54760" y="46530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281320" y="1412640"/>
            <a:ext cx="3673440" cy="12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8360" y="2698920"/>
            <a:ext cx="368640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74840" y="2732040"/>
            <a:ext cx="3679920" cy="19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74840" y="1484280"/>
            <a:ext cx="3679920" cy="13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274840" y="2863800"/>
            <a:ext cx="367992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274840" y="2922480"/>
            <a:ext cx="3679920" cy="187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81320" y="1557000"/>
            <a:ext cx="3673440" cy="14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74840" y="3087720"/>
            <a:ext cx="367992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74840" y="3122640"/>
            <a:ext cx="3679920" cy="174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79520" y="187164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1320" y="350028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70160" y="350028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1320" y="194472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1320" y="357336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1320" y="357336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1320" y="201600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1320" y="364500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1320" y="3645000"/>
            <a:ext cx="3676680" cy="162864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47500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1320" y="417672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281320" y="424728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000" y="3422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9240" y="177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59240" y="3429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59240" y="50846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conne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connects to multiple unicast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TCP PCBs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3-way handshakes tak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M or random ASM group address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f not specified in advance by user/app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ddress sent as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multicast depends on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Group O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group option sent in all TCP-XM SYN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TCP-XM hosts will ignore (no option in SYN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implies multicast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will automatically revert to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81000" y="1946160"/>
            <a:ext cx="112716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11400" y="1944720"/>
            <a:ext cx="112716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38560" y="1943280"/>
            <a:ext cx="45082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37240" y="2890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5504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77560" y="28940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56240" y="2243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nd=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12280" y="2243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17600" y="224316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ulticast Grou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transmis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plicated/enqueued on all send que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variables dictate transmiss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ckets are multicast (if po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nsmissions are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 fall back/forward to unicast/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closed as per unicast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CP-XM protocol st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530360" y="1663560"/>
            <a:ext cx="6083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ll back / fall forwar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ast if possible, unicast when necessa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transmission mode is group un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successful initial data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forward to multicast on posi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after ~75K unicas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back to unicast on repeated mcast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feedback O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eedback option sent in ACKs from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d between TCP-XM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% of last n packets received via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sender to fall forward to multicast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81000" y="1946160"/>
            <a:ext cx="112716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11400" y="1944720"/>
            <a:ext cx="112716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38560" y="1943280"/>
            <a:ext cx="45082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7240" y="2890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5504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8376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6240" y="2243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nd=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12280" y="2243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1840" y="2243160"/>
            <a:ext cx="31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 Multicast Packets Rece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rece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PI-leve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TCP 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IGMP join on TCP-XM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s data on both unicast/multicast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_input() ac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addressed to existing unicast destin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w also those addressed to multica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s how la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gs received (u/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I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elevant if natively implemen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API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nnec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o port on array of dest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write sends data to all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in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n = netconn_new(NETCONN_TCPX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connectxm(conn, remotedest, numdests, group, por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write(conn, data, len, …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o achieve high-speed bulk data delivery to multipl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ing would make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multicast research has focused on sending to a large number of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rid is an applied example where sending to a moderate number of receivers would be extremely bene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B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CP connection has an associated Protocol Control Block (PC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ad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*firstpcb;/* first of the mpcb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*nextm;   /* next tcpxm pcb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um tx_mode txmode;     /* unicasting or multicasting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nrtxm;              /* number of retransmits for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nrtxmtime;         /* time since last retransmi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mbytessent;        /* total bytes sent via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mbytesrcvd;        /* total bytes received via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ubytessent;        /* total bytes sent via un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ubytesrcvd;        /* total bytes received via un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segrcv msegrcv[128]; /* ismcast boolean for last n seg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rcvper;         /* % of last segs receive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rcvcnt;         /* counter for segs recv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sntper;         /* % of last segs delivere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king PCB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 that’s part of a particular TCP-XM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timer and state machin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00000" y="1730520"/>
            <a:ext cx="936720" cy="1370160"/>
            <a:chOff x="900000" y="1730520"/>
            <a:chExt cx="936720" cy="1370160"/>
          </a:xfrm>
        </p:grpSpPr>
        <p:sp>
          <p:nvSpPr>
            <p:cNvPr id="229" name=""/>
            <p:cNvSpPr/>
            <p:nvPr/>
          </p:nvSpPr>
          <p:spPr>
            <a:xfrm>
              <a:off x="1120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50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0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0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33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320920" y="1730520"/>
            <a:ext cx="936720" cy="1370160"/>
            <a:chOff x="2320920" y="1730520"/>
            <a:chExt cx="936720" cy="1370160"/>
          </a:xfrm>
        </p:grpSpPr>
        <p:sp>
          <p:nvSpPr>
            <p:cNvPr id="236" name=""/>
            <p:cNvSpPr/>
            <p:nvPr/>
          </p:nvSpPr>
          <p:spPr>
            <a:xfrm>
              <a:off x="254124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7176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2092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2092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2092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5420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743280" y="1730520"/>
            <a:ext cx="936720" cy="1370160"/>
            <a:chOff x="3743280" y="1730520"/>
            <a:chExt cx="936720" cy="1370160"/>
          </a:xfrm>
        </p:grpSpPr>
        <p:sp>
          <p:nvSpPr>
            <p:cNvPr id="243" name=""/>
            <p:cNvSpPr/>
            <p:nvPr/>
          </p:nvSpPr>
          <p:spPr>
            <a:xfrm>
              <a:off x="396360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9412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4328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4328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4328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7656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165640" y="1730520"/>
            <a:ext cx="936720" cy="1370160"/>
            <a:chOff x="5165640" y="1730520"/>
            <a:chExt cx="936720" cy="1370160"/>
          </a:xfrm>
        </p:grpSpPr>
        <p:sp>
          <p:nvSpPr>
            <p:cNvPr id="250" name=""/>
            <p:cNvSpPr/>
            <p:nvPr/>
          </p:nvSpPr>
          <p:spPr>
            <a:xfrm>
              <a:off x="538596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648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6564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564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9892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588000" y="1730520"/>
            <a:ext cx="936720" cy="1370160"/>
            <a:chOff x="6588000" y="1730520"/>
            <a:chExt cx="936720" cy="1370160"/>
          </a:xfrm>
        </p:grpSpPr>
        <p:sp>
          <p:nvSpPr>
            <p:cNvPr id="257" name=""/>
            <p:cNvSpPr/>
            <p:nvPr/>
          </p:nvSpPr>
          <p:spPr>
            <a:xfrm>
              <a:off x="6808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38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88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88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88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21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83528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6232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8144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0380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1440" y="29541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2957400"/>
            <a:ext cx="1903320" cy="325440"/>
          </a:xfrm>
          <a:custGeom>
            <a:avLst/>
            <a:gdLst/>
            <a:ahLst/>
            <a:rect l="l" t="t" r="r" b="b"/>
            <a:pathLst>
              <a:path w="1199" h="205">
                <a:moveTo>
                  <a:pt x="0" y="0"/>
                </a:moveTo>
                <a:cubicBezTo>
                  <a:pt x="192" y="102"/>
                  <a:pt x="384" y="205"/>
                  <a:pt x="584" y="205"/>
                </a:cubicBezTo>
                <a:cubicBezTo>
                  <a:pt x="784" y="205"/>
                  <a:pt x="991" y="102"/>
                  <a:pt x="119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ppens to th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wi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C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ongestion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(cw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send at rate of slowes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really so b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time taken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cast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AN spe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AN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N spe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N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ultiple TCP-XM flow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CP-XM vs TCP flow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tocol perform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avail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ment is a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have been defined and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concerns about scalability; much F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 &amp; egg” means limited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uds of native 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’t r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tinations via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applications abandon in favour of un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we could multicast when possib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fall back to unicast when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tocol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id multicas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multicast be used in Grid enviro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is new multicast-capabl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us is de-facto Grid middl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CP-XM support in Globu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us XI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le Input Outpu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“i/o plugins” to Glo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OSIX-like API / set of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open/close/read/write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es protocol details / Allows for 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 of 1 transport &amp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orm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s can be selected at run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948360" y="407880"/>
            <a:ext cx="194328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architec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787480" y="1523880"/>
            <a:ext cx="3567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implemen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666880" y="1536840"/>
            <a:ext cx="381024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/XM driver specifi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important XIO data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ed to user when XIO framework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all open/close/read/writ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wIP netconn connection structu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et XIO driver-specific paramet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CP-XM protocol-specific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destination addr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code 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108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nit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stack_init(&amp;stack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load drivers onto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driver_load(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cpx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, &amp;tx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stack_push_driver(stack, tx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nit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attr_init(&amp;att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attr_cntl(attr, txdriver, GLOBUS_XIO_TCPXM_SET_REMOTE_HOSTS, hosts, numhost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create 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handle_create(&amp;handle, st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se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open(&amp;handle, NULL, targ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write(handle, "hello\n", 6, 1, &amp;nbytes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close(handle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e-to-many issu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assumes one-to-on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O user interface requires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support for one-to-many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user API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changes mo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I is one-to-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with peer on connec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nnot authenticat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some form of “GSI-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ver avail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ransport driver for Globus X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Globus 3.2 o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code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 installation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kj234/xio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cp &amp; mcp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file transfer application using TCP-X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cpd 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on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cp file host1 host2… host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on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kj234/mc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source code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BSD, Linux, 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TCP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reliable stream between two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liable streams from 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seem a little odd, but there is preced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-XMO – Liang &amp; Cheri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-TCP – Mysore &amp; Varg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TCP – Visoottiviseth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MP – Barcellos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 – Talpade &amp; 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03236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list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 implo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4828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ing Multicast 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test multicast/unicast TCP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ew protocol == kerne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test deployment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new TCP-like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e packets in 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n user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sacrific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idespread testing now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/IP/UDP/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19280" y="2060640"/>
            <a:ext cx="5761080" cy="3026520"/>
            <a:chOff x="1619280" y="2060640"/>
            <a:chExt cx="5761080" cy="3026520"/>
          </a:xfrm>
        </p:grpSpPr>
        <p:grpSp>
          <p:nvGrpSpPr>
            <p:cNvPr id="103" name=""/>
            <p:cNvGrpSpPr/>
            <p:nvPr/>
          </p:nvGrpSpPr>
          <p:grpSpPr>
            <a:xfrm>
              <a:off x="1619280" y="2060640"/>
              <a:ext cx="1584360" cy="2954880"/>
              <a:chOff x="1619280" y="2060640"/>
              <a:chExt cx="1584360" cy="2954880"/>
            </a:xfrm>
          </p:grpSpPr>
          <p:sp>
            <p:nvSpPr>
              <p:cNvPr id="104" name=""/>
              <p:cNvSpPr/>
              <p:nvPr/>
            </p:nvSpPr>
            <p:spPr>
              <a:xfrm>
                <a:off x="181908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nd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1428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1940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4804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9744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61928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1928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1928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9236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9236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9236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96000" y="2060640"/>
              <a:ext cx="1584360" cy="2954880"/>
              <a:chOff x="5796000" y="2060640"/>
              <a:chExt cx="1584360" cy="2954880"/>
            </a:xfrm>
          </p:grpSpPr>
          <p:sp>
            <p:nvSpPr>
              <p:cNvPr id="116" name=""/>
              <p:cNvSpPr/>
              <p:nvPr/>
            </p:nvSpPr>
            <p:spPr>
              <a:xfrm>
                <a:off x="599580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eiv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29100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39612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2476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37416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9600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9600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9600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86908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908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6908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482280" y="3914640"/>
              <a:ext cx="20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Arial"/>
                </a:rPr>
                <a:t>If natively impleme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69920" y="4780080"/>
              <a:ext cx="144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est deploy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03640" y="479592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32000" y="3932280"/>
              <a:ext cx="273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eng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initial TCP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use BSD or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ng from kernel could be probl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act alter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wIP = Lightweight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t fully RFC-compliant TCP/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wIP + multicast extensions =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-X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aimed at push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initiated – advance knowledge of rece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 sessions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tination hosts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cast is used when multicast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headers used to exchange multicas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incorporates multiple destination and grou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requires no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friendly, by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02:12Z</dcterms:created>
  <dc:creator>Karl Jeacle</dc:creator>
  <dc:description/>
  <dc:language>en-US</dc:language>
  <cp:lastModifiedBy>Jo Bond</cp:lastModifiedBy>
  <dcterms:modified xsi:type="dcterms:W3CDTF">2005-07-15T15:48:39Z</dcterms:modified>
  <cp:revision>106</cp:revision>
  <dc:subject/>
  <dc:title>A Multicast Transport Driver for Globus XIO</dc:title>
</cp:coreProperties>
</file>