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89520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9756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888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2128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888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2128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560" y="302760"/>
            <a:ext cx="863748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9756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389520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9756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888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2128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888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2128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560" y="302760"/>
            <a:ext cx="863748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9756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ffffcc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ffffcc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4876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0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00"/>
              </a:spcBef>
              <a:buClr>
                <a:srgbClr val="ffffcc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00"/>
              </a:spcBef>
              <a:buClr>
                <a:srgbClr val="ffffcc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4876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ebuchet MS"/>
              </a:rPr>
              <a:t>Computer Communications Science FIction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038120" y="5562360"/>
            <a:ext cx="4496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Jon Crowcroft,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he Computer Laboratory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University of Cambridge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Jon.crowcroft@cl.cam.ac.u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University of Cambridge Principals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puter Lab - Ross Anderson (Security), Jon Crowcroft (Internet), Simon Moore (Pervasiv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hotonics - Professor Ian Whi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CE - Dr Ian Wassel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Judge - Dr Richard Steinber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ose working relationships with Applied Economics, Stats Lab, and mo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dustry - local, regional and global obvious partn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overnment - RDAs, Regulator, DT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Meeting Goals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gage with Industry, UK and wider, in partnershi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gage with Relevant Government agenc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reate Working Group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te 3 points of contact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mbridg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I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C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otstrap - BT, and Adastral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4876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rebuchet MS"/>
              </a:rPr>
              <a:t>Cool Visions for Communications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038120" y="5562360"/>
            <a:ext cx="4496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A Radical Viewpoint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Who am I and What am I doing here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’m the Marconi Professor of Communications System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 the Computer Laboratory, in the University of Cambridg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Some time ago, I studied Physics here, then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 spent 22 years at UCL in Computer Scie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orked on first Internet access outside US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orked on Universe with Cambridge, Logica, UC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orking with UCL EE, BT, Adastr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w, bringing back together again successful partn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rebuchet MS"/>
              </a:rPr>
              <a:t>Sci Fi #101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ake 1 dimension  of life and extrapolate it beyond expectation, e.g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Rain, Snow, Wind (J.G.Ballard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Sea, Plants, ALients (John Wyndham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Stars, Time (Arthur Clark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Robots, History (Isaac Asimov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rebuchet MS"/>
              </a:rPr>
              <a:t>s/Sci Fi/Computer Science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Storag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Processin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Communicatio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Powe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Reliabilit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Pric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Exponentials and Ratios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puting, Communications and Content are all growing exponentiall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always confuses people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half lives are different, and the rise and run of the steps are different, so the ratios shif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edicting when storage or processing are more or less important than communications or travel is a hard thing to do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ake 3 problems as examples of the type of thing the CII is here to try to comprehen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Three examples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conomic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hat can economists tell us about the limits of the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market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as the way to manage the evolution of communication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pectrum auction - succes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Free Wi-Fi VOIP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- who know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n infinite bandwidth and storage: What if the cheapest place to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rent rack spac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for storage and processing is in the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hom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rtical (content &amp; transmission) versus horizontal (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2P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mputer scientist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Internet is the worst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form of communication infrastructure, except for all the rest. SMS is the worst use of cell phones, except for most of the rest.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will your next worst nightmare be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ree content e.g.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file sharing on the highway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rebuchet MS"/>
              </a:rPr>
              <a:t>3 More examples illustrate disruption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Information theory says multihop radio capacity may </a:t>
            </a:r>
            <a:r>
              <a:rPr b="0" i="1" lang="en-GB" sz="2000" spc="-1" strike="noStrike">
                <a:solidFill>
                  <a:srgbClr val="000000"/>
                </a:solidFill>
                <a:latin typeface="Trebuchet MS"/>
              </a:rPr>
              <a:t>increase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with number of users/nod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How to 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bootstrap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though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What if search and filter technology is 100% accurate – what price </a:t>
            </a:r>
            <a:r>
              <a:rPr b="0" i="1" lang="en-GB" sz="2000" spc="-1" strike="noStrike">
                <a:solidFill>
                  <a:srgbClr val="000000"/>
                </a:solidFill>
                <a:latin typeface="Trebuchet MS"/>
              </a:rPr>
              <a:t>advertising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Where’s the 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revenue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when no-one sees it – viz Tivo v. Gmai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Fiber to everywhere could cost 100$ per home. What if I am not at home ? </a:t>
            </a:r>
            <a:r>
              <a:rPr b="0" i="1" lang="en-GB" sz="2000" spc="-1" strike="noStrike">
                <a:solidFill>
                  <a:srgbClr val="000000"/>
                </a:solidFill>
                <a:latin typeface="Trebuchet MS"/>
              </a:rPr>
              <a:t>Fiber Radio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might be an answer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BUt why would FiberCo let WifiVillage use their resource? – Time to Phone The 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Regulat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Interlocking concerns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te how economic, regulatory and technical concerns interac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nnot consider each in separation any mo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ome things are not solved by The Market or by The Government, or by Microsoft, Intel and Cisco, or SMEs or Research Labs and Startups, on their ow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’re keen to engage all of the abov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0:14:09Z</dcterms:created>
  <dc:creator>has27</dc:creator>
  <dc:description/>
  <dc:language>en-US</dc:language>
  <cp:lastModifiedBy>jac22</cp:lastModifiedBy>
  <dcterms:modified xsi:type="dcterms:W3CDTF">2004-09-21T09:50:25Z</dcterms:modified>
  <cp:revision>25</cp:revision>
  <dc:subject/>
  <dc:title>PowerPoint Presentation</dc:title>
</cp:coreProperties>
</file>