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9E9-4908-499D-9D2E-72052BE6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A0E-7BA1-4CF1-97F7-C660B6E7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A46-3A90-4B33-928E-195842D1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CD8-C2E9-4612-A1CB-5C6002D5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6F80-AE91-461E-A352-2A2F38F6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87DD-E8D7-4418-B55B-9734171D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BA6E-977C-4828-A264-EB7FF912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B5FB-A073-41F0-9E21-AFF6E785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C63A-F231-48A1-B474-9D9BE25F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C00F-4CC4-400A-9D89-26607E11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378E-7D76-488F-BD0E-4C60E19F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F60-B106-4DD6-A04C-34DC9E07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6D5E-D43F-455D-B3C5-C6C56A9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59B7-B92A-4F57-9F92-5D668A4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8717-F623-4204-81AA-E99158B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A26A-39FE-4E4E-A49F-9AC8B789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B888-1A36-4940-9672-7D3F4BEB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15E-5267-4ACB-9170-03755785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C9E-4FA6-4AA0-B967-A6C23AF5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BE0-6F3F-4D3D-96EB-7EB7DB4F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3B0-568D-4419-9F0B-D544F882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5B3-19A7-4D8E-B5BC-02DFCF71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B27-C155-4F31-8A61-356A9A83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8C3-5198-4660-975B-3F8A6996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3CDB-1A10-41E4-A3C1-D913577F35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DB17-E1B2-46A0-97D5-BB80088EC59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chitectural Principles for Architectures - an elicita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 Crowcro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1: What are the architectural problems in the Internet &amp; why are they showing up n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sure if there are any - the Internet works for 95% of what people want it to do, and I don’t want to replace gsm in my phone with vo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 do I want to fit TCP/IP to anything else quite frankly…s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m going to ignore the Internet for the purposes of Architectural Elici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tead, move to (and modify) Q2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: A Clean Sl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for the Internet Applications or Usage, but for new stuff - e.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portunistic Networking, related 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ay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ruption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these, what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a: Requirement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b Usage assump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a&amp;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portunitistic Nets (Ons) are partly an instance of DT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have e2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nectiv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,DTNs,ONs all share this, and also, typically, lack of seperation of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is tell us about architectur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al Elici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P, X.25, XNS, DNS, SNA… all OSI mo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en Systems Interconnection use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ganising princip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ay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principle is not useful in 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e2e principle is 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.g. in extreme (have no network layer so no routing in net - but can have end system rout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 Wroclawski’s point…partial re-use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3: Evolve or Overla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, and No, at least not for ON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P is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verlays are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some 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nteresting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’s no interesting research in these new requirement areas that can be done in IP or Overlay (but see next for mitigating commen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ide: Plea for Internet Experimental Ethics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’s still a lot of interesting Internet Architecture Evolution work to do - much of it is in scaling routing, DOS resistence, better worm prevention, etc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not test any hypothesis in today’s Internet is governed by short term, litigious-minded, and often inappropriate knee-jerk respon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fix this URGEN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keh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requirements need new architectures that deviate radically fro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rchitectural principles reu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ust do evolution of Internet Arch, need to be able to test ideas - need a richer world than todays to let you do it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4-08-30T18:19:35Z</dcterms:modified>
  <cp:revision>67</cp:revision>
  <dc:subject/>
  <dc:title>Ultra Wideband Radio Technology: Potential &amp; Challenges Ahead</dc:title>
</cp:coreProperties>
</file>