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66E-35D3-432D-8F8F-4B0ACA1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E5E-C79C-4343-A690-CA9FEB9D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884-AD47-4C83-BEC8-2781E9EE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7C6-1105-4470-83A3-D43A3767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733-685B-4EDA-99DE-CDDE874A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2B1-D11B-4798-8F49-EC6BE42A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A30-ACBF-4D89-9A6A-D78E9057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582-2D20-4A56-A69D-1460A2C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4E6-ABDC-4E91-B8C2-FEAE8E0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109-4ED4-42C2-81F2-FD6D2A2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6A5-3BA7-45AD-A5DC-C1F37B5F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98F-D779-478C-B5BF-EC95C84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2357-8A63-44B5-896B-06DFCD266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 for Decentralised Spectrum Co-Allo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jac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an be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, political, geographic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-community trust much higher than in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ties align social and ge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 are not just abo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cales vary from minutes to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time of use o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 of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rain, Vehicles,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ther, mobility, traffic matric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yment/tokens need to be unfor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ouble sp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nimity versus trac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ted Reservation v. Decentralised Congestion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ource Reservation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wireline networks (rsvp, q2931) interfac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ssion control,  policy management, traff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ct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atekeep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resource (which is 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gestion Control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buted dual optimisation (TCP/ECN or AB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systems adapt to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signals end systems (through loss or E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 protocols traditionally resourc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ention, hidden terminal etc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considerations (not gr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MA/CA is quite like TCP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scales of feedback quit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dio and software defined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ose modulation, coding, CRC,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wnloaded, or selected, based 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e environment (congnitive) or ask ora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antennae, power budget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undrum: where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logy: give me all the capacity for my download then go to next user, or give me 1/nth of the capacity all the ti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ingle optimum operating point for given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timescales mean that sensing is not going to detect future (or recent) potential contend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 continu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&gt; Need to kee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&gt; Need infrastructure for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ost, but given geograph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also use repository for (signed)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oken validation (ecash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ole for incumbent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haul (c.f. multihop horizon limi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-- Hybridiz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entralised managed thru central neutral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then use reservation protocols and auctions and other mechanisms to allocate 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center to offer checks and balances (polices spectrum “bill of right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use fully decentralised techniques within power budget and spectrum allocation for re-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7:09Z</dcterms:created>
  <dc:creator>daniel</dc:creator>
  <dc:description/>
  <dc:language>en-US</dc:language>
  <cp:lastModifiedBy>daniel</cp:lastModifiedBy>
  <dcterms:modified xsi:type="dcterms:W3CDTF">2005-11-06T14:56:53Z</dcterms:modified>
  <cp:revision>11</cp:revision>
  <dc:subject/>
  <dc:title>Protocols for Decentralised Spectrum Co-Allocation </dc:title>
</cp:coreProperties>
</file>