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0564-AF11-45DF-BCA2-42CD90240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12F3-4D45-4A16-A2E8-E3F169608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105-4896-4619-87AB-029170CD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258-66C0-4886-A3DC-E3D5FDFB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5EB-10CE-40B9-A9CB-4C226FA3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4FD-3C2C-4399-BA3E-AE231BAD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3E9-AF76-431B-8B2C-749C8366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572-D22E-488C-BF37-CF9E44E9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45E-6C07-4732-B66B-4B13AF74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867-1613-4F91-BAF5-053C5402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DE9-4CF9-4EAA-93A4-10FBE319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E2C-562B-4639-BD5F-5BB77CFD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3BA-C97E-4B7B-8B80-5BC4B91E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9A17-F6BA-4129-BE7D-3F750191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7720" y="6324120"/>
            <a:ext cx="752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14 June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TU Darmsta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D549-26BF-4EC7-92D9-4A6B6A513E0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3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47440" y="4212720"/>
            <a:ext cx="5797800" cy="278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James Scott (xxx Research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n Hui (University of Cambridge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hristophe Diot (Thoms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othy Roscoe (ETH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11D-640D-4482-8B74-48685FCCD0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E71F5-86B5-450F-98E0-B784E8D388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C5F-C7A9-4135-B455-7426C6C063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3F1E9-4181-4073-B64E-62B9177AB9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3AE-17C4-4422-8A8A-402797A2D62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896BA-3A17-4E09-A96D-9C21E7A1F7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DF5E-B4B5-4209-8206-3C288FE213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64A5B-EDD8-418D-B1A7-629AE48CEB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5C0-3F46-410F-B4BB-FB44207C12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3F2A2-3F98-4E4B-9C84-5EDB0FBA80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866E-7B5B-4A72-8B75-655C9C5EAD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7B7A4-D375-4338-9340-1AF13F7D09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423-C8C8-4C99-A3B8-5A4AF85C6D1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27293-8E3E-4719-AEB9-81CCC183D8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1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8122400">
              <a:off x="542016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3F1-6FBB-4484-A184-9219ADED0A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99C52-91F3-4225-8ABD-CC43CB47A6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2320" y="11970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6200" y="37638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FE0-420B-41D3-B18E-BC61653529C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C963A-3C8E-4B31-BCEF-BBA5E37880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C54-0E91-4D4C-B1BE-3684BAE886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D8EAE-6075-4BBA-A573-0F911F96BB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7C34-D7D7-42CC-B624-DE2C2E8D55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DE319-504C-48C0-9068-4CD8269091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140-DB63-43E6-81AB-DC812D4ACE9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B8E2C-B6D9-46B2-ADB2-ABB7B69FEE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38B-C7BA-448D-B288-A679F3DAC4D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AC301-FEC1-4470-8F4F-D70F3CD497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4FE-52ED-4EE3-BD9E-59B20EF0017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0D637-8B75-4A76-9274-259307DF2F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0FF-2F81-4201-90F8-D3450EA3835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AB143-A276-4B65-AAAE-3ECD1EEC75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obrigado …ciao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973-39C7-4A89-BDD9-ACE0C61E299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AA4A0-EC42-4B7F-9838-9CDC7A04D3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A7A-8193-493E-BA7C-B2B259EDF4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3E938-EA23-49D6-BBB3-79DE00BAD9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4E6-CDDD-4B93-9B05-354DA9124C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455C3-B2C3-4C73-98E4-C0C1438C4D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6B40-7B1B-450D-8512-1E3E08698A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A6258-80BA-46AD-B3A8-66463593AC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986-119E-4110-8F63-BEA1748855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73300-CDEB-4073-8325-C2B5ECB8F1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3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D00-0864-4274-A4CB-2658EAC8BED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23C6F-0C7F-4478-A022-C7E7EE9CD3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C6C-6541-4B97-885F-BDB112ABFA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7F540-8864-4A93-A4B5-FE691B4F37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32800" y="4684680"/>
            <a:ext cx="36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9080" y="2017800"/>
            <a:ext cx="30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2A1-B890-4D0F-9F98-9F63BB185EC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DE20D-D8F1-475E-8797-E3A12C75A5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6-12T09:03:31Z</dcterms:modified>
  <cp:revision>250</cp:revision>
  <dc:subject/>
  <dc:title>Haggle Work </dc:title>
</cp:coreProperties>
</file>