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9987-5AFC-40AB-8F31-FCD5E3F69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s already have 500 computers in (40% of car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DFC-8EF9-4083-AE69-C25B9A8C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7258-7C83-4C05-824C-7B1897F4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2EA-D2C9-4D94-9199-C3F9E4E2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AC3-1BA4-447C-97F6-C10F81C3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5E9-08E7-497F-82CF-AA9684C9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5BD-526D-41AD-8E97-6DF05A45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06A-43ED-4787-80D3-6CF1FB70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932-9DB0-45F7-B9F3-8A6C08EE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77B-2C32-42DC-9AF3-E87D6159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F8D7-6812-46D0-A295-EC00D7FC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EBE-C758-4F04-A9C7-112FF00E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C75B-8C48-4D09-AF5E-3F34BBFE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amdcen School for Girls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F542-0098-488B-B1E0-0FDF07CA8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Future of Computing and 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mpute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295280" y="304920"/>
            <a:ext cx="586728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CF21-820D-417A-927D-3F2A543C1EC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 of interaction without phys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put the computer away from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wall of the ho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door of the c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heel of a shoe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ave it into your shir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will you interact with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k Victoria Bellotti at Apple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ech, gesture, context - no keyboard, no mouse, no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55AB-043D-42D3-A438-5B66FF335A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 havnt mention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would like to empower every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 and control the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how the go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use/configure/re-purpos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ans we need an accesible programm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like VCR, DVD, Skybox, Window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thing new? Yes, but what ? Any ide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F13-3DAC-4C2D-BCB9-44BAE373ACF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(or 2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+5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(or 1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 again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al thinking, logic or compu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1F3-AAAC-4200-96A9-2706FB5F773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i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1979, Computer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BA in Natural Sciences in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 years as progr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MSc at U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0 years sentence t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back to Cambridge…since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63A-2A51-4394-A27C-7BC79A7CE2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ing: the Science of 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t on a formal, but also practical foo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s is the business of build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just gadgets, but the world (ecosystem) that supports ga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The Internet, The Web, Google, iTunes, Amazon, as w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Cs, Browsers, Searching/Maps, MP3, secure online payment etc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A50-05EA-4162-BC41-25CAF84A45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people think CS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people want to cross a narrow rope bridge at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1 torch, and only 2 people can fit on the bridge safel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owest takes 10 mins, the next slowest 5, the next slowest 2, and the fastest 1 min. You need to take the torch back for the next 2 to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et everyone across in 17 mins. 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FAB-FBBD-45DF-B119-DD14632104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lot of Computing is Invi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ol Goble (A Prof at Manchester) s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ever we do something right in computing, it becomes invisible to the publ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wireless 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music down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cell phones or ipods, or … …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26F-D02D-4EE2-9760-C77868AE5F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ensible to en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s that computer, storage and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in capacity every year or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ost 1/2 as much each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10 years, will have hand held movie device with 15000 film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carry it? Why not have 100 of them if they cost 1 eu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lse will we dream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8EB-485C-4997-B4B4-6F991C81F1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are going to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 the hig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ots and pointy st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health/wellbe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v. Psychology of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computing in the fab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alk about just these 3 example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E23-CAA7-4D88-98BD-465A9316BF8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 High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000 people a year die in the UK on 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accidents don’t have to happen if car does collision avoidance-  simpler is to control gap between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ivers don’t like i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rn even worse habits (viz ABS, Airbag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urance companies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not put a pointy stick in the middle of the steering whe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ad people don’t learn much 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391-74CC-4D0A-90C1-8F0CC67CFC5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ust in online medical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uld you let a machine make decisions about your medical treatm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 the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another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out a “human in the loo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trust the doctor, and the doctor trusts the program, should I trust the progr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ndy Hall (prof at Southampton) sai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 meets psychology (math loses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D8F-163A-4FD7-BD63-4040DBD49B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Jon Crowcroft</cp:lastModifiedBy>
  <dcterms:modified xsi:type="dcterms:W3CDTF">2006-03-19T19:43:30Z</dcterms:modified>
  <cp:revision>29</cp:revision>
  <dc:subject/>
  <dc:title>Scaleable Ubiquitous Systems</dc:title>
</cp:coreProperties>
</file>