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2.xml.rels" ContentType="application/vnd.openxmlformats-package.relationships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1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33F7F-32E4-4BB1-8304-00712697BFCA}" type="slidenum"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200" spc="-1" strike="noStrike">
                <a:solidFill>
                  <a:srgbClr val="000000"/>
                </a:solidFill>
                <a:latin typeface="Times New Roman"/>
              </a:rPr>
              <a:t>Cars already have 500 computers in (40% of car cost)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5BAA55-B74D-4D3E-92CD-77D1BE029CE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2EC594-F432-424E-85DC-37F019E436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278C9CB-66A6-44E6-9A52-DE0949DF844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A06F5-91B7-4A10-B560-9EFFD2F264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1B1127-6943-4B9F-8BA3-6F2627744E4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EC3262-3D7A-470F-BACD-4FE2DFBA07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C50FA5-988E-47B0-960E-B43F9BBCAE5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F9416C4-179C-41D0-9199-4A8EEC86C14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5E47272-A38E-49D6-94F0-D823F79D195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F07F20-D0FB-4FE0-9DB5-17FD341EADF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857F44-C167-436D-909D-2628D45CF8A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556BF8-87F9-4E63-86F6-8EFC1FF4DF3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GB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r>
              <a:rPr b="0" lang="en-GB" sz="1400" spc="-1" strike="noStrike">
                <a:solidFill>
                  <a:srgbClr val="000000"/>
                </a:solidFill>
                <a:latin typeface="Times New Roman"/>
              </a:rPr>
              <a:t>Camdcen School for Girls Talk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2E198B-F82D-4BA0-9B08-C29C332F270A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en-US" sz="4400" spc="-1" strike="noStrike">
                <a:solidFill>
                  <a:srgbClr val="000000"/>
                </a:solidFill>
                <a:latin typeface="Times New Roman"/>
              </a:rPr>
              <a:t>The Future of Computing and Communication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Jon Crowcrof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The Computer Laborator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University of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http://www.cl.cam.ac.uk/~jac2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pic>
        <p:nvPicPr>
          <p:cNvPr id="50" name="" descr=""/>
          <p:cNvPicPr/>
          <p:nvPr/>
        </p:nvPicPr>
        <p:blipFill>
          <a:blip r:embed="rId1"/>
          <a:stretch/>
        </p:blipFill>
        <p:spPr>
          <a:xfrm>
            <a:off x="-1295280" y="304920"/>
            <a:ext cx="5867280" cy="895320"/>
          </a:xfrm>
          <a:prstGeom prst="rect">
            <a:avLst/>
          </a:prstGeom>
          <a:ln w="0">
            <a:noFill/>
          </a:ln>
        </p:spPr>
      </p:pic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AA1270-2F14-4900-AEC5-DBBEB6F0313E}" type="slidenum">
              <a:t>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Modes of interaction without physical devices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put the computer away from sigh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wall of the house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door of the car,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 the heel of a shoe, or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eave it into your shirt, 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how will you interact with it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Ask Victoria Bellotti at Apple:-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peech, gesture, context - no keyboard, no mouse, no scree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B575AC-F8EF-411F-B123-E6BF0EE75897}" type="slidenum">
              <a:t>10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ny questions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 havnt mentioned programming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 would like to empower everyone t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wn and control these system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Understand how the go wro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Be able to use/configure/re-purpose th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This means we need an accesible programming syste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Not like VCR, DVD, Skybox, Windows,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omething new? Yes, but what ? Any ideas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437D08E-CB91-4732-8024-F973525C7A9A}" type="slidenum">
              <a:t>11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he answer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 (or 2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0+5 go acros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2 (or 1) go back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1+2 go across again:)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ateral thinking, logic or computing?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C6447C3-FE17-4B86-B842-07F27B254F2D}" type="slidenum">
              <a:t>1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id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nce 1979, Computer Science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Did BA in Natural Sciences in Cambridg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 years as programmer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MSc at UC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20 years sentence there!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en back to Cambridge…since 2000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E4DF92-6314-4828-8439-E30004AB4293}" type="slidenum">
              <a:t>2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Computing: the Science of Problem Solv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ut on a formal, but also practical footing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Systems is the business of building thing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-329040">
              <a:lnSpc>
                <a:spcPct val="90000"/>
              </a:lnSpc>
              <a:spcBef>
                <a:spcPts val="174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Not just gadgets, but the world (ecosystem) that supports gadget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E.g. The Internet, The Web, Google, iTunes, Amazon, as well a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13160" indent="-274320">
              <a:lnSpc>
                <a:spcPct val="90000"/>
              </a:lnSpc>
              <a:spcBef>
                <a:spcPts val="15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PCs, Browsers, Searching/Maps, MP3, secure online payment etc etc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29040" indent="0">
              <a:lnSpc>
                <a:spcPct val="90000"/>
              </a:lnSpc>
              <a:spcBef>
                <a:spcPts val="15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05CC1E-935B-4AE4-A231-E75254FA40C5}" type="slidenum">
              <a:t>3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Some people think CS is: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4 people want to cross a narrow rope bridge at night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y have 1 torch, and only 2 people can fit on the bridge safely at once.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The slowest takes 10 mins, the next slowest 5, the next slowest 2, and the fastest 1 min. You need to take the torch back for the next 2 to cro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You can get everyone across in 17 mins. How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D3A8B2-5BC2-443A-95C8-E9B2BA3CC6B2}" type="slidenum">
              <a:t>4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A lot of Computing is Invisib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Carol Goble (A Prof at Manchester) said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“</a:t>
            </a:r>
            <a:r>
              <a:rPr b="0" lang="en-GB" sz="3200" spc="-1" strike="noStrike">
                <a:solidFill>
                  <a:srgbClr val="000000"/>
                </a:solidFill>
                <a:latin typeface="Times New Roman"/>
              </a:rPr>
              <a:t>whenever we do something right in computing, it becomes invisible to the public: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Think about wireless internet acces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music downloading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Or cell phones or ipods, or … … …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BE9C3-E8C7-4237-AAE8-E21ECB9FEF91}" type="slidenum">
              <a:t>5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is sensible to envision?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rend is that computer, storage and ne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Double in capacity every year or so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Or cost 1/2 as much each year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ithin 10 years, will have hand held movie device with 15000 films o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y carry it? Why not have 100 of them if they cost 1 euro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00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What else will we dream up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A76AEA2-3D4D-48A7-9F01-87DDF01AFC9C}" type="slidenum">
              <a:t>6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What we are going to do…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609480" y="236232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Automate the highway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Carrots and pointy stick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Online health/wellbeing managemen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Math v. Psychology of trust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-609480">
              <a:spcBef>
                <a:spcPts val="799"/>
              </a:spcBef>
              <a:buClr>
                <a:srgbClr val="000000"/>
              </a:buClr>
              <a:buFont typeface="Times New Roman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Embed computing in the fabric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990720" indent="-533520">
              <a:spcBef>
                <a:spcPts val="700"/>
              </a:spcBef>
              <a:buClr>
                <a:srgbClr val="000000"/>
              </a:buClr>
              <a:buFont typeface="Times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Times New Roman"/>
              </a:rPr>
              <a:t>Interaction design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6094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Lets talk about just these 3 examples… 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E668FC-6683-4228-A5A7-1926B3183B57}" type="slidenum">
              <a:t>7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Automate Highway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3000 people a year die in the UK on roads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ost accidents don’t have to happen if car does collision avoidance-  simpler is to control gap between ca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rivers don’t like it! 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Learn even worse habits (viz ABS, Airbags etc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Insurance companies do!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hy not put a pointy stick in the middle of the steering wheel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Dead people don’t learn much 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3FB350-569D-4D73-950F-C1FC17DF3FB3}" type="slidenum">
              <a:t>8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4400" spc="-1" strike="noStrike">
                <a:solidFill>
                  <a:srgbClr val="000000"/>
                </a:solidFill>
                <a:latin typeface="Times New Roman"/>
              </a:rPr>
              <a:t>Trust in online medical intervention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ould you let a machine make decisions about your medical treatment? 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Over the network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From another country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Without a “human in the loop”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If I trust the doctor, and the doctor trusts the program, should I trust the program?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Times New Roman"/>
              </a:rPr>
              <a:t>Wendy Hall (prof at Southampton) said:</a:t>
            </a:r>
            <a:endParaRPr b="0" lang="en-US" sz="28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400" spc="-1" strike="noStrike">
                <a:solidFill>
                  <a:srgbClr val="000000"/>
                </a:solidFill>
                <a:latin typeface="Times New Roman"/>
              </a:rPr>
              <a:t>Math meets psychology (math loses:-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59430BA-12BB-4E59-972B-7D5A9D2D6CF2}" type="slidenum">
              <a:t>9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>20/3/2006</a:t>
            </a: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2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11-25T16:41:37Z</dcterms:created>
  <dc:creator>jon</dc:creator>
  <dc:description/>
  <dc:language>en-US</dc:language>
  <cp:lastModifiedBy>Jon Crowcroft</cp:lastModifiedBy>
  <dcterms:modified xsi:type="dcterms:W3CDTF">2006-03-19T19:43:30Z</dcterms:modified>
  <cp:revision>29</cp:revision>
  <dc:subject/>
  <dc:title>Scaleable Ubiquitous Systems</dc:title>
</cp:coreProperties>
</file>