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E834-97C2-4A7B-91B6-F6FD37E12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CD64-617A-4B55-B446-CCE78A732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880-CD29-472D-A660-D19BED27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EAF-9866-45E1-AC6C-1D84F8D8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C450-8676-4515-8965-117BACB7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5AC-0AB9-4039-AEBD-41050C76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D79-1AE2-494D-8145-27E772A8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3D4-515E-4B2D-B0F9-4685CC39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5641-6953-433E-8F2B-D4A1E735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1B65-9457-44BF-A376-0C17D42E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F973-5830-4FA8-A386-B90FEAB6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5C70-F5EE-4BAA-B45D-5C9B1CBE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BD4-FA08-4491-9B6E-52E407D3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3D1-8424-429F-800D-909D01A3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5B65-385C-4214-B070-EB44CFEDDE70}" type="datetime">
              <a:rPr b="1" lang="en-US" sz="8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2960-061B-4C23-BE71-42B856D449A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3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Or The Internet Conspiracy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36640" y="4212720"/>
            <a:ext cx="58006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James Scott (xxx Research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n Hui (University of Cambridge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hristophe Diot (Thoms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othy Roscoe (ETH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8D7-0595-4D81-A88F-2094C1125C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601D7-2A45-4EFD-AE5D-A7F22DF247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he alternativ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re is no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ust a bunch of computers with lin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moves “semantic bottleneck” from application writer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mbrace “radically heterogeneous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wo end-systems should be able to communicate even if they hav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noth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n common: protocols, address realms, semantic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6B9C-1873-4998-A34B-D0A5E8B69A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20A70-FCBC-4B62-A3B3-FB49C93418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Surely something must be common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Of course: but it is only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the application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at what is common is that which is application-specifi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ven DTN has single overlay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bundle routing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31BF-E874-4D3E-8D1C-4A2A794F3E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1A987-517D-455F-966A-83361074C9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753A-DE67-4A9E-A5FC-BBC24764FF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6F298-DC92-4E72-BC98-5053F25E65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6810-91A1-4988-824B-B5D3612696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3A638-94CB-415C-9100-F3B7ED0308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F73-9AC9-4189-BA00-4D42CE1F386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708BC-D5CB-493B-A7EF-C45B01C6E7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0F1-285C-492E-B964-7500052B0BF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6A30C-921B-4D6B-B4AB-329D5A05F7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51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8122400">
              <a:off x="5420160" y="258588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AE3-6B87-47D9-A76B-9598F1477A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B8836-C623-40E9-B400-16FE2E734A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73F-10C2-4909-BBE9-0221302A2F1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F67F9-1466-44D5-970F-9C17C66E1D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5D7E-A037-4EBE-A6E5-D9AB58C98AE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B6D04-D7E1-456D-A9DE-E64E50F257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(ex cambridge, sprint, intel, berkeley, oz, now ETH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 (Wenjun Hu, Jon, Mothy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 to FIND/GENI? - n.b. my abstract’s comments(*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rchitectures emerge (ANSA/Herbert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DF7-8E07-4D44-9E7B-1EC007293B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8FF8F-6BD5-49C6-B0B7-7484D22FF1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040-E5F0-43B7-93B1-3BE36FFA3F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BCD3B-7952-4BD3-82BA-D2942A289B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BBD-5B46-4CB9-A221-78887066649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66143-3640-4D56-BB07-4D366937C6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93E-AC1B-454C-9A6B-ABC0D071746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743A1-1BD0-40A3-8A00-A03CE5C386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Back to FIND/GENI &amp; Architecture/Testbeds &amp; EU v. U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s per my contentious (*) abstract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ND and GENI are to fill a funding gap US h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U doesn’t have g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chitecture research is philosophy, not science or enginee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e devil is in the details, s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 1000 architectures bl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ld will pick a winn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ego will declare it the new architecture and beco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ther-in-law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the Next Generation Inter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should fund good communications systems research as usual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CF5-C724-4671-B0E0-8378588A4BA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E4B07-168B-4BC4-B0F5-3A366DFD28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obrigado …ciao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cknowledgements: James Scott, Mothy Roscoe, Mark Handley, Richard Mortier, Steve Hand, Keshav, Nick Feamster, Kevin Fall, for arguments about architecture, post modern or otherwise :-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5F7-F240-45C5-BFAC-43C71276C7A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88967-765B-4257-A58C-C856C8B30D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y have an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hat does an Internet Architecture hope to achieve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operability across networ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asier for applications to code t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ramework for providers to compe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oes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Internet architecture really address these issue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5F8-951B-49D4-9C14-F137988B65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AA52A-F7BC-4818-8B18-1CF85439BC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124-E604-4937-823F-27A53A725A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A4458-CDCE-43CD-945C-6457B75085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operability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o – not really</a:t>
            </a:r>
            <a:r>
              <a:rPr b="0" lang="en-US" sz="2000" spc="-1" strike="noStrike">
                <a:solidFill>
                  <a:srgbClr val="0860a8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form API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Bad thing: hides useful features of the underlying network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.f. cross layer optimisations and other oxymor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rovider framework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as any tier-1 ISP ever made significant profit from offering IP servic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et Neutrality Debate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56A-975D-4019-B274-6714039D70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BC906-013C-46FA-B8C8-D91BFCA8DC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us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enable rapid innov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im: lack of attention to value flow &amp; economics was a Good Thing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igh commercial value blunts innovation (c.f. other industrie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ruption is bad for busines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dea: goal of networking research should be to enable surprising thing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11C1-15B8-4779-AD27-58AEE0C7F4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BF38C-F93C-4477-A25F-3BAFDD54A8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3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831-5804-4EF8-B807-C464926F41A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6760B-56DD-4657-8EE1-7CD2891FE0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1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A583-FE2D-4021-BB26-B84EDDFA2B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F3331-A5FD-4C30-A0DC-9779CD772D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A8B-38CB-4690-BEDE-ECC291AD8BE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9C54A-03F2-4F90-908D-60D86F873D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6-12-05T14:35:44Z</dcterms:modified>
  <cp:revision>249</cp:revision>
  <dc:subject/>
  <dc:title>Haggle Work </dc:title>
</cp:coreProperties>
</file>