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B959-9229-470E-8473-773165CD1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22C0-D94C-4581-A364-08F46A5F9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CEE-5DD6-42FD-8845-59D44433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E8E-A010-4C5C-A363-B98D9D28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264-7E66-4081-8BF5-5ACD3ACB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4EA-E9CF-4E6C-B2CC-20132F5F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D0C-F156-44B9-918F-DB788E5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C12-6EFE-4E7C-AB2F-840BE7AC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5F5-AA70-4725-999A-5FD0CA44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F22-B428-47C2-B270-161B4BF7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0A8-5CCB-4144-9A16-83372A8D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2D3-7057-45B0-AD80-557EA49D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003-36B3-4DB1-B691-8577ED29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7DF-4E05-4308-AFED-B07FCAA3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6291-9AE1-4ED5-866E-15A229D88AAB}" type="datetime">
              <a:rPr b="1" lang="en-US" sz="8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5E5E-EF02-42F1-A86D-97A90465EA5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36640" y="4212720"/>
            <a:ext cx="58006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EAF-681D-44F6-ADC2-FB7DF80BE4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8BD59-605F-43D1-84FF-A9854BD299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D64-4DB0-4E6D-AFC9-0C4A13D4B7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E5633-66FC-4312-8B18-87793D1966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7DF-A1B1-450E-BE9A-DA7A6B752B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8F849-AF53-401F-ABA3-C2AEAF54A4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00E-6C32-45DC-A94F-363478B0F0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472D9-9F35-4ADD-A39E-5DCD7871ED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BF2-C123-4F05-8D2D-DF0885372F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0F920-6741-47E4-8280-BB40753D71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990-49EB-4A81-82F3-92B2779F86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C4DC7-FD4F-44BD-BEE7-0DAA4B2DA9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E3B-9CA4-4AC2-A91E-B9FA7382C2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C6653-430B-4FD0-81DC-29E89947ED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73E-7C75-42D1-AA1F-C4D590BF16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A6488-A7AA-4940-B033-7130917485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AC8-BA43-4575-A77E-0BD90D393C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2D878-EC66-4886-9BDD-F109118FA3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D96-48CB-43AA-9E4D-BB44685CE5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95D74-6BD7-4756-ACF2-F1F536AE17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B75-D5DA-49BD-BF03-19EC98A734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44DDD-F769-47C3-BB69-E1C4EA686C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7AA-8633-4CDA-86C3-3FCC8AF5B5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AE50C-8E37-4FBA-B431-4045C90AB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81C-B2C4-4487-BA19-1522F3DEF9D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AE58B-DA54-478D-BFBB-4E3F7284BB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FB5-98E6-4A3F-A531-7174A6C127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730FE-AAEB-4D5D-BFB2-03A905E2CC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8EE-5693-40E5-A4D6-1925FF440F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C52A3-EA92-4CE2-A3F6-4CBE1BA11C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1B0-0E98-4E4B-A571-5F716EA469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5C01F-C017-4A70-82C1-52A1B0CC67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FBC-E84D-4E0B-8B1F-6C3FB3CB1D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472BE-03E0-4778-AA56-F4BCFEF028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85E-D7AE-4C2D-9F25-1802B64BAB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F733C-B4AA-4563-82F1-FEFAE812CB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DEA-EDC1-42C6-867D-73F9B68064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6F756-F833-4A2A-8184-9D5E0C3320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C2E-C8B7-4B15-B0EE-9EFABCA4B5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68E30-3E1E-41E7-8D9D-451CFDDF57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50A-CADE-4039-8778-A6590748F6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842A4-FE75-4B61-88B9-D72BDA278A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2F5-0EF9-4A1E-875D-A20AFB17F8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387D3-C796-48C4-8F07-59F820270F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385-CE66-476C-A170-BC80B5C10E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3F17D-5086-4D19-AA42-6605676EEC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5T14:35:44Z</dcterms:modified>
  <cp:revision>249</cp:revision>
  <dc:subject/>
  <dc:title>Haggle Work </dc:title>
</cp:coreProperties>
</file>