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3BAFF-1B88-47F2-BC78-F26A75D7E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17761-63EB-4E42-9614-54C34E546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DF4AF-D9B1-4A42-B466-B9D882AFE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4072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604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4072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604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19B3D-A47E-4118-992C-4248B53E4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5760" y="272880"/>
            <a:ext cx="823752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F406E-3DB9-4329-96AA-F6460F731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4072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604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576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4072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604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BD5E4-1AFD-4C4D-9E8B-72ECD2C2C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6F2D9-2E64-4BE9-839F-3F8C7B760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BB602-D8E3-49A5-AC85-B522BAA63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760" y="272880"/>
            <a:ext cx="823752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0C983-49A4-4D9F-8E75-D39790878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2F629-47E3-4AAA-AB62-4F0235BD5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B806E-569C-458A-A995-9E8345165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EC69A-D205-468A-A294-20EE33CEC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1800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2" marL="1341360" indent="-258840">
              <a:spcBef>
                <a:spcPts val="18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3" marL="1884240" indent="-268200">
              <a:spcBef>
                <a:spcPts val="18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4" marL="2422440" indent="-272880">
              <a:spcBef>
                <a:spcPts val="18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5" marL="2422440" indent="-272880">
              <a:spcBef>
                <a:spcPts val="18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6" marL="2422440" indent="-272880">
              <a:spcBef>
                <a:spcPts val="18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202D7-4811-4946-8EE9-C67C5E615139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11280" y="2857680"/>
            <a:ext cx="8075520" cy="125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41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2" marL="247680" indent="83484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indent="10429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indent="142236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 indent="142236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 indent="142236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50560" y="1434960"/>
            <a:ext cx="8435880" cy="25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860a8"/>
                </a:solidFill>
                <a:latin typeface="Verdana"/>
              </a:rPr>
              <a:t>CoNeXt/COST ARCADIA</a:t>
            </a:r>
            <a:br>
              <a:rPr sz="4100"/>
            </a:br>
            <a:r>
              <a:rPr b="0" lang="en-US" sz="4100" spc="-1" strike="noStrike">
                <a:solidFill>
                  <a:srgbClr val="0860a8"/>
                </a:solidFill>
                <a:latin typeface="Verdana"/>
              </a:rPr>
              <a:t>Future Internet Workshop</a:t>
            </a:r>
            <a:br>
              <a:rPr sz="4100"/>
            </a:br>
            <a:r>
              <a:rPr b="0" lang="en-US" sz="4100" spc="-1" strike="noStrike">
                <a:solidFill>
                  <a:srgbClr val="0860a8"/>
                </a:solidFill>
                <a:latin typeface="Verdana"/>
              </a:rPr>
              <a:t>Panel Session</a:t>
            </a:r>
            <a:br>
              <a:rPr sz="4100"/>
            </a:br>
            <a:endParaRPr b="1" lang="en-US" sz="41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914400" y="3809520"/>
            <a:ext cx="6208560" cy="278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860a8"/>
                </a:solidFill>
                <a:latin typeface="Verdana"/>
              </a:rPr>
              <a:t>Jon Crowcroft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860a8"/>
                </a:solidFill>
                <a:latin typeface="Verdana"/>
              </a:rPr>
              <a:t>Christophe Diot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860a8"/>
                </a:solidFill>
                <a:latin typeface="Verdana"/>
              </a:rPr>
              <a:t>Serge Fdid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860a8"/>
                </a:solidFill>
                <a:latin typeface="Verdana"/>
              </a:rPr>
              <a:t>Kenjiro Cho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860a8"/>
                </a:solidFill>
                <a:latin typeface="Verdana"/>
              </a:rPr>
              <a:t>The Floo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2" name=""/>
          <p:cNvSpPr/>
          <p:nvPr/>
        </p:nvSpPr>
        <p:spPr>
          <a:xfrm>
            <a:off x="4754520" y="6620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60a8"/>
                </a:solidFill>
                <a:latin typeface="Verdana"/>
              </a:rPr>
              <a:t>Quote of the day…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  “</a:t>
            </a: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nyone who isn't dead or from another plane of existence would do well to cover their ears right about now.”, Smith, et al…1999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60a8"/>
                </a:solidFill>
                <a:latin typeface="Verdana"/>
              </a:rPr>
              <a:t>One (purist?) view of network architecture</a:t>
            </a:r>
            <a:endParaRPr b="1" lang="en-US" sz="2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6438960" y="3565440"/>
            <a:ext cx="2043000" cy="175896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1752480" y="3962520"/>
            <a:ext cx="1795680" cy="1833480"/>
          </a:xfrm>
          <a:prstGeom prst="rect">
            <a:avLst/>
          </a:prstGeom>
          <a:ln w="0">
            <a:noFill/>
          </a:ln>
        </p:spPr>
      </p:pic>
      <p:sp>
        <p:nvSpPr>
          <p:cNvPr id="88" name="Cloud"/>
          <p:cNvSpPr/>
          <p:nvPr/>
        </p:nvSpPr>
        <p:spPr>
          <a:xfrm>
            <a:off x="3505320" y="1676520"/>
            <a:ext cx="3200400" cy="214452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860a8"/>
                </a:solidFill>
                <a:latin typeface="Arial"/>
              </a:rPr>
              <a:t>Network Architecture”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1905120" y="2286000"/>
            <a:ext cx="1295280" cy="1295280"/>
          </a:xfrm>
          <a:custGeom>
            <a:avLst/>
            <a:gdLst>
              <a:gd name="textAreaLeft" fmla="*/ 371880 w 1295280"/>
              <a:gd name="textAreaRight" fmla="*/ 1109520 w 1295280"/>
              <a:gd name="textAreaTop" fmla="*/ 745920 h 1295280"/>
              <a:gd name="textAreaBottom" fmla="*/ 110952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 rot="5400000">
            <a:off x="7009200" y="2208960"/>
            <a:ext cx="1295640" cy="1295640"/>
          </a:xfrm>
          <a:custGeom>
            <a:avLst/>
            <a:gdLst>
              <a:gd name="textAreaLeft" fmla="*/ 371520 w 1295640"/>
              <a:gd name="textAreaRight" fmla="*/ 1109520 w 1295640"/>
              <a:gd name="textAreaTop" fmla="*/ 745920 h 1295640"/>
              <a:gd name="textAreaBottom" fmla="*/ 110952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85800" y="2209680"/>
            <a:ext cx="1828800" cy="1447920"/>
          </a:xfrm>
          <a:prstGeom prst="wedgeRectCallout">
            <a:avLst>
              <a:gd name="adj1" fmla="val 71092"/>
              <a:gd name="adj2" fmla="val 90240"/>
            </a:avLst>
          </a:prstGeom>
          <a:solidFill>
            <a:srgbClr val="ffff00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Comic Sans MS"/>
              </a:rPr>
              <a:t>Email</a:t>
            </a:r>
            <a:endParaRPr b="0" lang="en-US" sz="2000" spc="-1" strike="noStrike">
              <a:solidFill>
                <a:srgbClr val="0860a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Comic Sans MS"/>
              </a:rPr>
              <a:t>IM</a:t>
            </a:r>
            <a:endParaRPr b="0" lang="en-US" sz="2000" spc="-1" strike="noStrike">
              <a:solidFill>
                <a:srgbClr val="0860a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Comic Sans MS"/>
              </a:rPr>
              <a:t>Unreal Tournament</a:t>
            </a:r>
            <a:endParaRPr b="0" lang="en-US" sz="20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315200" y="2209680"/>
            <a:ext cx="1828800" cy="1447920"/>
          </a:xfrm>
          <a:prstGeom prst="wedgeRectCallout">
            <a:avLst>
              <a:gd name="adj1" fmla="val -56856"/>
              <a:gd name="adj2" fmla="val 72699"/>
            </a:avLst>
          </a:prstGeom>
          <a:solidFill>
            <a:srgbClr val="ffff00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Comic Sans MS"/>
              </a:rPr>
              <a:t>Email</a:t>
            </a:r>
            <a:endParaRPr b="0" lang="en-US" sz="2000" spc="-1" strike="noStrike">
              <a:solidFill>
                <a:srgbClr val="0860a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Comic Sans MS"/>
              </a:rPr>
              <a:t>IM</a:t>
            </a:r>
            <a:endParaRPr b="0" lang="en-US" sz="2000" spc="-1" strike="noStrike">
              <a:solidFill>
                <a:srgbClr val="0860a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Comic Sans MS"/>
              </a:rPr>
              <a:t>Unreal Tournament</a:t>
            </a:r>
            <a:endParaRPr b="0" lang="en-US" sz="2000" spc="-1" strike="noStrike">
              <a:solidFill>
                <a:srgbClr val="0860a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60a8"/>
                </a:solidFill>
                <a:latin typeface="Verdana"/>
              </a:rPr>
              <a:t>One (pluralist) view of network architecture</a:t>
            </a:r>
            <a:endParaRPr b="1" lang="en-US" sz="2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6438960" y="3565440"/>
            <a:ext cx="2043000" cy="17589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1752480" y="3962520"/>
            <a:ext cx="1795680" cy="1833480"/>
          </a:xfrm>
          <a:prstGeom prst="rect">
            <a:avLst/>
          </a:prstGeom>
          <a:ln w="0">
            <a:noFill/>
          </a:ln>
        </p:spPr>
      </p:pic>
      <p:sp>
        <p:nvSpPr>
          <p:cNvPr id="96" name="Cloud"/>
          <p:cNvSpPr/>
          <p:nvPr/>
        </p:nvSpPr>
        <p:spPr>
          <a:xfrm>
            <a:off x="3505320" y="1676520"/>
            <a:ext cx="3200400" cy="214452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860a8"/>
                </a:solidFill>
                <a:latin typeface="Arial"/>
              </a:rPr>
              <a:t>Network Architecture”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1905120" y="2286000"/>
            <a:ext cx="1295280" cy="1295280"/>
          </a:xfrm>
          <a:custGeom>
            <a:avLst/>
            <a:gdLst>
              <a:gd name="textAreaLeft" fmla="*/ 371880 w 1295280"/>
              <a:gd name="textAreaRight" fmla="*/ 1109520 w 1295280"/>
              <a:gd name="textAreaTop" fmla="*/ 745920 h 1295280"/>
              <a:gd name="textAreaBottom" fmla="*/ 110952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H="1" flipV="1" rot="5400000">
            <a:off x="7009200" y="2208960"/>
            <a:ext cx="1295640" cy="1295640"/>
          </a:xfrm>
          <a:custGeom>
            <a:avLst/>
            <a:gdLst>
              <a:gd name="textAreaLeft" fmla="*/ 371520 w 1295640"/>
              <a:gd name="textAreaRight" fmla="*/ 1109520 w 1295640"/>
              <a:gd name="textAreaTop" fmla="*/ 745920 h 1295640"/>
              <a:gd name="textAreaBottom" fmla="*/ 110952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85800" y="2590920"/>
            <a:ext cx="1828800" cy="1066680"/>
          </a:xfrm>
          <a:prstGeom prst="wedgeRectCallout">
            <a:avLst>
              <a:gd name="adj1" fmla="val 71092"/>
              <a:gd name="adj2" fmla="val 104611"/>
            </a:avLst>
          </a:prstGeom>
          <a:solidFill>
            <a:srgbClr val="ffff00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Comic Sans MS"/>
              </a:rPr>
              <a:t>Voice over GSM mobile phone</a:t>
            </a:r>
            <a:endParaRPr b="0" lang="en-US" sz="20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315200" y="2666880"/>
            <a:ext cx="1828800" cy="990720"/>
          </a:xfrm>
          <a:prstGeom prst="wedgeRectCallout">
            <a:avLst>
              <a:gd name="adj1" fmla="val -56856"/>
              <a:gd name="adj2" fmla="val 83171"/>
            </a:avLst>
          </a:prstGeom>
          <a:solidFill>
            <a:srgbClr val="ffff00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Comic Sans MS"/>
              </a:rPr>
              <a:t>Skype P2P voice over IP</a:t>
            </a:r>
            <a:endParaRPr b="0" lang="en-US" sz="2000" spc="-1" strike="noStrike">
              <a:solidFill>
                <a:srgbClr val="0860a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60a8"/>
                </a:solidFill>
                <a:latin typeface="Verdana"/>
              </a:rPr>
              <a:t>Different (seperatist/corrosive/layered) view of network architecture</a:t>
            </a:r>
            <a:endParaRPr b="1" lang="en-US" sz="2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Cloud"/>
          <p:cNvSpPr/>
          <p:nvPr/>
        </p:nvSpPr>
        <p:spPr>
          <a:xfrm>
            <a:off x="3352680" y="2895480"/>
            <a:ext cx="3429000" cy="138276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860a8"/>
                </a:solidFill>
                <a:latin typeface="Comic Sans MS"/>
              </a:rPr>
              <a:t>Network Architecture”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048120" y="4495680"/>
            <a:ext cx="3962160" cy="0"/>
          </a:xfrm>
          <a:prstGeom prst="line">
            <a:avLst/>
          </a:prstGeom>
          <a:ln cap="rnd" w="381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971800" y="2743200"/>
            <a:ext cx="3962520" cy="0"/>
          </a:xfrm>
          <a:prstGeom prst="line">
            <a:avLst/>
          </a:prstGeom>
          <a:ln cap="rnd" w="381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28600" y="4684680"/>
            <a:ext cx="423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60a8"/>
                </a:solidFill>
                <a:latin typeface="Comic Sans MS"/>
              </a:rPr>
              <a:t>“</a:t>
            </a:r>
            <a:r>
              <a:rPr b="0" lang="en-US" sz="2800" spc="-1" strike="noStrike">
                <a:solidFill>
                  <a:srgbClr val="0860a8"/>
                </a:solidFill>
                <a:latin typeface="Comic Sans MS"/>
              </a:rPr>
              <a:t>Networking people”</a:t>
            </a:r>
            <a:endParaRPr b="0" lang="en-US" sz="2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076200" y="2017800"/>
            <a:ext cx="359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60a8"/>
                </a:solidFill>
                <a:latin typeface="Comic Sans MS"/>
              </a:rPr>
              <a:t>“</a:t>
            </a:r>
            <a:r>
              <a:rPr b="0" lang="en-US" sz="2800" spc="-1" strike="noStrike">
                <a:solidFill>
                  <a:srgbClr val="0860a8"/>
                </a:solidFill>
                <a:latin typeface="Comic Sans MS"/>
              </a:rPr>
              <a:t>Systems people”</a:t>
            </a:r>
            <a:endParaRPr b="0" lang="en-US" sz="2800" spc="-1" strike="noStrike">
              <a:solidFill>
                <a:srgbClr val="0860a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60a8"/>
                </a:solidFill>
                <a:latin typeface="Verdana"/>
              </a:rPr>
              <a:t>Questions?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hank you… … …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60a8"/>
                </a:solidFill>
                <a:latin typeface="Verdana"/>
              </a:rPr>
              <a:t>No, but seriously…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1 we’ve seen a lot of actual technical work going 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Especially the student posters !!!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So europe is a live and well and happen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So I am asking people to decide 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trategy&amp; Priorities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2" marL="1341360" indent="-25884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r activiti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lus coordinating with new places  - viz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2" marL="1341360" indent="-25884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hina, Japan, Korea e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60a8"/>
                </a:solidFill>
                <a:latin typeface="Verdana"/>
              </a:rPr>
              <a:t>Example Topics for prioritisation from this workshop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marL="260640" indent="-260640">
              <a:lnSpc>
                <a:spcPct val="9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Virtualisation (or is it </a:t>
            </a:r>
            <a:r>
              <a:rPr b="0" i="1" lang="en-US" sz="2000" spc="-1" strike="noStrike">
                <a:solidFill>
                  <a:srgbClr val="0860a8"/>
                </a:solidFill>
                <a:latin typeface="Verdana"/>
              </a:rPr>
              <a:t>Virtualization</a:t>
            </a: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767520" indent="-26064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Xen, Xorp, XCP and XI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60640" indent="-260640">
              <a:lnSpc>
                <a:spcPct val="9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Federation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767520" indent="-26064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r is it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ubsidiarity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60640" indent="-260640">
              <a:lnSpc>
                <a:spcPct val="9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Monitoring/Measurement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767520" indent="-26064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Day in the Life of th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Last Bit Txed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n the Internet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60640" indent="-260640">
              <a:lnSpc>
                <a:spcPct val="9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Wireless&amp;Security&amp;Naming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767520" indent="-26064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erhaps wher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Europe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has distinguishing strength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767520" indent="-26064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erhaps IP over Voice Networks… …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60640" indent="-260640">
              <a:lnSpc>
                <a:spcPct val="9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More Workshops… … …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767520" indent="-26064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 just wanna go to Rehab, baby” (apols to Amy Winehouse :-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6064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6T16:26:58Z</dcterms:created>
  <dc:creator>James Scott</dc:creator>
  <dc:description/>
  <dc:language>en-US</dc:language>
  <cp:lastModifiedBy>jon crowcroft</cp:lastModifiedBy>
  <dcterms:modified xsi:type="dcterms:W3CDTF">2006-12-04T16:43:48Z</dcterms:modified>
  <cp:revision>241</cp:revision>
  <dc:subject/>
  <dc:title>Haggle Work </dc:title>
</cp:coreProperties>
</file>