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F6D4-E4FA-4113-8924-86A4908C9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8544-22B3-446F-BAFA-271FD82D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084C-D29F-4C20-A6A1-3EF9B07CD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F8B5-3ECE-49E8-90D8-A8E0D1A13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CAEB-69EF-4F5A-BCF8-F6733915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1F22-1754-45E3-9EC5-C80E2851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9741-BF2D-4B85-9B4E-3CD15F5A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EC0C-53ED-4447-ADF2-850E2754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7319-3CF6-4754-A438-231614A5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C19A-EA45-4164-AC06-726972FF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4D72-60F9-4993-80A1-65C24945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C60E-8136-4225-B825-D55FCEDE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8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3" marL="1884240" indent="-268200">
              <a:spcBef>
                <a:spcPts val="18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4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5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6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0E06-6560-486F-B52B-8BED36CB6FE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2857680"/>
            <a:ext cx="80755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247680" indent="83484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indent="10429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indent="142236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1434960"/>
            <a:ext cx="8435880" cy="25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CoNeXt/COST ARCADIA</a:t>
            </a:r>
            <a:br>
              <a:rPr sz="4100"/>
            </a:b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Future Internet Workshop</a:t>
            </a:r>
            <a:br>
              <a:rPr sz="4100"/>
            </a:b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Panel Session</a:t>
            </a:r>
            <a:br>
              <a:rPr sz="4100"/>
            </a:b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14400" y="3809520"/>
            <a:ext cx="6208560" cy="278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Jon Crowcroft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Christophe Dio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Serge Fdid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Kenjiro Cho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The Floo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4754520" y="662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Quote of the day…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 “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nyone who isn't dead or from another plane of existence would do well to cover their ears right about now.”, Smith, et al…1999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urist?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88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209680"/>
            <a:ext cx="1828800" cy="1447920"/>
          </a:xfrm>
          <a:prstGeom prst="wedgeRectCallout">
            <a:avLst>
              <a:gd name="adj1" fmla="val 71092"/>
              <a:gd name="adj2" fmla="val 90240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15200" y="2209680"/>
            <a:ext cx="1828800" cy="1447920"/>
          </a:xfrm>
          <a:prstGeom prst="wedgeRectCallout">
            <a:avLst>
              <a:gd name="adj1" fmla="val -56856"/>
              <a:gd name="adj2" fmla="val 72699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luralist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96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590920"/>
            <a:ext cx="1828800" cy="1066680"/>
          </a:xfrm>
          <a:prstGeom prst="wedgeRectCallout">
            <a:avLst>
              <a:gd name="adj1" fmla="val 71092"/>
              <a:gd name="adj2" fmla="val 10461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Voice over GSM mobile phone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666880"/>
            <a:ext cx="1828800" cy="990720"/>
          </a:xfrm>
          <a:prstGeom prst="wedgeRectCallout">
            <a:avLst>
              <a:gd name="adj1" fmla="val -56856"/>
              <a:gd name="adj2" fmla="val 8317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Skype P2P voice over IP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Different (seperatist/corrosive/layered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Cloud"/>
          <p:cNvSpPr/>
          <p:nvPr/>
        </p:nvSpPr>
        <p:spPr>
          <a:xfrm>
            <a:off x="3352680" y="2895480"/>
            <a:ext cx="3429000" cy="1382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4495680"/>
            <a:ext cx="396216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2743200"/>
            <a:ext cx="396252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28600" y="468468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Networking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76200" y="20178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Systems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Questions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ank you… … 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No, but seriously…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1 we’ve seen a lot of actual technical work going 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specially the student posters !!!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o europe is a live and well and happen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o I am asking people to decide 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trategy&amp; Prioritie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r activiti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lus coordinating with new places  - viz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hina, Japan, Korea e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Example Topics for prioritisation from this workshop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60640" indent="-2606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Virtualisation (or is it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Virtualization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Xen, Xorp, XCP and XI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edera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r is it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ubsidiarity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Monitoring/Measuremen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Day in the Life of 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Last Bit Txed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n the Internet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Wireless&amp;Security&amp;Naming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erhaps wher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Europ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has distinguishing strength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erhaps IP over Voice Networks… …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More Workshops… … …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just wanna go to Rehab, baby” (apols to Amy Winehouse :-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06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ames Scott</dc:creator>
  <dc:description/>
  <dc:language>en-US</dc:language>
  <cp:lastModifiedBy>jon crowcroft</cp:lastModifiedBy>
  <dcterms:modified xsi:type="dcterms:W3CDTF">2006-12-04T16:43:48Z</dcterms:modified>
  <cp:revision>241</cp:revision>
  <dc:subject/>
  <dc:title>Haggle Work </dc:title>
</cp:coreProperties>
</file>