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2465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080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840" y="3895200"/>
            <a:ext cx="8080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39430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7560" y="1904760"/>
            <a:ext cx="39430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3895200"/>
            <a:ext cx="39430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97560" y="3895200"/>
            <a:ext cx="39430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2601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88880" y="1904760"/>
            <a:ext cx="2601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21280" y="1904760"/>
            <a:ext cx="2601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840" y="3895200"/>
            <a:ext cx="2601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88880" y="3895200"/>
            <a:ext cx="2601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21280" y="3895200"/>
            <a:ext cx="2601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6840" y="1904760"/>
            <a:ext cx="80802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080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3943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97560" y="1904760"/>
            <a:ext cx="3943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560" y="302760"/>
            <a:ext cx="8637480" cy="25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39430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97560" y="1904760"/>
            <a:ext cx="3943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6840" y="3895200"/>
            <a:ext cx="39430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6840" y="1904760"/>
            <a:ext cx="80802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3943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7560" y="1904760"/>
            <a:ext cx="39430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97560" y="3895200"/>
            <a:ext cx="39430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39430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7560" y="1904760"/>
            <a:ext cx="39430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3895200"/>
            <a:ext cx="8080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080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6840" y="3895200"/>
            <a:ext cx="8080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39430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97560" y="1904760"/>
            <a:ext cx="39430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3895200"/>
            <a:ext cx="39430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97560" y="3895200"/>
            <a:ext cx="39430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2601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88880" y="1904760"/>
            <a:ext cx="2601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21280" y="1904760"/>
            <a:ext cx="2601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6840" y="3895200"/>
            <a:ext cx="2601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88880" y="3895200"/>
            <a:ext cx="2601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21280" y="3895200"/>
            <a:ext cx="2601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080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3943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97560" y="1904760"/>
            <a:ext cx="3943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560" y="302760"/>
            <a:ext cx="8637480" cy="25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39430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97560" y="1904760"/>
            <a:ext cx="3943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6840" y="3895200"/>
            <a:ext cx="39430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3943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97560" y="1904760"/>
            <a:ext cx="39430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97560" y="3895200"/>
            <a:ext cx="39430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39430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7560" y="1904760"/>
            <a:ext cx="39430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3895200"/>
            <a:ext cx="8080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904760"/>
            <a:ext cx="8080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Clr>
                <a:srgbClr val="ffffcc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Clr>
                <a:srgbClr val="ffffcc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657240" y="3048120"/>
            <a:ext cx="4876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5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00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00"/>
              </a:spcBef>
              <a:buClr>
                <a:srgbClr val="ffffcc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00"/>
              </a:spcBef>
              <a:buClr>
                <a:srgbClr val="ffffcc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2209680"/>
            <a:ext cx="72392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rebuchet MS"/>
              </a:rPr>
              <a:t>The Innovating Internet - Is it, just?</a:t>
            </a:r>
            <a:endParaRPr b="1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2195640" y="4149720"/>
            <a:ext cx="525600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Jon Crowcrof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The Computer Laborator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University of Cambridg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ttp://www.cl.cam.ac.uk/~jac22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So what do I know about the Internet?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080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’ve been working on Internet Protocols and Tech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ince 1981 (cutover from NCP to TCP/IP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n IP routers, TCP stack, Multicast, Satellit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altime Multimedia (SIP/RTP/voip etc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Quality of Service, SLA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Wireless and ad hoc and sensors etc etc etc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Was on the IAB for 4 year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NS, ICANN, Chararcter Sets, IPv6, etc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nternet Research Task Force’s E2E group for 20 year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I* components were not cause of success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080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IETF does not promote innovation, and practically never di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Projects met at Network Research Group meetings, which became IETF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Most the early researchers collaborated because of ARPA funding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elco downturn (predates .com collapse) made it wors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When NSF divested the net to private interest, the IETF had large influx of industry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Built IP and they will come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080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 true history of the internet would show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st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BBN did first TCP stack for unix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Berkeley ported and gave awa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IT, UCL and others did next 3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outer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IT C router -&gt; prote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tanford Campus router (==sun) -&gt; Cisco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-mail, web, almost all open sourc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Since 1992, what has IETF tried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080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t hasn’t done a lot - instea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o mess up IP switching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(morass of MPLS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o fail to do QoS/SLA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o fail to do network Managemen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(no-one uses snmp - all proprietary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Failed to deliver IPv6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(e.g. addresses for asia pacific and mobile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Failed to deliver multicast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(e.g. Iptv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What innovation has there been, then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080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community works around roadblock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P2P (skype) avoids NAT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WAP was pushed aside and imode/blackberry etc do it righ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Akamai/Inktomi do CDNs including multicasting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treaming media from web sites works fine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regulator has neither helped nor hindere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ight touch e.g. on broadband and on VOIP ok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Modulo why don’t we have fiber everywhere and better broadband wireless? Not IP specific though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-154080"/>
            <a:ext cx="863748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So is the innovative reputation underserved?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080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No - there’s some aspects that (were) no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quiring 2-3 open inter-working implementations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(since corrupted since they can be “non discrimatory license”) -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based on myth that open source community couldn’t deliver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(designed to protect incuumbents like Cisco from competition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BOF/Bar model worked very well til more recently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 have sat in bar with 3 engineers with wireless access to soruce tree for cisco, juniper and extreme, while they check a change to the standard would work on their real test rigs back in their lab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Can we reproduce the Innovative aspects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080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Yes, but only by stealth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t aint a democracy, and it needs fuel (funds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t needs a mix of ideas, developers and deployer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t needs radical social group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ippy geek/libertarian with a mission from god :-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echnocracy, use it or lose it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(wifi was debugged to allow IETF meetings to do work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Not sure what else this would apply too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Maybe try it on avian flu immunisation :-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Thank you</a:t>
            </a: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080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ny questions. … … …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please, no lawyers :-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8T10:14:09Z</dcterms:created>
  <dc:creator>has27</dc:creator>
  <dc:description/>
  <dc:language>en-US</dc:language>
  <cp:lastModifiedBy>Jon Crowcroft</cp:lastModifiedBy>
  <dcterms:modified xsi:type="dcterms:W3CDTF">2005-10-17T10:55:56Z</dcterms:modified>
  <cp:revision>48</cp:revision>
  <dc:subject/>
  <dc:title>PowerPoint Presentation</dc:title>
</cp:coreProperties>
</file>