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A90-9D1F-44A0-ACC6-28339A61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0F2-8337-4A5F-AC13-DEF0685F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26D-41B5-45C7-AAEF-32430CC9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D75-8E2A-4C21-9BEA-D3BD5B66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0B6-6461-4C40-BF5A-C7A44D4E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2C8-6A5E-4C61-90F5-D39E9C35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74C-4296-427D-AB8B-ED3928F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F79-E625-4D24-8167-9CA808E6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BE6-81AD-4D13-A6B4-A717EE7C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99E-08A3-437B-9E43-F5AE4970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884-BC7A-43CE-AC21-83401507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554-C4D2-42CB-A422-59823E60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10A9281F-E9E5-4B34-830F-FBC11A61A0B1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136000" y="0"/>
            <a:ext cx="865080" cy="512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Communications</a:t>
            </a:r>
            <a:br>
              <a:rPr sz="800"/>
            </a:b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Research </a:t>
            </a:r>
            <a:br>
              <a:rPr sz="800"/>
            </a:b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Network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7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5 The Communications Research Network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55640" y="512640"/>
            <a:ext cx="2952720" cy="1297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ommunications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Research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8360" y="3047760"/>
            <a:ext cx="7166160" cy="20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The Communications Research Networ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Review, 26/2/0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Jon Crowcrof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5877000"/>
            <a:ext cx="4495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1640" y="1520640"/>
            <a:ext cx="8280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A CMI* and Industry led initiative to: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242640" indent="-242640">
              <a:spcBef>
                <a:spcPts val="700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Create the definitive forum for research and study into the future of the telecommunications industry; taking into account, economic, legal, regulatory and social aspects in addition to technology.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242640" indent="-242640">
              <a:spcBef>
                <a:spcPts val="700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Become the focus of strategic thinking in communications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0" name=""/>
          <p:cNvSpPr/>
          <p:nvPr/>
        </p:nvSpPr>
        <p:spPr>
          <a:xfrm>
            <a:off x="383760" y="5408640"/>
            <a:ext cx="64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upported by a CRN led academic research program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with leading European and US Universi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880" y="634032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The Cambridge MIT Institu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F0B-4D2A-4635-9563-8A39E9F2BD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5400000">
            <a:off x="6877080" y="2205000"/>
            <a:ext cx="719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5508720" y="3500280"/>
            <a:ext cx="1008000" cy="719280"/>
          </a:xfrm>
          <a:prstGeom prst="rightArrow">
            <a:avLst>
              <a:gd name="adj1" fmla="val 50000"/>
              <a:gd name="adj2" fmla="val 35035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5508720" y="5013360"/>
            <a:ext cx="1008000" cy="719280"/>
          </a:xfrm>
          <a:prstGeom prst="rightArrow">
            <a:avLst>
              <a:gd name="adj1" fmla="val 50000"/>
              <a:gd name="adj2" fmla="val 35035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932200"/>
            <a:ext cx="1800000" cy="328608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2924280"/>
            <a:ext cx="4753080" cy="371772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1619280" y="2205000"/>
            <a:ext cx="719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1413000"/>
            <a:ext cx="7921800" cy="119520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1080"/>
            <a:ext cx="7667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RN – a major vehicle for Strategic thinking in Commun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0" name=""/>
          <p:cNvSpPr/>
          <p:nvPr/>
        </p:nvSpPr>
        <p:spPr>
          <a:xfrm>
            <a:off x="1233360" y="3249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search Programm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Long term, shared IPR for Found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49752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Suppo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Web si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Newsle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DTI worksh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90840" y="5481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Projects for specific organis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840" y="3249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Events &amp; Cours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Open to Members &amp; Non-Me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59200" y="1467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Non-Memb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Quota for events &amp;cour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5840" y="288936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Context for Innovation, Research and Network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3429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one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embership Fee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overnment G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46700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emb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Founders  Associ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ccess to IPR et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75560" y="1467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overnment Gran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28400" y="29973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sourc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82080" y="11080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Industry Participan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33360" y="5481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Working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roup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gular industry academic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365720"/>
            <a:ext cx="1728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Communications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oadma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gular flagship</a:t>
            </a:r>
            <a:br>
              <a:rPr sz="1200"/>
            </a:b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public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492-9399-48FA-8D50-2A39E0DBBB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orking Groups…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Are interface between research and industry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search mostly in University partner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Mainly PhD students so far plus collab with other projects in Uni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dustry/Governemnt/Academia Together, set agenda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Avoid Academic being too short term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Lets industry have say in long term and access output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Outputs are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quirements for research project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ports from research project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Modus Operandi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Not one size fits all, but mainly:-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F2F meetings every couple of month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Telecon every couple of week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Current active group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DO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Spectrum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ter-domain routing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Photonic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Current Projects (examp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put (e.g. via GENI to revised Internet Architecture 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Spectrum roadmap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BGP replacement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ternet Pricing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Explorations in Car and Care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50D-6D78-4935-A1D5-22DC849C5F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pectrum work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mbridge work o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obile Ad Hoc Routing (LGF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actical Ad Hoc Deployment (Taxi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Incentive routing and deployme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mbridge/MIT work o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pectrum Polic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Opportunistic Coding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1A5-87AB-4AF2-8EE4-C69377E913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domain Routing Work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LINX v. Tim Griffin &amp; Sid Chau, Kengo Nagasaki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asurement work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ta-routing relation algebra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Use for VPN, Overlay, Multipath, T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Liason with Gadi et al in Routese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007-6B03-4CD6-B240-08B8388B7F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Publ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1706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mark Guided Forwarding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 Meng How, Adam Greenhalgh, Julian Chesterfield, Jon Crowcrof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NP 2005: 169-178, Boston, USA, Nov 2005.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 Spectrum:. Economic and Policy Research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iam Lehr, Jon Crowcroft, DySpan 2005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wards commercial mobile ad hoc network applications: a radio dispatch system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gan Huang, Wenjun Hu, Jon Crowcroft, Ian Wassell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Hoc 2005: 355-36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gilante: end-to-end containment of internet worm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el Costa, Jon Crowcroft, Miguel Castro, Antony I. T. Rowstron, Lidong Zhou, Lintao Zhang, Paul T. Barham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SP 2005: 133-147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Practical Approach for 4G Systems: Deployment of Overlay Network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blo Vidales, Glenford Mapp, Frank Stajano, Jon Crowcroft, Carlos Jesus Bernardos  TRIDENTCOM 2005: 172-181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2" marL="631800" indent="-114480">
              <a:lnSpc>
                <a:spcPct val="90000"/>
              </a:lnSpc>
              <a:spcBef>
                <a:spcPts val="3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ffffcc"/>
                </a:solidFill>
                <a:latin typeface="Arial"/>
              </a:rPr>
              <a:t>Internet Routing Policies and Round-Trip-Times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Han Zheng, Eng Keong Lua, Marcelo Pias, and Timothy G. Griffin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in the Proceedings of the Passive &amp; Active Measurement Workshop 2005 March 2005, Boston, MA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(to appear)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rterRoam: A Novel Mobile and Wireless Roaming Settlement Model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 Keong Lua, Alex Lin, Jon Crowcroft, Valerie Tan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ofIS 2004: 348-357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case for all-wireless, dual-radio virtual sinks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hieh-Yih Wan, Andrew T. Campbell, Jon Crowcroft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CM SynSys 2004: 267-268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hinking incentives for mobile ad hoc networks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lgan Huang, Jon Crowcroft, Ian Wassell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edings of the ACM SIGCOMM workshop on Practice and theory of incentives in networked systems, Portland, Oregon, USA , August 2004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26440" indent="-22644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mportance of Being Opportunistic: Practical Network Coding For Wireless Environmen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chin Katti, Dina Katabi, Wenjun Hu, Hariharan Rahul, and Muriel Medard, Allerton, 2005.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cal Network Packet Error-Rate due to Physical Layer Co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rew W. Moore, Laura B. James, Madeleine Glick, Adrian Wonfor, Richard Plumb, Ian H. White, Derek McAuley, and Richard V. Pent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EEE/OSA Journal of Lightwave Technology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me 23, Number 10, Oct, 2005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in Name System: An exercise in centralized compu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 Deegan, Jon Crowcroft and Andrew Warfield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M SIGCOMM CCR, Vol. 35, No. 5, Pages 5-13, October 2005.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29D-17F8-41C4-B176-C507E851FF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Publ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05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zing data layout for delay-line 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n Crowcroft and Tim Deegan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s Letters Vol. 41, No. 6, Pages 358-359, March 200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iting Diversity to Enhance Multimedia Streaming Over Cellular Link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ian Chesterfield, Rajiv Chakravorty, Ian Pratt, Suman Banerjee, Pablo Rodrigue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proceedings of IEEE INFOCOM, March 2005, Miami, FL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(t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zing data layout for delay-line 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n Crowcroft and Tim Deegan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s Letters Vol. 41, No. 6, Pages 358-359, March 200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48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ploiting Diversity to Enhance Multimedia Streaming Over Cellular Lin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lian Chesterfield, Rajiv Chakravorty, Ian Pratt, Suman Banerjee, Pablo Rodriguez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proceedings of IEEE INFOCOM, March 2005, Miami, FL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ear)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968040" indent="-69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rterRoam: A Novel Mobile and Wireless Roaming Settlement Model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 Keong Lua, Alex Lin, Jon Crowcroft, Valerie Tan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ofIS 2004: 348-357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968040" indent="-6984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case for all-wireless, dual-radio virtual sink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eh-Yih Wan, Andrew T. Campbell, Jon Crowcroft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M SynSys 2004: 267-268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hinking incentives for mobile ad hoc network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gan Huang, Jon Crowcroft, Ian Wassell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edings of the ACM SIGCOMM workshop on Practice and theory of incentives in networked systems, Portland, Oregon, USA , August 2004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LTACAST - Efficient File Reconciliation in Wireless Broadcast Syste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ian Chesterfield and Pablo Rodrigue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Proceedings of MOBISYS, June 2005, Seattle, WA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217-FFBB-4A80-9A96-346BF64DE4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Agenda Setting &amp; Influenc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.g. Dyspan pan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Sruti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Ubicomp Secur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WiOp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tc.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alking to Pitcom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ess relea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iason with other similar inst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MVCE, SFI, etc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6F6-B359-4177-87C4-3F82978591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6-02-19T09:26:5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38666097</vt:r8>
  </property>
  <property fmtid="{D5CDD505-2E9C-101B-9397-08002B2CF9AE}" pid="3" name="_AuthorEmail">
    <vt:lpwstr>ejmurphy@ntlworld.com</vt:lpwstr>
  </property>
  <property fmtid="{D5CDD505-2E9C-101B-9397-08002B2CF9AE}" pid="4" name="_AuthorEmailDisplayName">
    <vt:lpwstr>Eddie Murphy</vt:lpwstr>
  </property>
  <property fmtid="{D5CDD505-2E9C-101B-9397-08002B2CF9AE}" pid="5" name="_EmailSubject">
    <vt:lpwstr>CRN member recruitment</vt:lpwstr>
  </property>
</Properties>
</file>