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AFBF-637F-49EE-B2FF-15FCC3661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EA73-D302-409C-9D47-A782F595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02EB-BE1C-40FC-B064-DC65F566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7E80-5C8A-4931-A6D8-785B2594A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5B69-8ABC-4FB4-9149-0182CC961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956E-D22A-4877-982F-32445A08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7E87-C93F-40EF-83F5-3CCA69D5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94C3-72EE-49DA-A802-96287A46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7191-EA27-4342-A819-FE64EA9B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9ECC-1431-4235-B906-5F9DCFD4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2B9D-14D1-4F2D-975C-FB3555B7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7DE7-B7BE-4696-9F75-BA717B6F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65A1-41FA-439F-8C27-1D482574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0A4C-0AB4-448C-8747-B7E61D06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8795-5654-4670-A3A3-CE5B2180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5C54-6A56-46FA-8220-28C7DA2FD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3A3F-F7CD-4C24-9FC9-AC8D7CD8A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AAE7-E47A-4E07-A46E-0FA564F2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AE6C-B938-47B0-8233-7EF9AEA7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F284-C1C0-40AA-AFCC-CE453E44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2A66-18C3-492D-922F-654D667F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7B2B-0F41-45D7-B4A7-CB02FA6C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F990-E261-4032-8DF7-5351FC62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BBF2-834B-4E21-88F6-81A70EB6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525D-D6B4-4024-B9FC-0B91EBF4618C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F838-F044-43C8-95E4-E049E57429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ACE3-BA08-46E5-876C-FAB2AE95D466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777C-176E-4F17-856B-52C3592ABB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(Nearly) MAC-less MANETs?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n’s proposal -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s when we got rid of x.25 layer 3 and 2 reliabilty and flow control when we found TCP over IP over X.25 was very, very ba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ame for TCP/IP over AT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ignore MPLS:-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also, amateur packet radio X.25 (phil karn’s KA9Q code) could disable tcp functions if ax25 layer did work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oblem of 2 different Timescale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(alt) TCP-less MAN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46C9-F4BE-432E-A969-2B09E27CC6F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FE81E2-E880-4749-9B4C-5BD1A402C879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Broadband question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teby, a hamlet about 15km outside Katrineholm, Sörm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ia, versus Tyfon versus SB Broadban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SL v. WiMAX v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 ideas … :-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flashearth.com/?lat=58.994309&amp;lon=16.404535&amp;z=14.7&amp;r=0&amp;src=gg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n.crowcroft@cl.cam.ac.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B4EC-3B07-496C-949D-03165445E36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32B6A9-D403-46C2-A511-A71BAF241327}" type="datetime1">
              <a:rPr lang="en-US"/>
              <a:t>07/29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01T00:00:00Z</dcterms:created>
  <dc:creator/>
  <dc:description/>
  <dc:language>en-US</dc:language>
  <cp:lastModifiedBy>jon crowcroft</cp:lastModifiedBy>
  <cp:lastPrinted>1904-01-01T00:00:00Z</cp:lastPrinted>
  <dcterms:modified xsi:type="dcterms:W3CDTF">2007-05-02T15:41:55Z</dcterms:modified>
  <cp:revision>14</cp:revision>
  <dc:subject/>
  <dc:title>General</dc:title>
</cp:coreProperties>
</file>