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4C91D-7A0E-4BE7-AFDA-7AE9FB3EF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CE69C-6548-4EE9-89CE-C96F92A37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3D3A3-8505-40F8-97F1-5247BF420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F8038-307A-41FB-8BD7-8282CC4BE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80BAE-F28D-433D-905B-48C825E54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FF262-151E-4F43-AB27-5019DF6E8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D074E-34D6-4295-94D7-F541C1A0B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61247-366A-41BC-845D-47422838A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AA780-5E98-4EB5-8710-6A405B026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510D4-5931-4D22-93E4-FFCED51F2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072AA-EB54-4E66-B50F-E888B584D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13BD5-5FB0-459F-9815-6A3C0FCDE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27F7D-3DE7-404A-BCC3-2ACA440D7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5A798-C0BA-4113-8A5B-1B59637C5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D25CA-4292-4B71-A555-4A0012722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96FAD-1263-4F2D-9524-A2CB671CE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BBE36-E517-4ADA-8B03-8D21D716C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9737C-D5F0-4479-AFFA-45C73AA45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D9DA8-95EB-4902-BE8D-FAA1EBE37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E3082-387C-47C4-8AA8-1C00C6CD9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961E8-4E34-4641-A1C0-79284359F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6451E-858B-4A16-9D0D-2A612831F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1D14B-3545-43E4-A1B9-2E1461597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30AB9-0941-4AD0-8A8F-9952D713F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B086-BFCA-4F3A-B139-2C1B4D838BF2}"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F620-28D2-48AF-B456-249DF7780760}"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052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Rethinking Incentives for Mobile Ad Hoc Networks</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2924280"/>
            <a:ext cx="6400800" cy="27144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a:t>
            </a:r>
            <a:endParaRPr b="0" lang="en-US" sz="24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 Huang, J Crowcroft &amp; I Wassell</a:t>
            </a:r>
            <a:endParaRPr b="0" lang="en-US" sz="28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boratory of Communication Engineering</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mp;</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uter Laboratory</a:t>
            </a:r>
            <a:endParaRPr b="0" lang="en-US" sz="20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versity of Cambridge</a:t>
            </a:r>
            <a:endParaRPr b="0" lang="en-US" sz="2400" spc="-1" strike="noStrike">
              <a:solidFill>
                <a:srgbClr val="ffffff"/>
              </a:solidFill>
              <a:latin typeface="Verdana"/>
            </a:endParaRPr>
          </a:p>
        </p:txBody>
      </p:sp>
      <p:pic>
        <p:nvPicPr>
          <p:cNvPr id="158" name="" descr=""/>
          <p:cNvPicPr/>
          <p:nvPr/>
        </p:nvPicPr>
        <p:blipFill>
          <a:blip r:embed="rId1"/>
          <a:stretch/>
        </p:blipFill>
        <p:spPr>
          <a:xfrm>
            <a:off x="6400800" y="6093000"/>
            <a:ext cx="274320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3" name="PlaceHolder 2"/>
          <p:cNvSpPr>
            <a:spLocks noGrp="1"/>
          </p:cNvSpPr>
          <p:nvPr>
            <p:ph/>
          </p:nvPr>
        </p:nvSpPr>
        <p:spPr>
          <a:xfrm>
            <a:off x="4427280" y="1844640"/>
            <a:ext cx="4537080" cy="50133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in need for incentives vs. hardwired behaviour is to prevent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majority of users will only cheat when it is beneficial to them and easy to do</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laystation has fallen victim to large scale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 PS there are compelling reasons for consumers to pay for modification and criminal organisations to provide these ser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efit from modifying ad hoc devices is mainly battery power savings</a:t>
            </a:r>
            <a:endParaRPr b="0" lang="en-US" sz="2000" spc="-1" strike="noStrike">
              <a:solidFill>
                <a:srgbClr val="ffffff"/>
              </a:solidFill>
              <a:latin typeface="Verdana"/>
            </a:endParaRPr>
          </a:p>
        </p:txBody>
      </p:sp>
      <p:pic>
        <p:nvPicPr>
          <p:cNvPr id="194"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6" name="PlaceHolder 2"/>
          <p:cNvSpPr>
            <a:spLocks noGrp="1"/>
          </p:cNvSpPr>
          <p:nvPr>
            <p:ph/>
          </p:nvPr>
        </p:nvSpPr>
        <p:spPr>
          <a:xfrm>
            <a:off x="4427280" y="1773360"/>
            <a:ext cx="4537080" cy="50846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nclear that users would go out of their way to modify devices vs. buying a spare battery</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ifferent devices for different applications will need unique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t would be an expensive and complex task to reverse engineer all these de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out a ready market, criminal organisations have no incentive to offer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difying ad hoc devices is not sustainable. The less nodes cooperate the worse the network performance</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97"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clusion</a:t>
            </a:r>
            <a:endParaRPr b="0" lang="en-US" sz="4000" spc="-1" strike="noStrike">
              <a:solidFill>
                <a:srgbClr val="ccecff"/>
              </a:solidFill>
              <a:latin typeface="Arial"/>
            </a:endParaRPr>
          </a:p>
        </p:txBody>
      </p:sp>
      <p:sp>
        <p:nvSpPr>
          <p:cNvPr id="199" name="PlaceHolder 2"/>
          <p:cNvSpPr>
            <a:spLocks noGrp="1"/>
          </p:cNvSpPr>
          <p:nvPr>
            <p:ph/>
          </p:nvPr>
        </p:nvSpPr>
        <p:spPr>
          <a:xfrm>
            <a:off x="4427280" y="112500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may be better left till ad hoc networks enter mainstream market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should be tailored to the needs of individual applications rather than generic solution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 is no perfect solution; it is more important at this time to allow ad hoc networks to grow and develop than to stifle it with overly complex solutions</a:t>
            </a:r>
            <a:endParaRPr b="0" lang="en-US" sz="2400" spc="-1" strike="noStrike">
              <a:solidFill>
                <a:srgbClr val="ffffff"/>
              </a:solidFill>
              <a:latin typeface="Verdana"/>
            </a:endParaRPr>
          </a:p>
        </p:txBody>
      </p:sp>
      <p:pic>
        <p:nvPicPr>
          <p:cNvPr id="200"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bile Ad Hoc Networks (MANETs)</a:t>
            </a:r>
            <a:endParaRPr b="0" lang="en-US" sz="4000" spc="-1" strike="noStrike">
              <a:solidFill>
                <a:srgbClr val="ccecff"/>
              </a:solidFill>
              <a:latin typeface="Arial"/>
            </a:endParaRPr>
          </a:p>
        </p:txBody>
      </p:sp>
      <p:sp>
        <p:nvSpPr>
          <p:cNvPr id="160" name="PlaceHolder 2"/>
          <p:cNvSpPr>
            <a:spLocks noGrp="1"/>
          </p:cNvSpPr>
          <p:nvPr>
            <p:ph/>
          </p:nvPr>
        </p:nvSpPr>
        <p:spPr>
          <a:xfrm>
            <a:off x="4427640" y="1673280"/>
            <a:ext cx="446544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st of a set of self-organized, decentralized, mobile hosts that roam at will and communicate directly with each other</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mobile host has to work as a router and cooperate with other hosts to find routes and relay message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battery power, bandwidth, and other resources are scarce, selfish users may not wish to forward packets for other users</a:t>
            </a:r>
            <a:endParaRPr b="0" lang="en-US" sz="2400" spc="-1" strike="noStrike">
              <a:solidFill>
                <a:srgbClr val="ffffff"/>
              </a:solidFill>
              <a:latin typeface="Verdana"/>
            </a:endParaRPr>
          </a:p>
        </p:txBody>
      </p:sp>
      <p:graphicFrame>
        <p:nvGraphicFramePr>
          <p:cNvPr id="161" name=""/>
          <p:cNvGraphicFramePr/>
          <p:nvPr/>
        </p:nvGraphicFramePr>
        <p:xfrm>
          <a:off x="395280" y="2276640"/>
          <a:ext cx="4033800" cy="2734920"/>
        </p:xfrm>
        <a:graphic>
          <a:graphicData uri="http://schemas.openxmlformats.org/presentationml/2006/ole">
            <p:oleObj r:id="rId1" spid="">
              <p:embed/>
              <p:pic>
                <p:nvPicPr>
                  <p:cNvPr id="162" name="" descr=""/>
                  <p:cNvPicPr/>
                  <p:nvPr/>
                </p:nvPicPr>
                <p:blipFill>
                  <a:blip r:embed="rId2"/>
                  <a:stretch/>
                </p:blipFill>
                <p:spPr>
                  <a:xfrm>
                    <a:off x="395280" y="2276640"/>
                    <a:ext cx="4033800" cy="27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0" y="0"/>
            <a:ext cx="4114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centives</a:t>
            </a:r>
            <a:endParaRPr b="0" lang="en-US" sz="4000" spc="-1" strike="noStrike">
              <a:solidFill>
                <a:srgbClr val="ccecff"/>
              </a:solidFill>
              <a:latin typeface="Arial"/>
            </a:endParaRPr>
          </a:p>
        </p:txBody>
      </p:sp>
      <p:sp>
        <p:nvSpPr>
          <p:cNvPr id="164" name="PlaceHolder 2"/>
          <p:cNvSpPr>
            <a:spLocks noGrp="1"/>
          </p:cNvSpPr>
          <p:nvPr>
            <p:ph/>
          </p:nvPr>
        </p:nvSpPr>
        <p:spPr>
          <a:xfrm>
            <a:off x="4427280" y="1052640"/>
            <a:ext cx="4537080" cy="5589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courage users to cooperate</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ken Based Incentive System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ust Management Systems</a:t>
            </a:r>
            <a:endParaRPr b="0" lang="en-US" sz="20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have inherent flaws that make them difficult and undesirable to implement in practic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me may backfire by offering an incentive to cheat the incentives system</a:t>
            </a:r>
            <a:endParaRPr b="0" lang="en-US" sz="2400" spc="-1" strike="noStrike">
              <a:solidFill>
                <a:srgbClr val="ffffff"/>
              </a:solidFill>
              <a:latin typeface="Verdana"/>
            </a:endParaRPr>
          </a:p>
        </p:txBody>
      </p:sp>
      <p:pic>
        <p:nvPicPr>
          <p:cNvPr id="165"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67"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 notional credit to pay off users for congestion costs; earn credit by forwarding for other use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mits amount of data that can be sent at any given time. Buffering only works if buffer is large enough and no delay constraints on packets. Hence somewhat inefficient for real time communication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rs on outskirts of network put at a disadvantage</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68"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70"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ion of hop number takes up resources. If done incorrectly results in dropped packets, wasted credit and wasted energy</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lance of token level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real money as credit provides more incentive to cheat and requires centralisation or tamper proof hardwar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 pay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dds complexity</a:t>
            </a:r>
            <a:endParaRPr b="0" lang="en-US" sz="2400" spc="-1" strike="noStrike">
              <a:solidFill>
                <a:srgbClr val="ffffff"/>
              </a:solidFill>
              <a:latin typeface="Verdana"/>
            </a:endParaRPr>
          </a:p>
        </p:txBody>
      </p:sp>
      <p:pic>
        <p:nvPicPr>
          <p:cNvPr id="171"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ust Management Systems</a:t>
            </a:r>
            <a:endParaRPr b="0" lang="en-US" sz="4000" spc="-1" strike="noStrike">
              <a:solidFill>
                <a:srgbClr val="ccecff"/>
              </a:solidFill>
              <a:latin typeface="Arial"/>
            </a:endParaRPr>
          </a:p>
        </p:txBody>
      </p:sp>
      <p:sp>
        <p:nvSpPr>
          <p:cNvPr id="173"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des within network exchange reputation inform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kes up resourc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lying on second hand information can lead to false accusations or cheating via collus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taining authentication and trust information about accusing node is very hard to achieve; may not be possible for dynamic short lived network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4"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nsparency vs. Choice</a:t>
            </a:r>
            <a:endParaRPr b="0" lang="en-US" sz="4000" spc="-1" strike="noStrike">
              <a:solidFill>
                <a:srgbClr val="ccecff"/>
              </a:solidFill>
              <a:latin typeface="Arial"/>
            </a:endParaRPr>
          </a:p>
        </p:txBody>
      </p:sp>
      <p:sp>
        <p:nvSpPr>
          <p:cNvPr id="176"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s seek to induce cooperati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 want users to choose to forward and keep devices 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ore choice there is, the more complex for user</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ven that incentives system makes forwarding mandatory there is little point of giving users a choice in the matter</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7"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re incentives really necessary?</a:t>
            </a:r>
            <a:endParaRPr b="0" lang="en-US" sz="4000" spc="-1" strike="noStrike">
              <a:solidFill>
                <a:srgbClr val="ccecff"/>
              </a:solidFill>
              <a:latin typeface="Arial"/>
            </a:endParaRPr>
          </a:p>
        </p:txBody>
      </p:sp>
      <p:sp>
        <p:nvSpPr>
          <p:cNvPr id="179"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ooperation is only an issue when resources are scarce</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hicken and egg</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require phased deployments and are unlikely to be used for generic applications in early stage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Vital that overly complex incentive systems do not cause early adopters to shun MANET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vs. P2P</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Decentralised allocation of identifiers and unforgeable tokens is generally an unsolved technical problem </a:t>
            </a:r>
            <a:endParaRPr b="0" lang="en-US" sz="2200" spc="-1" strike="noStrike">
              <a:solidFill>
                <a:srgbClr val="ffffff"/>
              </a:solidFill>
              <a:latin typeface="Verdana"/>
            </a:endParaRPr>
          </a:p>
        </p:txBody>
      </p:sp>
      <p:pic>
        <p:nvPicPr>
          <p:cNvPr id="180"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60"/>
            <a:ext cx="8229600" cy="84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 Phased Out Solution</a:t>
            </a:r>
            <a:endParaRPr b="0" lang="en-US" sz="4000" spc="-1" strike="noStrike">
              <a:solidFill>
                <a:srgbClr val="ccecff"/>
              </a:solidFill>
              <a:latin typeface="Arial"/>
            </a:endParaRPr>
          </a:p>
        </p:txBody>
      </p:sp>
      <p:sp>
        <p:nvSpPr>
          <p:cNvPr id="182" name="PlaceHolder 2"/>
          <p:cNvSpPr>
            <a:spLocks noGrp="1"/>
          </p:cNvSpPr>
          <p:nvPr>
            <p:ph/>
          </p:nvPr>
        </p:nvSpPr>
        <p:spPr>
          <a:xfrm>
            <a:off x="0" y="3644640"/>
            <a:ext cx="9144000" cy="32130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ioneers are enthusiastic users, more interested in exploring technology than benefiting from it</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ionaries see the potential in new technology and are willing to help to get a head start in reaping the benefit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agmatists want a complete solution that work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ervatives want products that are cheap and simple. They hop onto the bandwagon only when they have no choice</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t later points in the cycle do incentive systems make sense. At this point it is better understood how people use and abuse systems. Even then incentives can stem from common interest.</a:t>
            </a:r>
            <a:endParaRPr b="0" lang="en-US" sz="2000" spc="-1" strike="noStrike">
              <a:solidFill>
                <a:srgbClr val="ffffff"/>
              </a:solidFill>
              <a:latin typeface="Verdana"/>
            </a:endParaRPr>
          </a:p>
        </p:txBody>
      </p:sp>
      <p:grpSp>
        <p:nvGrpSpPr>
          <p:cNvPr id="183" name=""/>
          <p:cNvGrpSpPr/>
          <p:nvPr/>
        </p:nvGrpSpPr>
        <p:grpSpPr>
          <a:xfrm>
            <a:off x="971640" y="907920"/>
            <a:ext cx="7129440" cy="2737080"/>
            <a:chOff x="971640" y="907920"/>
            <a:chExt cx="7129440" cy="2737080"/>
          </a:xfrm>
        </p:grpSpPr>
        <p:sp>
          <p:nvSpPr>
            <p:cNvPr id="184" name=""/>
            <p:cNvSpPr/>
            <p:nvPr/>
          </p:nvSpPr>
          <p:spPr>
            <a:xfrm>
              <a:off x="971640" y="907920"/>
              <a:ext cx="7129440" cy="24498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015920" y="1927080"/>
              <a:ext cx="1320840" cy="430200"/>
            </a:xfrm>
            <a:custGeom>
              <a:avLst/>
              <a:gdLst>
                <a:gd name="textAreaLeft" fmla="*/ 0 w 1320840"/>
                <a:gd name="textAreaRight" fmla="*/ 1320840 w 1320840"/>
                <a:gd name="textAreaTop" fmla="*/ 0 h 430200"/>
                <a:gd name="textAreaBottom" fmla="*/ 430560 h 430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SimSun"/>
                </a:rPr>
                <a:t>       </a:t>
              </a:r>
              <a:r>
                <a:rPr b="0" lang="en-GB" sz="1600" spc="-1" strike="noStrike">
                  <a:solidFill>
                    <a:srgbClr val="0066cc"/>
                  </a:solidFill>
                  <a:latin typeface="Times New Roman"/>
                  <a:ea typeface="SimSun"/>
                </a:rPr>
                <a:t>Pioneers</a:t>
              </a:r>
              <a:endParaRPr b="0" lang="en-US" sz="1600" spc="-1" strike="noStrike">
                <a:solidFill>
                  <a:srgbClr val="ffffff"/>
                </a:solidFill>
                <a:latin typeface="Arial"/>
              </a:endParaRPr>
            </a:p>
          </p:txBody>
        </p:sp>
        <p:sp>
          <p:nvSpPr>
            <p:cNvPr id="186" name=""/>
            <p:cNvSpPr/>
            <p:nvPr/>
          </p:nvSpPr>
          <p:spPr>
            <a:xfrm>
              <a:off x="1951200" y="1677960"/>
              <a:ext cx="1715760" cy="906480"/>
            </a:xfrm>
            <a:custGeom>
              <a:avLst/>
              <a:gdLst>
                <a:gd name="textAreaLeft" fmla="*/ 0 w 1715760"/>
                <a:gd name="textAreaRight" fmla="*/ 1716120 w 1715760"/>
                <a:gd name="textAreaTop" fmla="*/ 0 h 906480"/>
                <a:gd name="textAreaBottom" fmla="*/ 906840 h 906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       </a:t>
              </a:r>
              <a:r>
                <a:rPr b="0" lang="en-GB" sz="1600" spc="-1" strike="noStrike">
                  <a:solidFill>
                    <a:srgbClr val="0066cc"/>
                  </a:solidFill>
                  <a:latin typeface="Times New Roman"/>
                  <a:ea typeface="SimSun"/>
                </a:rPr>
                <a:t>Visionaries</a:t>
              </a:r>
              <a:endParaRPr b="0" lang="en-US" sz="1600" spc="-1" strike="noStrike">
                <a:solidFill>
                  <a:srgbClr val="ffffff"/>
                </a:solidFill>
                <a:latin typeface="Arial"/>
              </a:endParaRPr>
            </a:p>
          </p:txBody>
        </p:sp>
        <p:sp>
          <p:nvSpPr>
            <p:cNvPr id="187" name=""/>
            <p:cNvSpPr/>
            <p:nvPr/>
          </p:nvSpPr>
          <p:spPr>
            <a:xfrm>
              <a:off x="3611520" y="1311120"/>
              <a:ext cx="2509920" cy="1608120"/>
            </a:xfrm>
            <a:custGeom>
              <a:avLst/>
              <a:gdLst>
                <a:gd name="textAreaLeft" fmla="*/ 0 w 2509920"/>
                <a:gd name="textAreaRight" fmla="*/ 2510280 w 2509920"/>
                <a:gd name="textAreaTop" fmla="*/ 0 h 1608120"/>
                <a:gd name="textAreaBottom" fmla="*/ 1608480 h 1608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Pragmatists</a:t>
              </a:r>
              <a:endParaRPr b="0" lang="en-US" sz="1600" spc="-1" strike="noStrike">
                <a:solidFill>
                  <a:srgbClr val="ffffff"/>
                </a:solidFill>
                <a:latin typeface="Arial"/>
              </a:endParaRPr>
            </a:p>
          </p:txBody>
        </p:sp>
        <p:sp>
          <p:nvSpPr>
            <p:cNvPr id="188" name=""/>
            <p:cNvSpPr/>
            <p:nvPr/>
          </p:nvSpPr>
          <p:spPr>
            <a:xfrm>
              <a:off x="5470560" y="1311120"/>
              <a:ext cx="2509920" cy="1605240"/>
            </a:xfrm>
            <a:custGeom>
              <a:avLst/>
              <a:gdLst>
                <a:gd name="textAreaLeft" fmla="*/ 0 w 2509920"/>
                <a:gd name="textAreaRight" fmla="*/ 2510280 w 2509920"/>
                <a:gd name="textAreaTop" fmla="*/ 0 h 1605240"/>
                <a:gd name="textAreaBottom" fmla="*/ 1605600 h 1605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Conservatives</a:t>
              </a:r>
              <a:endParaRPr b="0" lang="en-US" sz="1600" spc="-1" strike="noStrike">
                <a:solidFill>
                  <a:srgbClr val="ffffff"/>
                </a:solidFill>
                <a:latin typeface="Arial"/>
              </a:endParaRPr>
            </a:p>
          </p:txBody>
        </p:sp>
        <p:sp>
          <p:nvSpPr>
            <p:cNvPr id="189" name=""/>
            <p:cNvSpPr/>
            <p:nvPr/>
          </p:nvSpPr>
          <p:spPr>
            <a:xfrm>
              <a:off x="1403280" y="981000"/>
              <a:ext cx="180036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Early Market</a:t>
              </a:r>
              <a:endParaRPr b="0" lang="en-US" sz="1600" spc="-1" strike="noStrike">
                <a:solidFill>
                  <a:srgbClr val="ffffff"/>
                </a:solidFill>
                <a:latin typeface="Arial"/>
              </a:endParaRPr>
            </a:p>
          </p:txBody>
        </p:sp>
        <p:sp>
          <p:nvSpPr>
            <p:cNvPr id="190" name=""/>
            <p:cNvSpPr/>
            <p:nvPr/>
          </p:nvSpPr>
          <p:spPr>
            <a:xfrm>
              <a:off x="4356000" y="907920"/>
              <a:ext cx="237672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Mainstream Market</a:t>
              </a:r>
              <a:endParaRPr b="0" lang="en-US" sz="1600" spc="-1" strike="noStrike">
                <a:solidFill>
                  <a:srgbClr val="ffffff"/>
                </a:solidFill>
                <a:latin typeface="Arial"/>
              </a:endParaRPr>
            </a:p>
          </p:txBody>
        </p:sp>
        <p:sp>
          <p:nvSpPr>
            <p:cNvPr id="191" name=""/>
            <p:cNvSpPr/>
            <p:nvPr/>
          </p:nvSpPr>
          <p:spPr>
            <a:xfrm>
              <a:off x="2160720" y="3319560"/>
              <a:ext cx="475272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SimSun"/>
                </a:rPr>
                <a:t>Adoption Cycle for Mobile Ad Hoc Network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3:09:27Z</dcterms:created>
  <dc:creator>e l g a n</dc:creator>
  <dc:description/>
  <dc:language>en-US</dc:language>
  <cp:lastModifiedBy>e l g a n</cp:lastModifiedBy>
  <dcterms:modified xsi:type="dcterms:W3CDTF">2004-07-08T16:01:25Z</dcterms:modified>
  <cp:revision>63</cp:revision>
  <dc:subject/>
  <dc:title>Ultra Wideband Radio Technology: Potential &amp; Challenges Ahead</dc:title>
</cp:coreProperties>
</file>