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364C-7C05-448B-84BC-08E0A15F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5569-617B-4813-9C5C-C620F83D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3419-D613-4B50-BFCE-E9E67F3B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91E0-4425-4C8F-8445-A1A67694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03E2-C107-4748-A184-9FBDB496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B4B3-4831-4561-B2D5-4A5F91A1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B5EC-7370-4713-AA94-18B52FEF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2CA8-6E83-4588-A916-03EF59C6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A16B-9D47-40DF-BF09-D70BB280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8D2C-4F30-41E8-B047-8F061D14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8F04-04C7-4AC8-A081-8FB9D3AA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19AB-1B70-45E6-9565-D0CD0374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0F81-0291-4A4E-8C54-2BE4ACEAC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l.cam.ac.uk/~jac22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G Workshop Panel</a:t>
            </a:r>
            <a:br>
              <a:rPr sz="4400"/>
            </a:b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l.cam.ac.uk/~jac2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n.crowcroft@cl.cam.ac.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Generation Internet: Services, technical challenges;impact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sation &amp;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FIND/GENI programme is very very weak in wireless (and only so-so in photon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adical work in Europe is also leapfrogging 3G/4G (e.g. cognitive radio and software defined radio, cooperative mimo etc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’s a disconnect between these eff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uded by ease of past:-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dimensions of tension:- next 3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+Internet ea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cellular is just another access network, 2G and 3G convergence with IP is easy (so is IPTV since multicast is d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next generation wireless is no longer architecturally an access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its own architecture (well, will hav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ensions #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DoS is quite a bad problem in today’s wired internet, but is a minor problem in telephone n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ill be a critical problem, potentially disastrous, in 4G and Next Gen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terrorists jamming london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being blackmailed to pay money to get money out at cash point :-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tensions #2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sioning of multihomed mobile, users and assurance, when P2P, MANET, Mesh or similar cooperative wireless net is a VERY HARD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it isn’t optional - in future services, it is crucial (if we want to charge people for low latency games, VOD, music/skype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budget ceiling in data centers means content services must be P2P, not server ba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tensions #3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relationships are both horizontal and vertical. To date, ISPs only do horizontal (BGP) and CDNs do vert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dynamic bundling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ransparency and parsimonious regulatory contr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 needs to take a lead on doing the wireless, but needs to underpin architectural work that US will do in IP, not just fol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is a mess with massive costs and vulnerabi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1:24:31Z</dcterms:created>
  <dc:creator>jon crowcroft</dc:creator>
  <dc:description/>
  <dc:language>en-US</dc:language>
  <cp:lastModifiedBy>jon crowcroft</cp:lastModifiedBy>
  <dcterms:modified xsi:type="dcterms:W3CDTF">2007-04-17T11:41:29Z</dcterms:modified>
  <cp:revision>1</cp:revision>
  <dc:subject/>
  <dc:title>4G Workshop Panel http://www.cl.cam.ac.uk/~jac22 jon.crowcroft@cl.cam.ac.uk</dc:title>
</cp:coreProperties>
</file>