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9ED-8400-4603-9786-2EBC9469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282-5B08-469E-965C-53A71FDD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937-E4B7-439B-9810-C00E4FA9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AF7-7683-4602-BABE-10B3090C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7D70-56B3-4052-9F88-0CE502EF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AA6-789E-4451-97A0-10074C1B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BAC-87E2-4CFF-8B02-F6E4DDED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81A-7247-4B34-989F-5B36F81E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13A-CE49-41E1-9C3E-3F9349F5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E37-F6F5-4941-9587-B77DF7EB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53A-41B2-4E0B-9765-14DD00B2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3FF-980C-4A8D-B972-E4B31C52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00EC-040C-47B5-ADAC-C694CC069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G Workshop Panel</a:t>
            </a: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~jac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 Internet: Services, technical challenges;impac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sation &amp;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FIND/GENI programme is very very weak in wireless (and only so-so in photon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adical work in Europe is also leapfrogging 3G/4G (e.g. cognitive radio and software defined radio, cooperative mimo etc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disconnect between these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uded by ease of past:-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imensions of tension:- next 3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+Internet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ellular is just another access network, 2G and 3G convergence with IP is easy (so is IPTV since multicast is d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ext generation wireless is no longer architecturally an acc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ts own architecture (well, will hav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ensions #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oS is quite a bad problem in today’s wired internet, but is a minor problem in telephone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a critical problem, potentially disastrous, in 4G and Next Gen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terrorists jamming london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eing blackmailed to pay money to get money out at cash point :-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 of multihomed mobile, users and assurance, when P2P, MANET, Mesh or similar cooperative wireless net 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 isn’t optional - in future services, it is crucial (if we want to charge people for low latency games, VOD, music/skype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budget ceiling in data centers means content services must be P2P, not server 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3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relationships are both horizontal and vertical. To date, ISPs only do horizontal (BGP) and CDNs do ver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dynamic bundl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ransparency and parsimonious regulatory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needs to take a lead on doing the wireless, but needs to underpin architectural work that US will do in IP, not j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is a mess with massive costs and vulner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1:24:31Z</dcterms:created>
  <dc:creator>jon crowcroft</dc:creator>
  <dc:description/>
  <dc:language>en-US</dc:language>
  <cp:lastModifiedBy>jon crowcroft</cp:lastModifiedBy>
  <dcterms:modified xsi:type="dcterms:W3CDTF">2007-04-17T11:41:29Z</dcterms:modified>
  <cp:revision>1</cp:revision>
  <dc:subject/>
  <dc:title>4G Workshop Panel http://www.cl.cam.ac.uk/~jac22 jon.crowcroft@cl.cam.ac.uk</dc:title>
</cp:coreProperties>
</file>